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76A-8213-4440-AE37-97A9FC2C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58E-0BDA-4213-A0F4-19198A4AA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A0B-63C8-4D41-92B0-BC2F2FDB1C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090-8B43-4BAD-AF95-76088FDABA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8DC-2CBD-45C7-80FE-0A0D73BD2E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3B8D-44FD-44DF-AEB5-4147445152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F2AD-3F05-4DCF-8A65-16A08184C2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432-BD8C-4405-8AF4-041309C7B1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2B7-69E4-4948-82B3-B4A6E039A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875-8469-43E0-8747-6F31264D94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BAA0-78DB-4175-B052-EEE9578E05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89F6-9EBC-4D03-B392-1AF67C5C7A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DBEB-D435-4024-BCE9-03E04E62B2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250-42A7-446E-9CD7-3E6A84DCF8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3CF5-368A-4511-9E23-3F8BDFA54C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DDA-FF88-41C9-8E14-DE14EA9561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0B1C-A5DB-4C04-8C7F-7EDE6E38E2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40E-3AD4-4806-B23D-9001CC0172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4B98-9E4E-40B4-A022-AF3BB47EFE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5748-4841-4A2B-A6C1-32761627DB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D44-087E-4AA3-81FA-F87CE0A5B7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497-2225-4739-B2E1-48A194DB93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789-89C9-40EE-B931-4BB53537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25E-87F1-4E5D-9F9A-6013935C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56F-0583-4BB1-B392-DCB69393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710-7FEA-4E5F-A5FA-9D99CBD3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8DDE-75A4-4BAF-9523-F0E0F870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2B2-E5AD-416D-A873-7E697108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96D1-909A-4354-A364-B28841A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60DB-417C-4692-AF48-0CFF3DB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CD9-F80E-472E-A87E-85D576D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7D2B-FBDF-413D-A3CF-B8874CD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7121-7A38-4BBE-AF8C-098449C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6C2-617A-4142-ABCF-8FFDE9EE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50A-E7E3-465D-B609-4BCFD36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2FA3-4027-45D2-A012-220877E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A1D7-7EA7-4D29-802B-7796A6F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F8C7-28B3-4290-AFA9-32FEE128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CBE-968B-496E-8609-56FC61F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80F0-E249-431B-A0D8-76BEA745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E78D-24E5-477B-B729-D5D12D1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1715-D676-41AB-958E-B38E475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0E9C-B581-4E01-8C01-1BEC975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935C-9D20-44A7-B8A2-AA5F51CE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A23-FBC5-41E6-BBE6-B658D5C7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C7BE-7D0A-4C36-AD75-5C01DA51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F925-18FE-49EF-AF6F-E00D4CE0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F66A-AD8D-4FFE-8EEA-AED5000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D454-5787-4BFA-949D-DAF8CF6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A48B-BFCB-430B-A42B-3D15346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309E-F2B5-4465-A24B-49FCEDBF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1D55-9BF3-475F-9A3C-3D2BB712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AC5E-3CAD-4CB3-A428-1C454921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3583-7540-417C-A67D-3255B9D9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EF7E-8E99-433B-802C-FB88DBC6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5B3-4489-47F7-B420-41A4703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AB62-9475-4921-A90D-A915CEDB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A523-A8E6-4866-A1C2-EC7F6515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71AC-5F25-472D-B352-8E97027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8591-DB43-42F9-ABC1-BF81C34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F4F7-6C94-4B05-B952-B34CF1F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2A91-2434-416C-9B5E-28B405B0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53FE-6A3F-411F-B060-46C0D81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AAA5-64D3-48E5-BCEE-EC82D3EF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028F-A020-4D0E-8A1F-6F7781E7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C593-1229-420A-BF53-E7D6CE31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728-F261-47B6-BF5B-9608915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61EF-D657-4026-8B15-8D4367A8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BE8F-327D-4797-96FD-87347FF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4BE6-E694-4998-B82E-EDC25A7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3E74-4BB0-435C-977A-C7F34F1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E60A-DC18-4898-B488-ABDBCE5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5320-1D98-4847-B673-A3BC29BD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C30C-F6A7-41F0-AE72-904CCB1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8D65-1CE3-4B72-8F93-9E9392D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7CC5-BBAB-41D7-A4BA-32B9D4C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8D0E-5013-47CC-B356-CCE9FE34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483-15C6-4AD9-B669-802727D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BE1C-503C-497C-A0E5-4695CE50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030-3C31-4D17-9FBD-1D1D534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9E9-DD2C-49A5-85A6-20CB482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B41-FFB1-4790-83B2-DF1B8CA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C43-234C-4F67-8BDC-37601A5CE38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374-DB7E-4CA8-B96F-4332E4B6AF88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F8B-F01B-4045-B9D6-C2BA01A226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07A-ED9F-4910-8133-8FABA98627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1C8-2552-4B7E-8A8D-C09B5B070D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ednesday, December 2nd</a:t>
            </a:r>
            <a:endParaRPr b="0" lang="en-US" sz="40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Verify:</a:t>
            </a: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*today you need a calculator, your unit circle, and your trig identity sheet</a:t>
            </a:r>
            <a:endParaRPr b="1" lang="en-US" sz="18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7375e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2209680" y="1981080"/>
                <a:ext cx="48006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Ink 5"/>
          <p:cNvSpPr/>
          <p:nvPr/>
        </p:nvSpPr>
        <p:spPr>
          <a:xfrm>
            <a:off x="2214720" y="3616200"/>
            <a:ext cx="1063440" cy="420840"/>
          </a:xfrm>
          <a:custGeom>
            <a:avLst/>
            <a:gdLst/>
            <a:ahLst/>
            <a:rect l="l" t="t" r="r" b="b"/>
            <a:pathLst>
              <a:path w="2952" h="1167">
                <a:moveTo>
                  <a:pt x="6697" y="10443"/>
                </a:moveTo>
                <a:cubicBezTo>
                  <a:pt x="6742" y="10443"/>
                  <a:pt x="6755" y="10446"/>
                  <a:pt x="6772" y="10418"/>
                </a:cubicBezTo>
                <a:cubicBezTo>
                  <a:pt x="6718" y="10351"/>
                  <a:pt x="6721" y="10345"/>
                  <a:pt x="6648" y="10319"/>
                </a:cubicBezTo>
                <a:cubicBezTo>
                  <a:pt x="6531" y="10277"/>
                  <a:pt x="6499" y="10316"/>
                  <a:pt x="6400" y="10368"/>
                </a:cubicBezTo>
                <a:cubicBezTo>
                  <a:pt x="6338" y="10401"/>
                  <a:pt x="6266" y="10467"/>
                  <a:pt x="6226" y="10517"/>
                </a:cubicBezTo>
                <a:cubicBezTo>
                  <a:pt x="6184" y="10569"/>
                  <a:pt x="6162" y="10677"/>
                  <a:pt x="6152" y="10740"/>
                </a:cubicBezTo>
                <a:cubicBezTo>
                  <a:pt x="6135" y="10843"/>
                  <a:pt x="6177" y="10949"/>
                  <a:pt x="6226" y="11038"/>
                </a:cubicBezTo>
                <a:cubicBezTo>
                  <a:pt x="6250" y="11082"/>
                  <a:pt x="6329" y="11127"/>
                  <a:pt x="6375" y="11137"/>
                </a:cubicBezTo>
                <a:cubicBezTo>
                  <a:pt x="6432" y="11150"/>
                  <a:pt x="6512" y="11179"/>
                  <a:pt x="6573" y="11162"/>
                </a:cubicBezTo>
                <a:cubicBezTo>
                  <a:pt x="6625" y="11147"/>
                  <a:pt x="6733" y="11131"/>
                  <a:pt x="6772" y="11088"/>
                </a:cubicBezTo>
                <a:cubicBezTo>
                  <a:pt x="6772" y="11080"/>
                  <a:pt x="6772" y="11071"/>
                  <a:pt x="6772" y="11063"/>
                </a:cubicBezTo>
              </a:path>
              <a:path w="2952" h="1167">
                <a:moveTo>
                  <a:pt x="7293" y="10368"/>
                </a:moveTo>
                <a:cubicBezTo>
                  <a:pt x="7223" y="10341"/>
                  <a:pt x="7201" y="10386"/>
                  <a:pt x="7144" y="10443"/>
                </a:cubicBezTo>
                <a:cubicBezTo>
                  <a:pt x="7035" y="10551"/>
                  <a:pt x="7016" y="10532"/>
                  <a:pt x="6995" y="10716"/>
                </a:cubicBezTo>
                <a:cubicBezTo>
                  <a:pt x="6986" y="10791"/>
                  <a:pt x="6988" y="10948"/>
                  <a:pt x="7020" y="11013"/>
                </a:cubicBezTo>
                <a:cubicBezTo>
                  <a:pt x="7045" y="11063"/>
                  <a:pt x="7141" y="11167"/>
                  <a:pt x="7193" y="11187"/>
                </a:cubicBezTo>
                <a:cubicBezTo>
                  <a:pt x="7249" y="11209"/>
                  <a:pt x="7367" y="11193"/>
                  <a:pt x="7417" y="11162"/>
                </a:cubicBezTo>
                <a:cubicBezTo>
                  <a:pt x="7479" y="11123"/>
                  <a:pt x="7514" y="11084"/>
                  <a:pt x="7541" y="11013"/>
                </a:cubicBezTo>
                <a:cubicBezTo>
                  <a:pt x="7588" y="10891"/>
                  <a:pt x="7590" y="10797"/>
                  <a:pt x="7590" y="10666"/>
                </a:cubicBezTo>
                <a:cubicBezTo>
                  <a:pt x="7590" y="10588"/>
                  <a:pt x="7540" y="10526"/>
                  <a:pt x="7491" y="10468"/>
                </a:cubicBezTo>
                <a:cubicBezTo>
                  <a:pt x="7434" y="10400"/>
                  <a:pt x="7379" y="10356"/>
                  <a:pt x="7293" y="10344"/>
                </a:cubicBezTo>
                <a:cubicBezTo>
                  <a:pt x="7285" y="10344"/>
                  <a:pt x="7276" y="10344"/>
                  <a:pt x="7268" y="10344"/>
                </a:cubicBezTo>
              </a:path>
              <a:path w="2952" h="1167">
                <a:moveTo>
                  <a:pt x="7888" y="10046"/>
                </a:moveTo>
                <a:cubicBezTo>
                  <a:pt x="7918" y="10137"/>
                  <a:pt x="7913" y="10221"/>
                  <a:pt x="7913" y="10319"/>
                </a:cubicBezTo>
                <a:cubicBezTo>
                  <a:pt x="7913" y="10424"/>
                  <a:pt x="7927" y="10515"/>
                  <a:pt x="7938" y="10616"/>
                </a:cubicBezTo>
                <a:cubicBezTo>
                  <a:pt x="7949" y="10714"/>
                  <a:pt x="7958" y="10816"/>
                  <a:pt x="7962" y="10914"/>
                </a:cubicBezTo>
                <a:cubicBezTo>
                  <a:pt x="7966" y="11017"/>
                  <a:pt x="7934" y="11300"/>
                  <a:pt x="7987" y="11212"/>
                </a:cubicBezTo>
                <a:cubicBezTo>
                  <a:pt x="7987" y="11170"/>
                  <a:pt x="7987" y="11162"/>
                  <a:pt x="7987" y="11137"/>
                </a:cubicBezTo>
              </a:path>
              <a:path w="2952" h="1167">
                <a:moveTo>
                  <a:pt x="7665" y="10492"/>
                </a:moveTo>
                <a:cubicBezTo>
                  <a:pt x="7756" y="10492"/>
                  <a:pt x="7825" y="10472"/>
                  <a:pt x="7913" y="10468"/>
                </a:cubicBezTo>
                <a:cubicBezTo>
                  <a:pt x="8036" y="10462"/>
                  <a:pt x="8161" y="10468"/>
                  <a:pt x="8285" y="10468"/>
                </a:cubicBezTo>
              </a:path>
              <a:path w="2952" h="1167">
                <a:moveTo>
                  <a:pt x="8508" y="10319"/>
                </a:moveTo>
                <a:cubicBezTo>
                  <a:pt x="8573" y="10375"/>
                  <a:pt x="8601" y="10431"/>
                  <a:pt x="8632" y="10517"/>
                </a:cubicBezTo>
                <a:cubicBezTo>
                  <a:pt x="8664" y="10606"/>
                  <a:pt x="8720" y="10657"/>
                  <a:pt x="8756" y="10740"/>
                </a:cubicBezTo>
                <a:cubicBezTo>
                  <a:pt x="8791" y="10819"/>
                  <a:pt x="8840" y="10864"/>
                  <a:pt x="8880" y="10939"/>
                </a:cubicBezTo>
                <a:cubicBezTo>
                  <a:pt x="8911" y="10996"/>
                  <a:pt x="8931" y="11134"/>
                  <a:pt x="8954" y="11038"/>
                </a:cubicBezTo>
              </a:path>
              <a:path w="2952" h="1167">
                <a:moveTo>
                  <a:pt x="9103" y="10294"/>
                </a:moveTo>
                <a:cubicBezTo>
                  <a:pt x="9095" y="10286"/>
                  <a:pt x="9087" y="10277"/>
                  <a:pt x="9079" y="10269"/>
                </a:cubicBezTo>
                <a:cubicBezTo>
                  <a:pt x="9030" y="10318"/>
                  <a:pt x="8986" y="10356"/>
                  <a:pt x="8954" y="10418"/>
                </a:cubicBezTo>
                <a:cubicBezTo>
                  <a:pt x="8913" y="10496"/>
                  <a:pt x="8828" y="10520"/>
                  <a:pt x="8781" y="10592"/>
                </a:cubicBezTo>
                <a:cubicBezTo>
                  <a:pt x="8713" y="10697"/>
                  <a:pt x="8675" y="10767"/>
                  <a:pt x="8582" y="10864"/>
                </a:cubicBezTo>
                <a:cubicBezTo>
                  <a:pt x="8523" y="10926"/>
                  <a:pt x="8496" y="10986"/>
                  <a:pt x="8434" y="11038"/>
                </a:cubicBezTo>
                <a:cubicBezTo>
                  <a:pt x="8394" y="11071"/>
                  <a:pt x="8359" y="11119"/>
                  <a:pt x="8334" y="11162"/>
                </a:cubicBezTo>
                <a:cubicBezTo>
                  <a:pt x="8279" y="11255"/>
                  <a:pt x="8317" y="11187"/>
                  <a:pt x="831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Ink 6"/>
          <p:cNvSpPr/>
          <p:nvPr/>
        </p:nvSpPr>
        <p:spPr>
          <a:xfrm>
            <a:off x="3589200" y="3276720"/>
            <a:ext cx="822600" cy="839520"/>
          </a:xfrm>
          <a:custGeom>
            <a:avLst/>
            <a:gdLst/>
            <a:ahLst/>
            <a:rect l="l" t="t" r="r" b="b"/>
            <a:pathLst>
              <a:path w="2284" h="2333">
                <a:moveTo>
                  <a:pt x="10492" y="9103"/>
                </a:moveTo>
                <a:cubicBezTo>
                  <a:pt x="10521" y="9180"/>
                  <a:pt x="10517" y="9243"/>
                  <a:pt x="10517" y="9327"/>
                </a:cubicBezTo>
                <a:cubicBezTo>
                  <a:pt x="10517" y="9411"/>
                  <a:pt x="10492" y="9437"/>
                  <a:pt x="10492" y="9525"/>
                </a:cubicBezTo>
                <a:cubicBezTo>
                  <a:pt x="10492" y="9599"/>
                  <a:pt x="10481" y="9664"/>
                  <a:pt x="10517" y="9723"/>
                </a:cubicBezTo>
              </a:path>
              <a:path w="2284" h="2333">
                <a:moveTo>
                  <a:pt x="9971" y="9971"/>
                </a:moveTo>
                <a:cubicBezTo>
                  <a:pt x="10221" y="9971"/>
                  <a:pt x="10471" y="9967"/>
                  <a:pt x="10716" y="9996"/>
                </a:cubicBezTo>
                <a:cubicBezTo>
                  <a:pt x="10843" y="10011"/>
                  <a:pt x="10965" y="9983"/>
                  <a:pt x="11088" y="9971"/>
                </a:cubicBezTo>
                <a:cubicBezTo>
                  <a:pt x="11163" y="9963"/>
                  <a:pt x="11192" y="9972"/>
                  <a:pt x="11261" y="9947"/>
                </a:cubicBezTo>
              </a:path>
              <a:path w="2284" h="2333">
                <a:moveTo>
                  <a:pt x="10443" y="10468"/>
                </a:moveTo>
                <a:cubicBezTo>
                  <a:pt x="10443" y="10392"/>
                  <a:pt x="10440" y="10356"/>
                  <a:pt x="10393" y="10294"/>
                </a:cubicBezTo>
                <a:cubicBezTo>
                  <a:pt x="10366" y="10259"/>
                  <a:pt x="10286" y="10246"/>
                  <a:pt x="10244" y="10244"/>
                </a:cubicBezTo>
                <a:cubicBezTo>
                  <a:pt x="10204" y="10242"/>
                  <a:pt x="10086" y="10262"/>
                  <a:pt x="10071" y="10319"/>
                </a:cubicBezTo>
                <a:cubicBezTo>
                  <a:pt x="10053" y="10386"/>
                  <a:pt x="10049" y="10451"/>
                  <a:pt x="10071" y="10517"/>
                </a:cubicBezTo>
                <a:cubicBezTo>
                  <a:pt x="10097" y="10595"/>
                  <a:pt x="10174" y="10628"/>
                  <a:pt x="10220" y="10691"/>
                </a:cubicBezTo>
                <a:cubicBezTo>
                  <a:pt x="10259" y="10745"/>
                  <a:pt x="10281" y="10809"/>
                  <a:pt x="10319" y="10864"/>
                </a:cubicBezTo>
                <a:cubicBezTo>
                  <a:pt x="10358" y="10920"/>
                  <a:pt x="10389" y="10915"/>
                  <a:pt x="10393" y="10988"/>
                </a:cubicBezTo>
                <a:cubicBezTo>
                  <a:pt x="10396" y="11047"/>
                  <a:pt x="10392" y="11051"/>
                  <a:pt x="10344" y="11063"/>
                </a:cubicBezTo>
              </a:path>
              <a:path w="2284" h="2333">
                <a:moveTo>
                  <a:pt x="10468" y="10393"/>
                </a:moveTo>
                <a:cubicBezTo>
                  <a:pt x="10491" y="10353"/>
                  <a:pt x="10512" y="10269"/>
                  <a:pt x="10443" y="10244"/>
                </a:cubicBezTo>
                <a:cubicBezTo>
                  <a:pt x="10378" y="10221"/>
                  <a:pt x="10335" y="10253"/>
                  <a:pt x="10294" y="10294"/>
                </a:cubicBezTo>
                <a:cubicBezTo>
                  <a:pt x="10230" y="10358"/>
                  <a:pt x="10208" y="10411"/>
                  <a:pt x="10170" y="10492"/>
                </a:cubicBezTo>
                <a:cubicBezTo>
                  <a:pt x="10130" y="10577"/>
                  <a:pt x="10145" y="10672"/>
                  <a:pt x="10145" y="10765"/>
                </a:cubicBezTo>
                <a:cubicBezTo>
                  <a:pt x="10145" y="10903"/>
                  <a:pt x="10163" y="10967"/>
                  <a:pt x="10220" y="11088"/>
                </a:cubicBezTo>
                <a:cubicBezTo>
                  <a:pt x="10250" y="11152"/>
                  <a:pt x="10284" y="11202"/>
                  <a:pt x="10344" y="11237"/>
                </a:cubicBezTo>
                <a:cubicBezTo>
                  <a:pt x="10399" y="11269"/>
                  <a:pt x="10480" y="11283"/>
                  <a:pt x="10542" y="11286"/>
                </a:cubicBezTo>
                <a:cubicBezTo>
                  <a:pt x="10606" y="11290"/>
                  <a:pt x="10651" y="11271"/>
                  <a:pt x="10666" y="11212"/>
                </a:cubicBezTo>
              </a:path>
              <a:path w="2284" h="2333">
                <a:moveTo>
                  <a:pt x="10864" y="10492"/>
                </a:moveTo>
                <a:cubicBezTo>
                  <a:pt x="10817" y="10499"/>
                  <a:pt x="10751" y="10527"/>
                  <a:pt x="10716" y="10567"/>
                </a:cubicBezTo>
                <a:cubicBezTo>
                  <a:pt x="10667" y="10624"/>
                  <a:pt x="10628" y="10769"/>
                  <a:pt x="10616" y="10840"/>
                </a:cubicBezTo>
                <a:cubicBezTo>
                  <a:pt x="10602" y="10925"/>
                  <a:pt x="10589" y="11007"/>
                  <a:pt x="10616" y="11088"/>
                </a:cubicBezTo>
                <a:cubicBezTo>
                  <a:pt x="10649" y="11186"/>
                  <a:pt x="10667" y="11232"/>
                  <a:pt x="10790" y="11261"/>
                </a:cubicBezTo>
                <a:cubicBezTo>
                  <a:pt x="10840" y="11273"/>
                  <a:pt x="10929" y="11243"/>
                  <a:pt x="10964" y="11212"/>
                </a:cubicBezTo>
                <a:cubicBezTo>
                  <a:pt x="11059" y="11128"/>
                  <a:pt x="11074" y="10999"/>
                  <a:pt x="11112" y="10889"/>
                </a:cubicBezTo>
                <a:cubicBezTo>
                  <a:pt x="11143" y="10799"/>
                  <a:pt x="11131" y="10777"/>
                  <a:pt x="11088" y="10691"/>
                </a:cubicBezTo>
                <a:cubicBezTo>
                  <a:pt x="11039" y="10592"/>
                  <a:pt x="11030" y="10549"/>
                  <a:pt x="10939" y="10517"/>
                </a:cubicBezTo>
                <a:cubicBezTo>
                  <a:pt x="10859" y="10489"/>
                  <a:pt x="10844" y="10501"/>
                  <a:pt x="10765" y="10517"/>
                </a:cubicBezTo>
              </a:path>
              <a:path w="2284" h="2333">
                <a:moveTo>
                  <a:pt x="11311" y="10294"/>
                </a:moveTo>
                <a:cubicBezTo>
                  <a:pt x="11240" y="10304"/>
                  <a:pt x="11216" y="10315"/>
                  <a:pt x="11212" y="10393"/>
                </a:cubicBezTo>
                <a:cubicBezTo>
                  <a:pt x="11209" y="10457"/>
                  <a:pt x="11204" y="10564"/>
                  <a:pt x="11237" y="10616"/>
                </a:cubicBezTo>
                <a:cubicBezTo>
                  <a:pt x="11280" y="10684"/>
                  <a:pt x="11364" y="10724"/>
                  <a:pt x="11410" y="10790"/>
                </a:cubicBezTo>
                <a:cubicBezTo>
                  <a:pt x="11446" y="10842"/>
                  <a:pt x="11537" y="10908"/>
                  <a:pt x="11559" y="10964"/>
                </a:cubicBezTo>
                <a:cubicBezTo>
                  <a:pt x="11592" y="11045"/>
                  <a:pt x="11613" y="11155"/>
                  <a:pt x="11534" y="11212"/>
                </a:cubicBezTo>
                <a:cubicBezTo>
                  <a:pt x="11505" y="11233"/>
                  <a:pt x="11426" y="11253"/>
                  <a:pt x="11385" y="11237"/>
                </a:cubicBezTo>
                <a:cubicBezTo>
                  <a:pt x="11332" y="11216"/>
                  <a:pt x="11275" y="11194"/>
                  <a:pt x="11237" y="11137"/>
                </a:cubicBezTo>
                <a:cubicBezTo>
                  <a:pt x="11217" y="11097"/>
                  <a:pt x="11208" y="11091"/>
                  <a:pt x="11212" y="11063"/>
                </a:cubicBezTo>
              </a:path>
              <a:path w="2284" h="2333">
                <a:moveTo>
                  <a:pt x="11658" y="10443"/>
                </a:moveTo>
                <a:cubicBezTo>
                  <a:pt x="11730" y="10514"/>
                  <a:pt x="11763" y="10553"/>
                  <a:pt x="11807" y="10641"/>
                </a:cubicBezTo>
                <a:cubicBezTo>
                  <a:pt x="11850" y="10726"/>
                  <a:pt x="11883" y="10806"/>
                  <a:pt x="11931" y="10889"/>
                </a:cubicBezTo>
                <a:cubicBezTo>
                  <a:pt x="11969" y="10955"/>
                  <a:pt x="11992" y="11025"/>
                  <a:pt x="12030" y="11088"/>
                </a:cubicBezTo>
                <a:cubicBezTo>
                  <a:pt x="12039" y="11103"/>
                  <a:pt x="12101" y="11215"/>
                  <a:pt x="12129" y="11212"/>
                </a:cubicBezTo>
                <a:cubicBezTo>
                  <a:pt x="12152" y="11189"/>
                  <a:pt x="12160" y="11185"/>
                  <a:pt x="12154" y="11162"/>
                </a:cubicBezTo>
              </a:path>
              <a:path w="2284" h="2333">
                <a:moveTo>
                  <a:pt x="12254" y="10443"/>
                </a:moveTo>
                <a:cubicBezTo>
                  <a:pt x="12246" y="10500"/>
                  <a:pt x="12227" y="10588"/>
                  <a:pt x="12204" y="10641"/>
                </a:cubicBezTo>
                <a:cubicBezTo>
                  <a:pt x="12176" y="10705"/>
                  <a:pt x="12131" y="10770"/>
                  <a:pt x="12105" y="10840"/>
                </a:cubicBezTo>
                <a:cubicBezTo>
                  <a:pt x="12072" y="10928"/>
                  <a:pt x="12027" y="10984"/>
                  <a:pt x="11981" y="11063"/>
                </a:cubicBezTo>
                <a:cubicBezTo>
                  <a:pt x="11932" y="11148"/>
                  <a:pt x="11884" y="11208"/>
                  <a:pt x="11832" y="11286"/>
                </a:cubicBezTo>
                <a:cubicBezTo>
                  <a:pt x="11795" y="11341"/>
                  <a:pt x="11760" y="11392"/>
                  <a:pt x="11782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Ink 7"/>
          <p:cNvSpPr/>
          <p:nvPr/>
        </p:nvSpPr>
        <p:spPr>
          <a:xfrm>
            <a:off x="4705200" y="3143160"/>
            <a:ext cx="1393920" cy="857520"/>
          </a:xfrm>
          <a:custGeom>
            <a:avLst/>
            <a:gdLst/>
            <a:ahLst/>
            <a:rect l="l" t="t" r="r" b="b"/>
            <a:pathLst>
              <a:path w="3871" h="2382">
                <a:moveTo>
                  <a:pt x="13072" y="9723"/>
                </a:moveTo>
                <a:cubicBezTo>
                  <a:pt x="13158" y="9723"/>
                  <a:pt x="13247" y="9711"/>
                  <a:pt x="13320" y="9699"/>
                </a:cubicBezTo>
                <a:cubicBezTo>
                  <a:pt x="13394" y="9686"/>
                  <a:pt x="13452" y="9712"/>
                  <a:pt x="13519" y="9723"/>
                </a:cubicBezTo>
                <a:cubicBezTo>
                  <a:pt x="13568" y="9723"/>
                  <a:pt x="13585" y="9723"/>
                  <a:pt x="13618" y="9723"/>
                </a:cubicBezTo>
              </a:path>
              <a:path w="3871" h="2382">
                <a:moveTo>
                  <a:pt x="13221" y="9971"/>
                </a:moveTo>
                <a:cubicBezTo>
                  <a:pt x="13302" y="9971"/>
                  <a:pt x="13375" y="9960"/>
                  <a:pt x="13444" y="9947"/>
                </a:cubicBezTo>
                <a:cubicBezTo>
                  <a:pt x="13509" y="9934"/>
                  <a:pt x="13595" y="9971"/>
                  <a:pt x="13667" y="9971"/>
                </a:cubicBezTo>
                <a:cubicBezTo>
                  <a:pt x="13729" y="9971"/>
                  <a:pt x="13744" y="9980"/>
                  <a:pt x="13767" y="9947"/>
                </a:cubicBezTo>
              </a:path>
              <a:path w="3871" h="2382">
                <a:moveTo>
                  <a:pt x="15106" y="8731"/>
                </a:moveTo>
                <a:cubicBezTo>
                  <a:pt x="15156" y="8781"/>
                  <a:pt x="15176" y="8808"/>
                  <a:pt x="15180" y="8880"/>
                </a:cubicBezTo>
                <a:cubicBezTo>
                  <a:pt x="15189" y="9057"/>
                  <a:pt x="15178" y="9231"/>
                  <a:pt x="15205" y="9401"/>
                </a:cubicBezTo>
                <a:cubicBezTo>
                  <a:pt x="15216" y="9470"/>
                  <a:pt x="15230" y="9521"/>
                  <a:pt x="15230" y="9599"/>
                </a:cubicBezTo>
              </a:path>
              <a:path w="3871" h="2382">
                <a:moveTo>
                  <a:pt x="14635" y="9723"/>
                </a:moveTo>
                <a:cubicBezTo>
                  <a:pt x="14702" y="9757"/>
                  <a:pt x="14777" y="9748"/>
                  <a:pt x="14858" y="9748"/>
                </a:cubicBezTo>
                <a:cubicBezTo>
                  <a:pt x="14950" y="9748"/>
                  <a:pt x="15017" y="9770"/>
                  <a:pt x="15106" y="9773"/>
                </a:cubicBezTo>
                <a:cubicBezTo>
                  <a:pt x="15322" y="9781"/>
                  <a:pt x="15771" y="9857"/>
                  <a:pt x="15949" y="9748"/>
                </a:cubicBezTo>
              </a:path>
              <a:path w="3871" h="2382">
                <a:moveTo>
                  <a:pt x="14932" y="10244"/>
                </a:moveTo>
                <a:cubicBezTo>
                  <a:pt x="14956" y="10174"/>
                  <a:pt x="14980" y="10108"/>
                  <a:pt x="14932" y="10046"/>
                </a:cubicBezTo>
                <a:cubicBezTo>
                  <a:pt x="14877" y="9975"/>
                  <a:pt x="14840" y="9996"/>
                  <a:pt x="14759" y="10021"/>
                </a:cubicBezTo>
                <a:cubicBezTo>
                  <a:pt x="14727" y="10031"/>
                  <a:pt x="14620" y="10071"/>
                  <a:pt x="14610" y="10120"/>
                </a:cubicBezTo>
                <a:cubicBezTo>
                  <a:pt x="14585" y="10239"/>
                  <a:pt x="14652" y="10308"/>
                  <a:pt x="14709" y="10393"/>
                </a:cubicBezTo>
                <a:cubicBezTo>
                  <a:pt x="14755" y="10463"/>
                  <a:pt x="14800" y="10531"/>
                  <a:pt x="14858" y="10592"/>
                </a:cubicBezTo>
                <a:cubicBezTo>
                  <a:pt x="14913" y="10650"/>
                  <a:pt x="14952" y="10714"/>
                  <a:pt x="14982" y="10790"/>
                </a:cubicBezTo>
                <a:cubicBezTo>
                  <a:pt x="15012" y="10866"/>
                  <a:pt x="15016" y="10965"/>
                  <a:pt x="14982" y="11038"/>
                </a:cubicBezTo>
                <a:cubicBezTo>
                  <a:pt x="14957" y="11093"/>
                  <a:pt x="14858" y="11110"/>
                  <a:pt x="14808" y="11112"/>
                </a:cubicBezTo>
                <a:cubicBezTo>
                  <a:pt x="14708" y="11116"/>
                  <a:pt x="14644" y="11111"/>
                  <a:pt x="14560" y="11063"/>
                </a:cubicBezTo>
                <a:cubicBezTo>
                  <a:pt x="14474" y="11014"/>
                  <a:pt x="14446" y="10989"/>
                  <a:pt x="14436" y="10889"/>
                </a:cubicBezTo>
                <a:cubicBezTo>
                  <a:pt x="14436" y="10831"/>
                  <a:pt x="14436" y="10806"/>
                  <a:pt x="14436" y="10765"/>
                </a:cubicBezTo>
              </a:path>
              <a:path w="3871" h="2382">
                <a:moveTo>
                  <a:pt x="15255" y="10195"/>
                </a:moveTo>
                <a:cubicBezTo>
                  <a:pt x="15304" y="10256"/>
                  <a:pt x="15304" y="10291"/>
                  <a:pt x="15304" y="10368"/>
                </a:cubicBezTo>
                <a:cubicBezTo>
                  <a:pt x="15304" y="10481"/>
                  <a:pt x="15271" y="10559"/>
                  <a:pt x="15255" y="10666"/>
                </a:cubicBezTo>
                <a:cubicBezTo>
                  <a:pt x="15242" y="10751"/>
                  <a:pt x="15230" y="10826"/>
                  <a:pt x="15230" y="10914"/>
                </a:cubicBezTo>
                <a:cubicBezTo>
                  <a:pt x="15230" y="11058"/>
                  <a:pt x="15191" y="11161"/>
                  <a:pt x="15255" y="11088"/>
                </a:cubicBezTo>
              </a:path>
              <a:path w="3871" h="2382">
                <a:moveTo>
                  <a:pt x="15255" y="9947"/>
                </a:moveTo>
                <a:cubicBezTo>
                  <a:pt x="15271" y="9947"/>
                  <a:pt x="15288" y="9947"/>
                  <a:pt x="15304" y="9947"/>
                </a:cubicBezTo>
              </a:path>
              <a:path w="3871" h="2382">
                <a:moveTo>
                  <a:pt x="15553" y="10294"/>
                </a:moveTo>
                <a:cubicBezTo>
                  <a:pt x="15573" y="10389"/>
                  <a:pt x="15598" y="10473"/>
                  <a:pt x="15602" y="10567"/>
                </a:cubicBezTo>
                <a:cubicBezTo>
                  <a:pt x="15606" y="10664"/>
                  <a:pt x="15586" y="10747"/>
                  <a:pt x="15577" y="10840"/>
                </a:cubicBezTo>
                <a:cubicBezTo>
                  <a:pt x="15568" y="10936"/>
                  <a:pt x="15590" y="10982"/>
                  <a:pt x="15602" y="11063"/>
                </a:cubicBezTo>
                <a:cubicBezTo>
                  <a:pt x="15602" y="10935"/>
                  <a:pt x="15614" y="10815"/>
                  <a:pt x="15627" y="10691"/>
                </a:cubicBezTo>
                <a:cubicBezTo>
                  <a:pt x="15637" y="10594"/>
                  <a:pt x="15657" y="10531"/>
                  <a:pt x="15701" y="10443"/>
                </a:cubicBezTo>
                <a:cubicBezTo>
                  <a:pt x="15733" y="10378"/>
                  <a:pt x="15724" y="10346"/>
                  <a:pt x="15776" y="10294"/>
                </a:cubicBezTo>
                <a:cubicBezTo>
                  <a:pt x="15818" y="10252"/>
                  <a:pt x="15882" y="10259"/>
                  <a:pt x="15925" y="10294"/>
                </a:cubicBezTo>
                <a:cubicBezTo>
                  <a:pt x="15971" y="10332"/>
                  <a:pt x="16035" y="10445"/>
                  <a:pt x="16049" y="10492"/>
                </a:cubicBezTo>
                <a:cubicBezTo>
                  <a:pt x="16068" y="10555"/>
                  <a:pt x="16073" y="10623"/>
                  <a:pt x="16073" y="10691"/>
                </a:cubicBezTo>
                <a:cubicBezTo>
                  <a:pt x="16073" y="10760"/>
                  <a:pt x="16098" y="10816"/>
                  <a:pt x="16098" y="10889"/>
                </a:cubicBezTo>
                <a:cubicBezTo>
                  <a:pt x="16098" y="10961"/>
                  <a:pt x="16119" y="10998"/>
                  <a:pt x="16123" y="11063"/>
                </a:cubicBezTo>
                <a:cubicBezTo>
                  <a:pt x="16123" y="11079"/>
                  <a:pt x="16123" y="11096"/>
                  <a:pt x="16123" y="11112"/>
                </a:cubicBezTo>
              </a:path>
              <a:path w="3871" h="2382">
                <a:moveTo>
                  <a:pt x="16396" y="10170"/>
                </a:moveTo>
                <a:cubicBezTo>
                  <a:pt x="16459" y="10221"/>
                  <a:pt x="16474" y="10253"/>
                  <a:pt x="16520" y="10319"/>
                </a:cubicBezTo>
                <a:cubicBezTo>
                  <a:pt x="16576" y="10400"/>
                  <a:pt x="16604" y="10500"/>
                  <a:pt x="16644" y="10592"/>
                </a:cubicBezTo>
                <a:cubicBezTo>
                  <a:pt x="16686" y="10687"/>
                  <a:pt x="16741" y="10777"/>
                  <a:pt x="16793" y="10864"/>
                </a:cubicBezTo>
                <a:cubicBezTo>
                  <a:pt x="16824" y="10915"/>
                  <a:pt x="16850" y="10946"/>
                  <a:pt x="16892" y="10988"/>
                </a:cubicBezTo>
                <a:cubicBezTo>
                  <a:pt x="16922" y="11018"/>
                  <a:pt x="16933" y="11020"/>
                  <a:pt x="16942" y="10964"/>
                </a:cubicBezTo>
              </a:path>
              <a:path w="3871" h="2382">
                <a:moveTo>
                  <a:pt x="16942" y="10170"/>
                </a:moveTo>
                <a:cubicBezTo>
                  <a:pt x="16911" y="10231"/>
                  <a:pt x="16878" y="10287"/>
                  <a:pt x="16842" y="10344"/>
                </a:cubicBezTo>
                <a:cubicBezTo>
                  <a:pt x="16705" y="10558"/>
                  <a:pt x="16559" y="10761"/>
                  <a:pt x="16446" y="10988"/>
                </a:cubicBezTo>
                <a:cubicBezTo>
                  <a:pt x="16421" y="11038"/>
                  <a:pt x="16366" y="11073"/>
                  <a:pt x="16396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Ink 8"/>
          <p:cNvSpPr/>
          <p:nvPr/>
        </p:nvSpPr>
        <p:spPr>
          <a:xfrm>
            <a:off x="2554200" y="4187880"/>
            <a:ext cx="4249800" cy="687240"/>
          </a:xfrm>
          <a:custGeom>
            <a:avLst/>
            <a:gdLst/>
            <a:ahLst/>
            <a:rect l="l" t="t" r="r" b="b"/>
            <a:pathLst>
              <a:path w="11808" h="1911">
                <a:moveTo>
                  <a:pt x="7392" y="11931"/>
                </a:moveTo>
                <a:cubicBezTo>
                  <a:pt x="7429" y="11857"/>
                  <a:pt x="7441" y="11816"/>
                  <a:pt x="7441" y="11733"/>
                </a:cubicBezTo>
                <a:cubicBezTo>
                  <a:pt x="7379" y="11712"/>
                  <a:pt x="7270" y="11672"/>
                  <a:pt x="7218" y="11733"/>
                </a:cubicBezTo>
                <a:cubicBezTo>
                  <a:pt x="7146" y="11817"/>
                  <a:pt x="7104" y="11951"/>
                  <a:pt x="7094" y="12055"/>
                </a:cubicBezTo>
                <a:cubicBezTo>
                  <a:pt x="7083" y="12162"/>
                  <a:pt x="7140" y="12198"/>
                  <a:pt x="7193" y="12278"/>
                </a:cubicBezTo>
                <a:cubicBezTo>
                  <a:pt x="7233" y="12339"/>
                  <a:pt x="7288" y="12349"/>
                  <a:pt x="7367" y="12353"/>
                </a:cubicBezTo>
                <a:cubicBezTo>
                  <a:pt x="7421" y="12356"/>
                  <a:pt x="7438" y="12336"/>
                  <a:pt x="7491" y="12328"/>
                </a:cubicBezTo>
              </a:path>
              <a:path w="11808" h="1911">
                <a:moveTo>
                  <a:pt x="7913" y="11757"/>
                </a:moveTo>
                <a:cubicBezTo>
                  <a:pt x="7817" y="11679"/>
                  <a:pt x="7837" y="11744"/>
                  <a:pt x="7764" y="11807"/>
                </a:cubicBezTo>
                <a:cubicBezTo>
                  <a:pt x="7701" y="11861"/>
                  <a:pt x="7609" y="11938"/>
                  <a:pt x="7590" y="12030"/>
                </a:cubicBezTo>
                <a:cubicBezTo>
                  <a:pt x="7574" y="12106"/>
                  <a:pt x="7589" y="12174"/>
                  <a:pt x="7640" y="12229"/>
                </a:cubicBezTo>
                <a:cubicBezTo>
                  <a:pt x="7699" y="12292"/>
                  <a:pt x="7779" y="12323"/>
                  <a:pt x="7863" y="12328"/>
                </a:cubicBezTo>
                <a:cubicBezTo>
                  <a:pt x="7948" y="12333"/>
                  <a:pt x="7950" y="12317"/>
                  <a:pt x="8012" y="12278"/>
                </a:cubicBezTo>
                <a:cubicBezTo>
                  <a:pt x="8113" y="12215"/>
                  <a:pt x="8086" y="12150"/>
                  <a:pt x="8086" y="12030"/>
                </a:cubicBezTo>
                <a:cubicBezTo>
                  <a:pt x="8086" y="11970"/>
                  <a:pt x="8053" y="11926"/>
                  <a:pt x="8012" y="11881"/>
                </a:cubicBezTo>
                <a:cubicBezTo>
                  <a:pt x="7973" y="11838"/>
                  <a:pt x="7938" y="11811"/>
                  <a:pt x="7888" y="11782"/>
                </a:cubicBezTo>
              </a:path>
              <a:path w="11808" h="1911">
                <a:moveTo>
                  <a:pt x="8384" y="11633"/>
                </a:moveTo>
                <a:cubicBezTo>
                  <a:pt x="8283" y="11677"/>
                  <a:pt x="8318" y="11709"/>
                  <a:pt x="8334" y="11807"/>
                </a:cubicBezTo>
                <a:cubicBezTo>
                  <a:pt x="8343" y="11865"/>
                  <a:pt x="8361" y="11960"/>
                  <a:pt x="8409" y="12005"/>
                </a:cubicBezTo>
                <a:cubicBezTo>
                  <a:pt x="8451" y="12044"/>
                  <a:pt x="8516" y="12117"/>
                  <a:pt x="8533" y="12179"/>
                </a:cubicBezTo>
                <a:cubicBezTo>
                  <a:pt x="8544" y="12219"/>
                  <a:pt x="8546" y="12350"/>
                  <a:pt x="8508" y="12378"/>
                </a:cubicBezTo>
                <a:cubicBezTo>
                  <a:pt x="8426" y="12437"/>
                  <a:pt x="8328" y="12378"/>
                  <a:pt x="8260" y="12328"/>
                </a:cubicBezTo>
                <a:cubicBezTo>
                  <a:pt x="8179" y="12268"/>
                  <a:pt x="8173" y="12189"/>
                  <a:pt x="8210" y="12105"/>
                </a:cubicBezTo>
                <a:cubicBezTo>
                  <a:pt x="8218" y="12088"/>
                  <a:pt x="8227" y="12072"/>
                  <a:pt x="8235" y="12055"/>
                </a:cubicBezTo>
              </a:path>
              <a:path w="11808" h="1911">
                <a:moveTo>
                  <a:pt x="8607" y="11683"/>
                </a:moveTo>
                <a:cubicBezTo>
                  <a:pt x="8666" y="11742"/>
                  <a:pt x="8694" y="11783"/>
                  <a:pt x="8731" y="11857"/>
                </a:cubicBezTo>
                <a:cubicBezTo>
                  <a:pt x="8774" y="11943"/>
                  <a:pt x="8778" y="12015"/>
                  <a:pt x="8830" y="12105"/>
                </a:cubicBezTo>
                <a:cubicBezTo>
                  <a:pt x="8864" y="12164"/>
                  <a:pt x="8906" y="12207"/>
                  <a:pt x="8954" y="12254"/>
                </a:cubicBezTo>
                <a:cubicBezTo>
                  <a:pt x="8962" y="12262"/>
                  <a:pt x="8971" y="12270"/>
                  <a:pt x="8979" y="12278"/>
                </a:cubicBezTo>
              </a:path>
              <a:path w="11808" h="1911">
                <a:moveTo>
                  <a:pt x="9004" y="11757"/>
                </a:moveTo>
                <a:cubicBezTo>
                  <a:pt x="8946" y="11830"/>
                  <a:pt x="8932" y="11902"/>
                  <a:pt x="8880" y="11981"/>
                </a:cubicBezTo>
                <a:cubicBezTo>
                  <a:pt x="8835" y="12050"/>
                  <a:pt x="8752" y="12096"/>
                  <a:pt x="8731" y="12179"/>
                </a:cubicBezTo>
                <a:cubicBezTo>
                  <a:pt x="8716" y="12239"/>
                  <a:pt x="8727" y="12233"/>
                  <a:pt x="8682" y="12278"/>
                </a:cubicBezTo>
              </a:path>
              <a:path w="11808" h="1911">
                <a:moveTo>
                  <a:pt x="7243" y="12650"/>
                </a:moveTo>
                <a:cubicBezTo>
                  <a:pt x="7321" y="12650"/>
                  <a:pt x="7393" y="12645"/>
                  <a:pt x="7466" y="12626"/>
                </a:cubicBezTo>
                <a:cubicBezTo>
                  <a:pt x="7577" y="12597"/>
                  <a:pt x="7698" y="12586"/>
                  <a:pt x="7813" y="12576"/>
                </a:cubicBezTo>
                <a:cubicBezTo>
                  <a:pt x="7970" y="12563"/>
                  <a:pt x="8129" y="12538"/>
                  <a:pt x="8285" y="12526"/>
                </a:cubicBezTo>
                <a:cubicBezTo>
                  <a:pt x="8420" y="12516"/>
                  <a:pt x="8544" y="12502"/>
                  <a:pt x="8682" y="12502"/>
                </a:cubicBezTo>
                <a:cubicBezTo>
                  <a:pt x="8776" y="12502"/>
                  <a:pt x="8861" y="12482"/>
                  <a:pt x="8954" y="12477"/>
                </a:cubicBezTo>
                <a:cubicBezTo>
                  <a:pt x="9025" y="12473"/>
                  <a:pt x="9079" y="12452"/>
                  <a:pt x="9153" y="12452"/>
                </a:cubicBezTo>
              </a:path>
              <a:path w="11808" h="1911">
                <a:moveTo>
                  <a:pt x="7987" y="12898"/>
                </a:moveTo>
                <a:cubicBezTo>
                  <a:pt x="7942" y="12820"/>
                  <a:pt x="7944" y="12809"/>
                  <a:pt x="7888" y="12774"/>
                </a:cubicBezTo>
                <a:cubicBezTo>
                  <a:pt x="7829" y="12738"/>
                  <a:pt x="7756" y="12740"/>
                  <a:pt x="7689" y="12774"/>
                </a:cubicBezTo>
                <a:cubicBezTo>
                  <a:pt x="7640" y="12798"/>
                  <a:pt x="7617" y="12851"/>
                  <a:pt x="7615" y="12898"/>
                </a:cubicBezTo>
                <a:cubicBezTo>
                  <a:pt x="7610" y="13001"/>
                  <a:pt x="7695" y="13072"/>
                  <a:pt x="7764" y="13146"/>
                </a:cubicBezTo>
                <a:cubicBezTo>
                  <a:pt x="7812" y="13197"/>
                  <a:pt x="7881" y="13259"/>
                  <a:pt x="7913" y="13320"/>
                </a:cubicBezTo>
                <a:cubicBezTo>
                  <a:pt x="7951" y="13392"/>
                  <a:pt x="7920" y="13449"/>
                  <a:pt x="7838" y="13469"/>
                </a:cubicBezTo>
                <a:cubicBezTo>
                  <a:pt x="7773" y="13484"/>
                  <a:pt x="7684" y="13512"/>
                  <a:pt x="7615" y="13494"/>
                </a:cubicBezTo>
                <a:cubicBezTo>
                  <a:pt x="7536" y="13473"/>
                  <a:pt x="7459" y="13402"/>
                  <a:pt x="7441" y="13320"/>
                </a:cubicBezTo>
                <a:cubicBezTo>
                  <a:pt x="7421" y="13229"/>
                  <a:pt x="7427" y="13187"/>
                  <a:pt x="7466" y="13097"/>
                </a:cubicBezTo>
                <a:cubicBezTo>
                  <a:pt x="7474" y="13080"/>
                  <a:pt x="7483" y="13064"/>
                  <a:pt x="7491" y="13047"/>
                </a:cubicBezTo>
              </a:path>
              <a:path w="11808" h="1911">
                <a:moveTo>
                  <a:pt x="8235" y="12948"/>
                </a:moveTo>
                <a:cubicBezTo>
                  <a:pt x="8256" y="13023"/>
                  <a:pt x="8281" y="13095"/>
                  <a:pt x="8285" y="13171"/>
                </a:cubicBezTo>
                <a:cubicBezTo>
                  <a:pt x="8290" y="13259"/>
                  <a:pt x="8290" y="13310"/>
                  <a:pt x="8285" y="13395"/>
                </a:cubicBezTo>
                <a:cubicBezTo>
                  <a:pt x="8282" y="13444"/>
                  <a:pt x="8285" y="13494"/>
                  <a:pt x="8285" y="13543"/>
                </a:cubicBezTo>
              </a:path>
              <a:path w="11808" h="1911">
                <a:moveTo>
                  <a:pt x="8260" y="12750"/>
                </a:moveTo>
                <a:lnTo>
                  <a:pt x="8260" y="12750"/>
                </a:lnTo>
              </a:path>
              <a:path w="11808" h="1911">
                <a:moveTo>
                  <a:pt x="8582" y="12998"/>
                </a:moveTo>
                <a:cubicBezTo>
                  <a:pt x="8597" y="13051"/>
                  <a:pt x="8662" y="13190"/>
                  <a:pt x="8657" y="13246"/>
                </a:cubicBezTo>
                <a:cubicBezTo>
                  <a:pt x="8634" y="13313"/>
                  <a:pt x="8629" y="13331"/>
                  <a:pt x="8607" y="13370"/>
                </a:cubicBezTo>
                <a:cubicBezTo>
                  <a:pt x="8599" y="13313"/>
                  <a:pt x="8564" y="13259"/>
                  <a:pt x="8582" y="13196"/>
                </a:cubicBezTo>
                <a:cubicBezTo>
                  <a:pt x="8606" y="13109"/>
                  <a:pt x="8630" y="13007"/>
                  <a:pt x="8657" y="12923"/>
                </a:cubicBezTo>
                <a:cubicBezTo>
                  <a:pt x="8666" y="12894"/>
                  <a:pt x="8722" y="12809"/>
                  <a:pt x="8756" y="12799"/>
                </a:cubicBezTo>
                <a:cubicBezTo>
                  <a:pt x="8790" y="12789"/>
                  <a:pt x="8885" y="12823"/>
                  <a:pt x="8905" y="12849"/>
                </a:cubicBezTo>
                <a:cubicBezTo>
                  <a:pt x="8966" y="12927"/>
                  <a:pt x="8953" y="13036"/>
                  <a:pt x="8979" y="13122"/>
                </a:cubicBezTo>
                <a:cubicBezTo>
                  <a:pt x="9002" y="13199"/>
                  <a:pt x="9004" y="13263"/>
                  <a:pt x="9004" y="13345"/>
                </a:cubicBezTo>
                <a:cubicBezTo>
                  <a:pt x="9004" y="13423"/>
                  <a:pt x="9015" y="13412"/>
                  <a:pt x="9029" y="13469"/>
                </a:cubicBezTo>
              </a:path>
              <a:path w="11808" h="1911">
                <a:moveTo>
                  <a:pt x="9153" y="12874"/>
                </a:moveTo>
                <a:cubicBezTo>
                  <a:pt x="9221" y="12933"/>
                  <a:pt x="9266" y="12962"/>
                  <a:pt x="9302" y="13047"/>
                </a:cubicBezTo>
                <a:cubicBezTo>
                  <a:pt x="9350" y="13162"/>
                  <a:pt x="9394" y="13261"/>
                  <a:pt x="9451" y="13370"/>
                </a:cubicBezTo>
                <a:cubicBezTo>
                  <a:pt x="9474" y="13415"/>
                  <a:pt x="9490" y="13434"/>
                  <a:pt x="9525" y="13469"/>
                </a:cubicBezTo>
              </a:path>
              <a:path w="11808" h="1911">
                <a:moveTo>
                  <a:pt x="9525" y="12824"/>
                </a:moveTo>
                <a:cubicBezTo>
                  <a:pt x="9514" y="12915"/>
                  <a:pt x="9475" y="12927"/>
                  <a:pt x="9426" y="12998"/>
                </a:cubicBezTo>
                <a:cubicBezTo>
                  <a:pt x="9368" y="13083"/>
                  <a:pt x="9306" y="13209"/>
                  <a:pt x="9227" y="13271"/>
                </a:cubicBezTo>
                <a:cubicBezTo>
                  <a:pt x="9219" y="13271"/>
                  <a:pt x="9211" y="13271"/>
                  <a:pt x="9203" y="13271"/>
                </a:cubicBezTo>
              </a:path>
              <a:path w="11808" h="1911">
                <a:moveTo>
                  <a:pt x="10368" y="11733"/>
                </a:moveTo>
                <a:cubicBezTo>
                  <a:pt x="10436" y="11799"/>
                  <a:pt x="10463" y="11832"/>
                  <a:pt x="10468" y="11931"/>
                </a:cubicBezTo>
                <a:cubicBezTo>
                  <a:pt x="10472" y="11999"/>
                  <a:pt x="10443" y="12057"/>
                  <a:pt x="10443" y="12129"/>
                </a:cubicBezTo>
                <a:cubicBezTo>
                  <a:pt x="10443" y="12192"/>
                  <a:pt x="10463" y="12220"/>
                  <a:pt x="10468" y="12278"/>
                </a:cubicBezTo>
                <a:cubicBezTo>
                  <a:pt x="10468" y="12286"/>
                  <a:pt x="10468" y="12295"/>
                  <a:pt x="10468" y="12303"/>
                </a:cubicBezTo>
              </a:path>
              <a:path w="11808" h="1911">
                <a:moveTo>
                  <a:pt x="10071" y="12576"/>
                </a:moveTo>
                <a:cubicBezTo>
                  <a:pt x="10376" y="12576"/>
                  <a:pt x="10690" y="12594"/>
                  <a:pt x="10988" y="12551"/>
                </a:cubicBezTo>
                <a:cubicBezTo>
                  <a:pt x="11005" y="12551"/>
                  <a:pt x="11021" y="12551"/>
                  <a:pt x="11038" y="12551"/>
                </a:cubicBezTo>
              </a:path>
              <a:path w="11808" h="1911">
                <a:moveTo>
                  <a:pt x="10344" y="12998"/>
                </a:moveTo>
                <a:cubicBezTo>
                  <a:pt x="10344" y="12948"/>
                  <a:pt x="10344" y="12931"/>
                  <a:pt x="10344" y="12898"/>
                </a:cubicBezTo>
                <a:cubicBezTo>
                  <a:pt x="10272" y="12898"/>
                  <a:pt x="10184" y="12891"/>
                  <a:pt x="10145" y="12973"/>
                </a:cubicBezTo>
                <a:cubicBezTo>
                  <a:pt x="10120" y="13026"/>
                  <a:pt x="10120" y="13110"/>
                  <a:pt x="10120" y="13171"/>
                </a:cubicBezTo>
                <a:cubicBezTo>
                  <a:pt x="10120" y="13250"/>
                  <a:pt x="10132" y="13315"/>
                  <a:pt x="10195" y="13370"/>
                </a:cubicBezTo>
                <a:cubicBezTo>
                  <a:pt x="10238" y="13407"/>
                  <a:pt x="10290" y="13442"/>
                  <a:pt x="10344" y="13444"/>
                </a:cubicBezTo>
                <a:cubicBezTo>
                  <a:pt x="10435" y="13448"/>
                  <a:pt x="10486" y="13386"/>
                  <a:pt x="10567" y="13345"/>
                </a:cubicBezTo>
              </a:path>
              <a:path w="11808" h="1911">
                <a:moveTo>
                  <a:pt x="10790" y="12898"/>
                </a:moveTo>
                <a:cubicBezTo>
                  <a:pt x="10735" y="12906"/>
                  <a:pt x="10700" y="12921"/>
                  <a:pt x="10666" y="12973"/>
                </a:cubicBezTo>
                <a:cubicBezTo>
                  <a:pt x="10621" y="13042"/>
                  <a:pt x="10599" y="13122"/>
                  <a:pt x="10567" y="13196"/>
                </a:cubicBezTo>
                <a:cubicBezTo>
                  <a:pt x="10540" y="13259"/>
                  <a:pt x="10522" y="13314"/>
                  <a:pt x="10567" y="13370"/>
                </a:cubicBezTo>
                <a:cubicBezTo>
                  <a:pt x="10639" y="13459"/>
                  <a:pt x="10685" y="13434"/>
                  <a:pt x="10765" y="13419"/>
                </a:cubicBezTo>
                <a:cubicBezTo>
                  <a:pt x="10827" y="13407"/>
                  <a:pt x="10863" y="13391"/>
                  <a:pt x="10914" y="13345"/>
                </a:cubicBezTo>
                <a:cubicBezTo>
                  <a:pt x="10959" y="13304"/>
                  <a:pt x="10979" y="13228"/>
                  <a:pt x="10988" y="13171"/>
                </a:cubicBezTo>
                <a:cubicBezTo>
                  <a:pt x="10999" y="13100"/>
                  <a:pt x="10980" y="13032"/>
                  <a:pt x="10939" y="12973"/>
                </a:cubicBezTo>
                <a:cubicBezTo>
                  <a:pt x="10914" y="12937"/>
                  <a:pt x="10871" y="12905"/>
                  <a:pt x="10840" y="12874"/>
                </a:cubicBezTo>
              </a:path>
              <a:path w="11808" h="1911">
                <a:moveTo>
                  <a:pt x="11336" y="12799"/>
                </a:moveTo>
                <a:cubicBezTo>
                  <a:pt x="11290" y="12787"/>
                  <a:pt x="11183" y="12779"/>
                  <a:pt x="11187" y="12874"/>
                </a:cubicBezTo>
                <a:cubicBezTo>
                  <a:pt x="11192" y="12980"/>
                  <a:pt x="11239" y="13076"/>
                  <a:pt x="11286" y="13171"/>
                </a:cubicBezTo>
                <a:cubicBezTo>
                  <a:pt x="11305" y="13209"/>
                  <a:pt x="11394" y="13311"/>
                  <a:pt x="11336" y="13345"/>
                </a:cubicBezTo>
                <a:cubicBezTo>
                  <a:pt x="11290" y="13372"/>
                  <a:pt x="11178" y="13339"/>
                  <a:pt x="11137" y="13320"/>
                </a:cubicBezTo>
                <a:cubicBezTo>
                  <a:pt x="11092" y="13300"/>
                  <a:pt x="11071" y="13279"/>
                  <a:pt x="11038" y="13246"/>
                </a:cubicBezTo>
              </a:path>
              <a:path w="11808" h="1911">
                <a:moveTo>
                  <a:pt x="11410" y="12774"/>
                </a:moveTo>
                <a:cubicBezTo>
                  <a:pt x="11471" y="12820"/>
                  <a:pt x="11552" y="12878"/>
                  <a:pt x="11584" y="12948"/>
                </a:cubicBezTo>
                <a:cubicBezTo>
                  <a:pt x="11628" y="13044"/>
                  <a:pt x="11644" y="13095"/>
                  <a:pt x="11708" y="13171"/>
                </a:cubicBezTo>
                <a:cubicBezTo>
                  <a:pt x="11744" y="13213"/>
                  <a:pt x="11767" y="13255"/>
                  <a:pt x="11807" y="13295"/>
                </a:cubicBezTo>
                <a:cubicBezTo>
                  <a:pt x="11815" y="13303"/>
                  <a:pt x="11824" y="13312"/>
                  <a:pt x="11832" y="13320"/>
                </a:cubicBezTo>
              </a:path>
              <a:path w="11808" h="1911">
                <a:moveTo>
                  <a:pt x="11906" y="12898"/>
                </a:moveTo>
                <a:cubicBezTo>
                  <a:pt x="11826" y="12979"/>
                  <a:pt x="11754" y="13061"/>
                  <a:pt x="11683" y="13146"/>
                </a:cubicBezTo>
                <a:cubicBezTo>
                  <a:pt x="11623" y="13218"/>
                  <a:pt x="11595" y="13299"/>
                  <a:pt x="11509" y="13345"/>
                </a:cubicBezTo>
                <a:cubicBezTo>
                  <a:pt x="11501" y="13345"/>
                  <a:pt x="11493" y="13345"/>
                  <a:pt x="11485" y="13345"/>
                </a:cubicBezTo>
              </a:path>
              <a:path w="11808" h="1911">
                <a:moveTo>
                  <a:pt x="9674" y="12477"/>
                </a:moveTo>
                <a:cubicBezTo>
                  <a:pt x="9716" y="12519"/>
                  <a:pt x="9819" y="12525"/>
                  <a:pt x="9723" y="12502"/>
                </a:cubicBezTo>
              </a:path>
              <a:path w="11808" h="1911">
                <a:moveTo>
                  <a:pt x="7317" y="11807"/>
                </a:moveTo>
                <a:cubicBezTo>
                  <a:pt x="7400" y="11853"/>
                  <a:pt x="7473" y="11906"/>
                  <a:pt x="7565" y="11931"/>
                </a:cubicBezTo>
                <a:cubicBezTo>
                  <a:pt x="7710" y="11971"/>
                  <a:pt x="7873" y="11981"/>
                  <a:pt x="8012" y="12030"/>
                </a:cubicBezTo>
                <a:cubicBezTo>
                  <a:pt x="8155" y="12081"/>
                  <a:pt x="8287" y="12118"/>
                  <a:pt x="8434" y="12154"/>
                </a:cubicBezTo>
                <a:cubicBezTo>
                  <a:pt x="8548" y="12182"/>
                  <a:pt x="8666" y="12237"/>
                  <a:pt x="8781" y="12254"/>
                </a:cubicBezTo>
                <a:cubicBezTo>
                  <a:pt x="8884" y="12269"/>
                  <a:pt x="8950" y="12333"/>
                  <a:pt x="9054" y="12353"/>
                </a:cubicBezTo>
                <a:cubicBezTo>
                  <a:pt x="9118" y="12365"/>
                  <a:pt x="9196" y="12392"/>
                  <a:pt x="9252" y="12402"/>
                </a:cubicBezTo>
                <a:cubicBezTo>
                  <a:pt x="9269" y="12402"/>
                  <a:pt x="9285" y="12402"/>
                  <a:pt x="9302" y="12402"/>
                </a:cubicBezTo>
              </a:path>
              <a:path w="11808" h="1911">
                <a:moveTo>
                  <a:pt x="9947" y="12824"/>
                </a:moveTo>
                <a:cubicBezTo>
                  <a:pt x="9988" y="12866"/>
                  <a:pt x="10037" y="12910"/>
                  <a:pt x="10096" y="12923"/>
                </a:cubicBezTo>
                <a:cubicBezTo>
                  <a:pt x="10179" y="12942"/>
                  <a:pt x="10263" y="12950"/>
                  <a:pt x="10344" y="12973"/>
                </a:cubicBezTo>
                <a:cubicBezTo>
                  <a:pt x="10471" y="13008"/>
                  <a:pt x="10612" y="13051"/>
                  <a:pt x="10740" y="13072"/>
                </a:cubicBezTo>
                <a:cubicBezTo>
                  <a:pt x="10823" y="13085"/>
                  <a:pt x="10908" y="13109"/>
                  <a:pt x="10988" y="13122"/>
                </a:cubicBezTo>
                <a:cubicBezTo>
                  <a:pt x="11061" y="13134"/>
                  <a:pt x="11149" y="13134"/>
                  <a:pt x="11212" y="13146"/>
                </a:cubicBezTo>
                <a:cubicBezTo>
                  <a:pt x="11286" y="13160"/>
                  <a:pt x="11343" y="13138"/>
                  <a:pt x="11410" y="13171"/>
                </a:cubicBezTo>
                <a:cubicBezTo>
                  <a:pt x="11454" y="13193"/>
                  <a:pt x="11466" y="13206"/>
                  <a:pt x="11485" y="13171"/>
                </a:cubicBezTo>
              </a:path>
              <a:path w="11808" h="1911">
                <a:moveTo>
                  <a:pt x="12452" y="11658"/>
                </a:moveTo>
                <a:cubicBezTo>
                  <a:pt x="12476" y="11698"/>
                  <a:pt x="12506" y="11738"/>
                  <a:pt x="12526" y="11782"/>
                </a:cubicBezTo>
                <a:cubicBezTo>
                  <a:pt x="12566" y="11867"/>
                  <a:pt x="12551" y="11964"/>
                  <a:pt x="12551" y="12055"/>
                </a:cubicBezTo>
                <a:cubicBezTo>
                  <a:pt x="12551" y="12117"/>
                  <a:pt x="12576" y="12137"/>
                  <a:pt x="12576" y="12204"/>
                </a:cubicBezTo>
              </a:path>
              <a:path w="11808" h="1911">
                <a:moveTo>
                  <a:pt x="11956" y="12378"/>
                </a:moveTo>
                <a:cubicBezTo>
                  <a:pt x="12005" y="12402"/>
                  <a:pt x="12092" y="12419"/>
                  <a:pt x="12154" y="12402"/>
                </a:cubicBezTo>
                <a:cubicBezTo>
                  <a:pt x="12225" y="12383"/>
                  <a:pt x="12277" y="12378"/>
                  <a:pt x="12353" y="12378"/>
                </a:cubicBezTo>
                <a:cubicBezTo>
                  <a:pt x="12445" y="12378"/>
                  <a:pt x="12531" y="12402"/>
                  <a:pt x="12626" y="12402"/>
                </a:cubicBezTo>
                <a:cubicBezTo>
                  <a:pt x="12719" y="12402"/>
                  <a:pt x="12803" y="12378"/>
                  <a:pt x="12898" y="12378"/>
                </a:cubicBezTo>
                <a:cubicBezTo>
                  <a:pt x="12981" y="12378"/>
                  <a:pt x="13058" y="12353"/>
                  <a:pt x="13146" y="12353"/>
                </a:cubicBezTo>
                <a:cubicBezTo>
                  <a:pt x="13154" y="12353"/>
                  <a:pt x="13163" y="12353"/>
                  <a:pt x="13171" y="12353"/>
                </a:cubicBezTo>
              </a:path>
              <a:path w="11808" h="1911">
                <a:moveTo>
                  <a:pt x="12353" y="12576"/>
                </a:moveTo>
                <a:cubicBezTo>
                  <a:pt x="12301" y="12546"/>
                  <a:pt x="12245" y="12501"/>
                  <a:pt x="12179" y="12526"/>
                </a:cubicBezTo>
                <a:cubicBezTo>
                  <a:pt x="12091" y="12560"/>
                  <a:pt x="12083" y="12640"/>
                  <a:pt x="12129" y="12725"/>
                </a:cubicBezTo>
                <a:cubicBezTo>
                  <a:pt x="12171" y="12802"/>
                  <a:pt x="12274" y="12878"/>
                  <a:pt x="12328" y="12948"/>
                </a:cubicBezTo>
                <a:cubicBezTo>
                  <a:pt x="12363" y="12993"/>
                  <a:pt x="12375" y="13062"/>
                  <a:pt x="12378" y="13122"/>
                </a:cubicBezTo>
                <a:cubicBezTo>
                  <a:pt x="12381" y="13167"/>
                  <a:pt x="12339" y="13250"/>
                  <a:pt x="12278" y="13246"/>
                </a:cubicBezTo>
                <a:cubicBezTo>
                  <a:pt x="12203" y="13242"/>
                  <a:pt x="12165" y="13171"/>
                  <a:pt x="12129" y="13122"/>
                </a:cubicBezTo>
                <a:cubicBezTo>
                  <a:pt x="12095" y="13076"/>
                  <a:pt x="12085" y="13007"/>
                  <a:pt x="12080" y="12948"/>
                </a:cubicBezTo>
                <a:cubicBezTo>
                  <a:pt x="12080" y="12940"/>
                  <a:pt x="12080" y="12931"/>
                  <a:pt x="12080" y="12923"/>
                </a:cubicBezTo>
              </a:path>
              <a:path w="11808" h="1911">
                <a:moveTo>
                  <a:pt x="12675" y="12750"/>
                </a:moveTo>
                <a:cubicBezTo>
                  <a:pt x="12682" y="12849"/>
                  <a:pt x="12694" y="12929"/>
                  <a:pt x="12725" y="13022"/>
                </a:cubicBezTo>
                <a:cubicBezTo>
                  <a:pt x="12752" y="13104"/>
                  <a:pt x="12724" y="13195"/>
                  <a:pt x="12750" y="13271"/>
                </a:cubicBezTo>
                <a:cubicBezTo>
                  <a:pt x="12758" y="13279"/>
                  <a:pt x="12766" y="13287"/>
                  <a:pt x="12774" y="13295"/>
                </a:cubicBezTo>
              </a:path>
              <a:path w="11808" h="1911">
                <a:moveTo>
                  <a:pt x="12700" y="12526"/>
                </a:moveTo>
                <a:lnTo>
                  <a:pt x="12700" y="12526"/>
                </a:lnTo>
              </a:path>
              <a:path w="11808" h="1911">
                <a:moveTo>
                  <a:pt x="12898" y="12750"/>
                </a:moveTo>
                <a:cubicBezTo>
                  <a:pt x="12930" y="12833"/>
                  <a:pt x="12958" y="12932"/>
                  <a:pt x="12973" y="13022"/>
                </a:cubicBezTo>
                <a:cubicBezTo>
                  <a:pt x="12985" y="13094"/>
                  <a:pt x="13010" y="13134"/>
                  <a:pt x="12973" y="13196"/>
                </a:cubicBezTo>
                <a:cubicBezTo>
                  <a:pt x="12963" y="13110"/>
                  <a:pt x="12948" y="13037"/>
                  <a:pt x="12948" y="12948"/>
                </a:cubicBezTo>
                <a:cubicBezTo>
                  <a:pt x="12948" y="12866"/>
                  <a:pt x="12972" y="12753"/>
                  <a:pt x="12998" y="12675"/>
                </a:cubicBezTo>
                <a:cubicBezTo>
                  <a:pt x="13028" y="12585"/>
                  <a:pt x="13089" y="12550"/>
                  <a:pt x="13171" y="12601"/>
                </a:cubicBezTo>
                <a:cubicBezTo>
                  <a:pt x="13202" y="12620"/>
                  <a:pt x="13250" y="12692"/>
                  <a:pt x="13271" y="12725"/>
                </a:cubicBezTo>
                <a:cubicBezTo>
                  <a:pt x="13306" y="12780"/>
                  <a:pt x="13318" y="12883"/>
                  <a:pt x="13320" y="12948"/>
                </a:cubicBezTo>
                <a:cubicBezTo>
                  <a:pt x="13323" y="13042"/>
                  <a:pt x="13340" y="13114"/>
                  <a:pt x="13345" y="13196"/>
                </a:cubicBezTo>
                <a:cubicBezTo>
                  <a:pt x="13348" y="13249"/>
                  <a:pt x="13328" y="13268"/>
                  <a:pt x="13320" y="13320"/>
                </a:cubicBezTo>
              </a:path>
              <a:path w="11808" h="1911">
                <a:moveTo>
                  <a:pt x="13915" y="11956"/>
                </a:moveTo>
                <a:cubicBezTo>
                  <a:pt x="13907" y="11939"/>
                  <a:pt x="13899" y="11923"/>
                  <a:pt x="13891" y="11906"/>
                </a:cubicBezTo>
                <a:cubicBezTo>
                  <a:pt x="13853" y="11928"/>
                  <a:pt x="13788" y="11961"/>
                  <a:pt x="13767" y="12005"/>
                </a:cubicBezTo>
                <a:cubicBezTo>
                  <a:pt x="13710" y="12122"/>
                  <a:pt x="13669" y="12229"/>
                  <a:pt x="13717" y="12353"/>
                </a:cubicBezTo>
                <a:cubicBezTo>
                  <a:pt x="13746" y="12427"/>
                  <a:pt x="13793" y="12491"/>
                  <a:pt x="13866" y="12526"/>
                </a:cubicBezTo>
                <a:cubicBezTo>
                  <a:pt x="13953" y="12567"/>
                  <a:pt x="14003" y="12548"/>
                  <a:pt x="14089" y="12526"/>
                </a:cubicBezTo>
              </a:path>
              <a:path w="11808" h="1911">
                <a:moveTo>
                  <a:pt x="14461" y="11906"/>
                </a:moveTo>
                <a:cubicBezTo>
                  <a:pt x="14445" y="11881"/>
                  <a:pt x="14428" y="11857"/>
                  <a:pt x="14412" y="11832"/>
                </a:cubicBezTo>
                <a:cubicBezTo>
                  <a:pt x="14382" y="11853"/>
                  <a:pt x="14297" y="11913"/>
                  <a:pt x="14288" y="11956"/>
                </a:cubicBezTo>
                <a:cubicBezTo>
                  <a:pt x="14264" y="12072"/>
                  <a:pt x="14365" y="12139"/>
                  <a:pt x="14412" y="12229"/>
                </a:cubicBezTo>
                <a:cubicBezTo>
                  <a:pt x="14450" y="12304"/>
                  <a:pt x="14517" y="12398"/>
                  <a:pt x="14536" y="12477"/>
                </a:cubicBezTo>
                <a:cubicBezTo>
                  <a:pt x="14544" y="12509"/>
                  <a:pt x="14585" y="12617"/>
                  <a:pt x="14560" y="12650"/>
                </a:cubicBezTo>
                <a:cubicBezTo>
                  <a:pt x="14514" y="12710"/>
                  <a:pt x="14406" y="12652"/>
                  <a:pt x="14362" y="12626"/>
                </a:cubicBezTo>
                <a:cubicBezTo>
                  <a:pt x="14324" y="12603"/>
                  <a:pt x="14284" y="12510"/>
                  <a:pt x="14263" y="12477"/>
                </a:cubicBezTo>
              </a:path>
              <a:path w="11808" h="1911">
                <a:moveTo>
                  <a:pt x="14932" y="11981"/>
                </a:moveTo>
                <a:cubicBezTo>
                  <a:pt x="14875" y="12026"/>
                  <a:pt x="14851" y="12047"/>
                  <a:pt x="14808" y="12105"/>
                </a:cubicBezTo>
                <a:cubicBezTo>
                  <a:pt x="14758" y="12172"/>
                  <a:pt x="14703" y="12244"/>
                  <a:pt x="14684" y="12328"/>
                </a:cubicBezTo>
                <a:cubicBezTo>
                  <a:pt x="14668" y="12400"/>
                  <a:pt x="14680" y="12487"/>
                  <a:pt x="14709" y="12551"/>
                </a:cubicBezTo>
                <a:cubicBezTo>
                  <a:pt x="14744" y="12629"/>
                  <a:pt x="14802" y="12704"/>
                  <a:pt x="14883" y="12725"/>
                </a:cubicBezTo>
                <a:cubicBezTo>
                  <a:pt x="14937" y="12739"/>
                  <a:pt x="15015" y="12697"/>
                  <a:pt x="15056" y="12675"/>
                </a:cubicBezTo>
                <a:cubicBezTo>
                  <a:pt x="15115" y="12643"/>
                  <a:pt x="15158" y="12623"/>
                  <a:pt x="15205" y="12576"/>
                </a:cubicBezTo>
                <a:cubicBezTo>
                  <a:pt x="15230" y="12551"/>
                  <a:pt x="15255" y="12526"/>
                  <a:pt x="15280" y="12502"/>
                </a:cubicBezTo>
              </a:path>
              <a:path w="11808" h="1911">
                <a:moveTo>
                  <a:pt x="15230" y="11956"/>
                </a:moveTo>
                <a:cubicBezTo>
                  <a:pt x="15306" y="12097"/>
                  <a:pt x="15388" y="12230"/>
                  <a:pt x="15453" y="12378"/>
                </a:cubicBezTo>
                <a:cubicBezTo>
                  <a:pt x="15497" y="12477"/>
                  <a:pt x="15533" y="12577"/>
                  <a:pt x="15577" y="12675"/>
                </a:cubicBezTo>
                <a:cubicBezTo>
                  <a:pt x="15613" y="12754"/>
                  <a:pt x="15664" y="12762"/>
                  <a:pt x="15726" y="12750"/>
                </a:cubicBezTo>
                <a:cubicBezTo>
                  <a:pt x="15734" y="12750"/>
                  <a:pt x="15743" y="12750"/>
                  <a:pt x="15751" y="12750"/>
                </a:cubicBezTo>
              </a:path>
              <a:path w="11808" h="1911">
                <a:moveTo>
                  <a:pt x="15602" y="11981"/>
                </a:moveTo>
                <a:cubicBezTo>
                  <a:pt x="15558" y="12053"/>
                  <a:pt x="15511" y="12127"/>
                  <a:pt x="15453" y="12204"/>
                </a:cubicBezTo>
                <a:cubicBezTo>
                  <a:pt x="15402" y="12271"/>
                  <a:pt x="15311" y="12403"/>
                  <a:pt x="15280" y="12477"/>
                </a:cubicBezTo>
                <a:cubicBezTo>
                  <a:pt x="15260" y="12525"/>
                  <a:pt x="15260" y="12549"/>
                  <a:pt x="15230" y="12601"/>
                </a:cubicBezTo>
              </a:path>
              <a:path w="11808" h="1911">
                <a:moveTo>
                  <a:pt x="15900" y="12129"/>
                </a:moveTo>
                <a:cubicBezTo>
                  <a:pt x="15989" y="12115"/>
                  <a:pt x="16067" y="12107"/>
                  <a:pt x="16148" y="12080"/>
                </a:cubicBezTo>
              </a:path>
              <a:path w="11808" h="1911">
                <a:moveTo>
                  <a:pt x="15974" y="12229"/>
                </a:moveTo>
                <a:cubicBezTo>
                  <a:pt x="16066" y="12290"/>
                  <a:pt x="16092" y="12242"/>
                  <a:pt x="16173" y="12254"/>
                </a:cubicBezTo>
                <a:cubicBezTo>
                  <a:pt x="16219" y="12261"/>
                  <a:pt x="16259" y="12278"/>
                  <a:pt x="16321" y="12278"/>
                </a:cubicBezTo>
              </a:path>
              <a:path w="11808" h="1911">
                <a:moveTo>
                  <a:pt x="16917" y="11906"/>
                </a:moveTo>
                <a:cubicBezTo>
                  <a:pt x="16937" y="11846"/>
                  <a:pt x="16956" y="11831"/>
                  <a:pt x="16917" y="11807"/>
                </a:cubicBezTo>
                <a:cubicBezTo>
                  <a:pt x="16872" y="11816"/>
                  <a:pt x="16777" y="11845"/>
                  <a:pt x="16743" y="11881"/>
                </a:cubicBezTo>
                <a:cubicBezTo>
                  <a:pt x="16683" y="11946"/>
                  <a:pt x="16654" y="12025"/>
                  <a:pt x="16619" y="12105"/>
                </a:cubicBezTo>
                <a:cubicBezTo>
                  <a:pt x="16584" y="12185"/>
                  <a:pt x="16526" y="12287"/>
                  <a:pt x="16545" y="12378"/>
                </a:cubicBezTo>
                <a:cubicBezTo>
                  <a:pt x="16574" y="12516"/>
                  <a:pt x="16643" y="12622"/>
                  <a:pt x="16768" y="12675"/>
                </a:cubicBezTo>
                <a:cubicBezTo>
                  <a:pt x="16857" y="12713"/>
                  <a:pt x="16929" y="12704"/>
                  <a:pt x="17016" y="12675"/>
                </a:cubicBezTo>
              </a:path>
              <a:path w="11808" h="1911">
                <a:moveTo>
                  <a:pt x="17289" y="11782"/>
                </a:moveTo>
                <a:cubicBezTo>
                  <a:pt x="17207" y="11803"/>
                  <a:pt x="17191" y="11811"/>
                  <a:pt x="17140" y="11807"/>
                </a:cubicBezTo>
              </a:path>
              <a:path w="11808" h="1911">
                <a:moveTo>
                  <a:pt x="17115" y="12105"/>
                </a:moveTo>
                <a:cubicBezTo>
                  <a:pt x="17222" y="12196"/>
                  <a:pt x="17337" y="12282"/>
                  <a:pt x="17438" y="12378"/>
                </a:cubicBezTo>
                <a:cubicBezTo>
                  <a:pt x="17507" y="12444"/>
                  <a:pt x="17477" y="12499"/>
                  <a:pt x="17512" y="12576"/>
                </a:cubicBezTo>
                <a:cubicBezTo>
                  <a:pt x="17536" y="12628"/>
                  <a:pt x="17511" y="12683"/>
                  <a:pt x="17438" y="12700"/>
                </a:cubicBezTo>
                <a:cubicBezTo>
                  <a:pt x="17355" y="12720"/>
                  <a:pt x="17206" y="12641"/>
                  <a:pt x="17140" y="12601"/>
                </a:cubicBezTo>
                <a:cubicBezTo>
                  <a:pt x="17132" y="12593"/>
                  <a:pt x="17123" y="12584"/>
                  <a:pt x="17115" y="12576"/>
                </a:cubicBezTo>
              </a:path>
              <a:path w="11808" h="1911">
                <a:moveTo>
                  <a:pt x="17686" y="11832"/>
                </a:moveTo>
                <a:cubicBezTo>
                  <a:pt x="17660" y="11923"/>
                  <a:pt x="17635" y="11998"/>
                  <a:pt x="17611" y="12080"/>
                </a:cubicBezTo>
                <a:cubicBezTo>
                  <a:pt x="17583" y="12175"/>
                  <a:pt x="17562" y="12222"/>
                  <a:pt x="17562" y="12328"/>
                </a:cubicBezTo>
                <a:cubicBezTo>
                  <a:pt x="17562" y="12428"/>
                  <a:pt x="17630" y="12528"/>
                  <a:pt x="17711" y="12576"/>
                </a:cubicBezTo>
                <a:cubicBezTo>
                  <a:pt x="17806" y="12632"/>
                  <a:pt x="17887" y="12623"/>
                  <a:pt x="17983" y="12650"/>
                </a:cubicBezTo>
                <a:cubicBezTo>
                  <a:pt x="18059" y="12671"/>
                  <a:pt x="18132" y="12650"/>
                  <a:pt x="18207" y="12601"/>
                </a:cubicBezTo>
                <a:cubicBezTo>
                  <a:pt x="18267" y="12562"/>
                  <a:pt x="18288" y="12460"/>
                  <a:pt x="18306" y="12402"/>
                </a:cubicBezTo>
              </a:path>
              <a:path w="11808" h="1911">
                <a:moveTo>
                  <a:pt x="18182" y="11931"/>
                </a:moveTo>
                <a:cubicBezTo>
                  <a:pt x="18263" y="12045"/>
                  <a:pt x="18349" y="12172"/>
                  <a:pt x="18430" y="12278"/>
                </a:cubicBezTo>
                <a:cubicBezTo>
                  <a:pt x="18508" y="12380"/>
                  <a:pt x="18601" y="12474"/>
                  <a:pt x="18678" y="12576"/>
                </a:cubicBezTo>
                <a:cubicBezTo>
                  <a:pt x="18726" y="12639"/>
                  <a:pt x="18770" y="12695"/>
                  <a:pt x="18827" y="12750"/>
                </a:cubicBezTo>
                <a:cubicBezTo>
                  <a:pt x="18857" y="12779"/>
                  <a:pt x="18871" y="12784"/>
                  <a:pt x="18901" y="12750"/>
                </a:cubicBezTo>
              </a:path>
              <a:path w="11808" h="1911">
                <a:moveTo>
                  <a:pt x="18653" y="12005"/>
                </a:moveTo>
                <a:cubicBezTo>
                  <a:pt x="18585" y="12111"/>
                  <a:pt x="18507" y="12194"/>
                  <a:pt x="18455" y="12303"/>
                </a:cubicBezTo>
                <a:cubicBezTo>
                  <a:pt x="18417" y="12383"/>
                  <a:pt x="18343" y="12441"/>
                  <a:pt x="18281" y="12502"/>
                </a:cubicBezTo>
                <a:cubicBezTo>
                  <a:pt x="18251" y="12531"/>
                  <a:pt x="18239" y="12545"/>
                  <a:pt x="18231" y="12576"/>
                </a:cubicBezTo>
              </a:path>
              <a:path w="11808" h="1911">
                <a:moveTo>
                  <a:pt x="17214" y="11782"/>
                </a:moveTo>
                <a:cubicBezTo>
                  <a:pt x="17181" y="11802"/>
                  <a:pt x="17105" y="11807"/>
                  <a:pt x="17090" y="11857"/>
                </a:cubicBezTo>
                <a:cubicBezTo>
                  <a:pt x="17077" y="11903"/>
                  <a:pt x="17026" y="12008"/>
                  <a:pt x="17041" y="12055"/>
                </a:cubicBezTo>
                <a:cubicBezTo>
                  <a:pt x="17050" y="12083"/>
                  <a:pt x="17074" y="12167"/>
                  <a:pt x="17115" y="12179"/>
                </a:cubicBezTo>
                <a:cubicBezTo>
                  <a:pt x="17161" y="12192"/>
                  <a:pt x="17213" y="12197"/>
                  <a:pt x="17239" y="12254"/>
                </a:cubicBezTo>
                <a:cubicBezTo>
                  <a:pt x="17239" y="12262"/>
                  <a:pt x="17239" y="12270"/>
                  <a:pt x="17239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=100 ft,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80 ft/sec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286000" y="838080"/>
                <a:ext cx="3987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Ink 4"/>
          <p:cNvSpPr/>
          <p:nvPr/>
        </p:nvSpPr>
        <p:spPr>
          <a:xfrm>
            <a:off x="6562800" y="1562040"/>
            <a:ext cx="2340000" cy="590760"/>
          </a:xfrm>
          <a:custGeom>
            <a:avLst/>
            <a:gdLst/>
            <a:ahLst/>
            <a:rect l="l" t="t" r="r" b="b"/>
            <a:pathLst>
              <a:path w="6500" h="1638">
                <a:moveTo>
                  <a:pt x="18430" y="4762"/>
                </a:moveTo>
                <a:cubicBezTo>
                  <a:pt x="18474" y="4719"/>
                  <a:pt x="18506" y="4648"/>
                  <a:pt x="18554" y="4614"/>
                </a:cubicBezTo>
                <a:cubicBezTo>
                  <a:pt x="18602" y="4580"/>
                  <a:pt x="18713" y="4563"/>
                  <a:pt x="18752" y="4614"/>
                </a:cubicBezTo>
                <a:cubicBezTo>
                  <a:pt x="18789" y="4661"/>
                  <a:pt x="18824" y="4731"/>
                  <a:pt x="18827" y="4787"/>
                </a:cubicBezTo>
                <a:cubicBezTo>
                  <a:pt x="18832" y="4890"/>
                  <a:pt x="18829" y="4986"/>
                  <a:pt x="18802" y="5085"/>
                </a:cubicBezTo>
                <a:cubicBezTo>
                  <a:pt x="18748" y="5281"/>
                  <a:pt x="18682" y="5435"/>
                  <a:pt x="18579" y="5606"/>
                </a:cubicBezTo>
                <a:cubicBezTo>
                  <a:pt x="18529" y="5689"/>
                  <a:pt x="18426" y="5811"/>
                  <a:pt x="18355" y="5879"/>
                </a:cubicBezTo>
                <a:cubicBezTo>
                  <a:pt x="18319" y="5913"/>
                  <a:pt x="18269" y="5940"/>
                  <a:pt x="18231" y="5978"/>
                </a:cubicBezTo>
                <a:cubicBezTo>
                  <a:pt x="18331" y="5949"/>
                  <a:pt x="18429" y="5928"/>
                  <a:pt x="18529" y="5904"/>
                </a:cubicBezTo>
                <a:cubicBezTo>
                  <a:pt x="18613" y="5884"/>
                  <a:pt x="18695" y="5897"/>
                  <a:pt x="18777" y="5879"/>
                </a:cubicBezTo>
                <a:cubicBezTo>
                  <a:pt x="18846" y="5864"/>
                  <a:pt x="18926" y="5896"/>
                  <a:pt x="18976" y="5879"/>
                </a:cubicBezTo>
                <a:cubicBezTo>
                  <a:pt x="18997" y="5872"/>
                  <a:pt x="19034" y="5820"/>
                  <a:pt x="19050" y="5804"/>
                </a:cubicBezTo>
              </a:path>
              <a:path w="6500" h="1638">
                <a:moveTo>
                  <a:pt x="19422" y="4564"/>
                </a:moveTo>
                <a:cubicBezTo>
                  <a:pt x="19381" y="4687"/>
                  <a:pt x="19336" y="4778"/>
                  <a:pt x="19323" y="4911"/>
                </a:cubicBezTo>
                <a:cubicBezTo>
                  <a:pt x="19307" y="5077"/>
                  <a:pt x="19309" y="5273"/>
                  <a:pt x="19348" y="5432"/>
                </a:cubicBezTo>
                <a:cubicBezTo>
                  <a:pt x="19366" y="5505"/>
                  <a:pt x="19384" y="5626"/>
                  <a:pt x="19447" y="5680"/>
                </a:cubicBezTo>
                <a:cubicBezTo>
                  <a:pt x="19504" y="5729"/>
                  <a:pt x="19549" y="5730"/>
                  <a:pt x="19621" y="5730"/>
                </a:cubicBezTo>
                <a:cubicBezTo>
                  <a:pt x="19708" y="5730"/>
                  <a:pt x="19766" y="5673"/>
                  <a:pt x="19819" y="5606"/>
                </a:cubicBezTo>
                <a:cubicBezTo>
                  <a:pt x="19892" y="5513"/>
                  <a:pt x="19914" y="5395"/>
                  <a:pt x="19943" y="5283"/>
                </a:cubicBezTo>
                <a:cubicBezTo>
                  <a:pt x="19984" y="5124"/>
                  <a:pt x="19960" y="5012"/>
                  <a:pt x="19918" y="4862"/>
                </a:cubicBezTo>
                <a:cubicBezTo>
                  <a:pt x="19885" y="4744"/>
                  <a:pt x="19883" y="4690"/>
                  <a:pt x="19819" y="4589"/>
                </a:cubicBezTo>
                <a:cubicBezTo>
                  <a:pt x="19782" y="4531"/>
                  <a:pt x="19718" y="4481"/>
                  <a:pt x="19645" y="4465"/>
                </a:cubicBezTo>
                <a:cubicBezTo>
                  <a:pt x="19570" y="4448"/>
                  <a:pt x="19506" y="4470"/>
                  <a:pt x="19447" y="4514"/>
                </a:cubicBezTo>
                <a:cubicBezTo>
                  <a:pt x="19384" y="4561"/>
                  <a:pt x="19352" y="4642"/>
                  <a:pt x="19323" y="4713"/>
                </a:cubicBezTo>
                <a:cubicBezTo>
                  <a:pt x="19292" y="4789"/>
                  <a:pt x="19298" y="4856"/>
                  <a:pt x="19298" y="4936"/>
                </a:cubicBezTo>
                <a:cubicBezTo>
                  <a:pt x="19298" y="4984"/>
                  <a:pt x="19309" y="4997"/>
                  <a:pt x="19323" y="5035"/>
                </a:cubicBezTo>
              </a:path>
              <a:path w="6500" h="1638">
                <a:moveTo>
                  <a:pt x="19149" y="5085"/>
                </a:moveTo>
                <a:cubicBezTo>
                  <a:pt x="19188" y="4989"/>
                  <a:pt x="19235" y="4939"/>
                  <a:pt x="19348" y="4911"/>
                </a:cubicBezTo>
                <a:cubicBezTo>
                  <a:pt x="19428" y="4891"/>
                  <a:pt x="19499" y="4924"/>
                  <a:pt x="19571" y="4936"/>
                </a:cubicBezTo>
                <a:cubicBezTo>
                  <a:pt x="19647" y="4949"/>
                  <a:pt x="19678" y="4976"/>
                  <a:pt x="19745" y="5011"/>
                </a:cubicBezTo>
                <a:cubicBezTo>
                  <a:pt x="19804" y="5042"/>
                  <a:pt x="19865" y="5070"/>
                  <a:pt x="19918" y="5110"/>
                </a:cubicBezTo>
                <a:cubicBezTo>
                  <a:pt x="19962" y="5143"/>
                  <a:pt x="20030" y="5203"/>
                  <a:pt x="20092" y="5184"/>
                </a:cubicBezTo>
                <a:cubicBezTo>
                  <a:pt x="20127" y="5173"/>
                  <a:pt x="20145" y="5159"/>
                  <a:pt x="20191" y="5159"/>
                </a:cubicBezTo>
              </a:path>
              <a:path w="6500" h="1638">
                <a:moveTo>
                  <a:pt x="20464" y="4762"/>
                </a:moveTo>
                <a:cubicBezTo>
                  <a:pt x="20534" y="4754"/>
                  <a:pt x="20589" y="4738"/>
                  <a:pt x="20662" y="4738"/>
                </a:cubicBezTo>
                <a:cubicBezTo>
                  <a:pt x="20712" y="4738"/>
                  <a:pt x="20729" y="4738"/>
                  <a:pt x="20762" y="4738"/>
                </a:cubicBezTo>
              </a:path>
              <a:path w="6500" h="1638">
                <a:moveTo>
                  <a:pt x="20538" y="4961"/>
                </a:moveTo>
                <a:cubicBezTo>
                  <a:pt x="20598" y="4957"/>
                  <a:pt x="20725" y="4960"/>
                  <a:pt x="20786" y="4936"/>
                </a:cubicBezTo>
                <a:cubicBezTo>
                  <a:pt x="20794" y="4928"/>
                  <a:pt x="20803" y="4919"/>
                  <a:pt x="20811" y="4911"/>
                </a:cubicBezTo>
              </a:path>
              <a:path w="6500" h="1638">
                <a:moveTo>
                  <a:pt x="21208" y="4514"/>
                </a:moveTo>
                <a:cubicBezTo>
                  <a:pt x="21220" y="4431"/>
                  <a:pt x="21241" y="4439"/>
                  <a:pt x="21307" y="4390"/>
                </a:cubicBezTo>
                <a:cubicBezTo>
                  <a:pt x="21376" y="4339"/>
                  <a:pt x="21447" y="4341"/>
                  <a:pt x="21530" y="4341"/>
                </a:cubicBezTo>
                <a:cubicBezTo>
                  <a:pt x="21611" y="4341"/>
                  <a:pt x="21617" y="4371"/>
                  <a:pt x="21630" y="4440"/>
                </a:cubicBezTo>
                <a:cubicBezTo>
                  <a:pt x="21655" y="4575"/>
                  <a:pt x="21658" y="4616"/>
                  <a:pt x="21605" y="4738"/>
                </a:cubicBezTo>
                <a:cubicBezTo>
                  <a:pt x="21569" y="4821"/>
                  <a:pt x="21532" y="4889"/>
                  <a:pt x="21456" y="4936"/>
                </a:cubicBezTo>
                <a:cubicBezTo>
                  <a:pt x="21392" y="4975"/>
                  <a:pt x="21328" y="4997"/>
                  <a:pt x="21258" y="5011"/>
                </a:cubicBezTo>
                <a:cubicBezTo>
                  <a:pt x="21266" y="4954"/>
                  <a:pt x="21291" y="4904"/>
                  <a:pt x="21357" y="4887"/>
                </a:cubicBezTo>
                <a:cubicBezTo>
                  <a:pt x="21431" y="4868"/>
                  <a:pt x="21538" y="4883"/>
                  <a:pt x="21605" y="4911"/>
                </a:cubicBezTo>
                <a:cubicBezTo>
                  <a:pt x="21682" y="4944"/>
                  <a:pt x="21740" y="5014"/>
                  <a:pt x="21779" y="5085"/>
                </a:cubicBezTo>
                <a:cubicBezTo>
                  <a:pt x="21828" y="5174"/>
                  <a:pt x="21809" y="5270"/>
                  <a:pt x="21779" y="5358"/>
                </a:cubicBezTo>
                <a:cubicBezTo>
                  <a:pt x="21738" y="5478"/>
                  <a:pt x="21672" y="5483"/>
                  <a:pt x="21580" y="5556"/>
                </a:cubicBezTo>
                <a:cubicBezTo>
                  <a:pt x="21490" y="5627"/>
                  <a:pt x="21446" y="5631"/>
                  <a:pt x="21332" y="5631"/>
                </a:cubicBezTo>
                <a:cubicBezTo>
                  <a:pt x="21232" y="5631"/>
                  <a:pt x="21149" y="5615"/>
                  <a:pt x="21084" y="5531"/>
                </a:cubicBezTo>
                <a:cubicBezTo>
                  <a:pt x="21062" y="5488"/>
                  <a:pt x="21058" y="5476"/>
                  <a:pt x="21034" y="5457"/>
                </a:cubicBezTo>
              </a:path>
              <a:path w="6500" h="1638">
                <a:moveTo>
                  <a:pt x="21927" y="4614"/>
                </a:moveTo>
                <a:cubicBezTo>
                  <a:pt x="21927" y="4764"/>
                  <a:pt x="21920" y="4916"/>
                  <a:pt x="21952" y="5060"/>
                </a:cubicBezTo>
                <a:cubicBezTo>
                  <a:pt x="21977" y="5170"/>
                  <a:pt x="22010" y="5315"/>
                  <a:pt x="22076" y="5407"/>
                </a:cubicBezTo>
                <a:cubicBezTo>
                  <a:pt x="22108" y="5452"/>
                  <a:pt x="22162" y="5545"/>
                  <a:pt x="22225" y="5556"/>
                </a:cubicBezTo>
                <a:cubicBezTo>
                  <a:pt x="22328" y="5575"/>
                  <a:pt x="22445" y="5524"/>
                  <a:pt x="22498" y="5432"/>
                </a:cubicBezTo>
                <a:cubicBezTo>
                  <a:pt x="22551" y="5340"/>
                  <a:pt x="22607" y="5217"/>
                  <a:pt x="22622" y="5110"/>
                </a:cubicBezTo>
                <a:cubicBezTo>
                  <a:pt x="22643" y="4963"/>
                  <a:pt x="22591" y="4843"/>
                  <a:pt x="22523" y="4713"/>
                </a:cubicBezTo>
                <a:cubicBezTo>
                  <a:pt x="22474" y="4620"/>
                  <a:pt x="22410" y="4549"/>
                  <a:pt x="22324" y="4490"/>
                </a:cubicBezTo>
                <a:cubicBezTo>
                  <a:pt x="22261" y="4447"/>
                  <a:pt x="22210" y="4391"/>
                  <a:pt x="22126" y="4415"/>
                </a:cubicBezTo>
                <a:cubicBezTo>
                  <a:pt x="22063" y="4433"/>
                  <a:pt x="21988" y="4485"/>
                  <a:pt x="21952" y="4539"/>
                </a:cubicBezTo>
                <a:cubicBezTo>
                  <a:pt x="21887" y="4637"/>
                  <a:pt x="21903" y="4751"/>
                  <a:pt x="21903" y="4862"/>
                </a:cubicBezTo>
                <a:cubicBezTo>
                  <a:pt x="21903" y="4923"/>
                  <a:pt x="21925" y="4957"/>
                  <a:pt x="21952" y="5011"/>
                </a:cubicBezTo>
              </a:path>
              <a:path w="6500" h="1638">
                <a:moveTo>
                  <a:pt x="22771" y="5135"/>
                </a:moveTo>
                <a:cubicBezTo>
                  <a:pt x="22771" y="5222"/>
                  <a:pt x="22777" y="5350"/>
                  <a:pt x="22746" y="5432"/>
                </a:cubicBezTo>
                <a:cubicBezTo>
                  <a:pt x="22726" y="5484"/>
                  <a:pt x="22700" y="5526"/>
                  <a:pt x="22671" y="5581"/>
                </a:cubicBezTo>
                <a:cubicBezTo>
                  <a:pt x="22646" y="5628"/>
                  <a:pt x="22602" y="5690"/>
                  <a:pt x="22547" y="5705"/>
                </a:cubicBezTo>
                <a:cubicBezTo>
                  <a:pt x="22503" y="5705"/>
                  <a:pt x="22489" y="5708"/>
                  <a:pt x="22473" y="5680"/>
                </a:cubicBezTo>
              </a:path>
              <a:path w="6500" h="1638">
                <a:moveTo>
                  <a:pt x="23118" y="4465"/>
                </a:moveTo>
                <a:cubicBezTo>
                  <a:pt x="23127" y="4539"/>
                  <a:pt x="23159" y="4608"/>
                  <a:pt x="23143" y="4688"/>
                </a:cubicBezTo>
                <a:cubicBezTo>
                  <a:pt x="23116" y="4827"/>
                  <a:pt x="23083" y="4966"/>
                  <a:pt x="23068" y="5110"/>
                </a:cubicBezTo>
                <a:cubicBezTo>
                  <a:pt x="23059" y="5195"/>
                  <a:pt x="23028" y="5278"/>
                  <a:pt x="23019" y="5358"/>
                </a:cubicBezTo>
                <a:cubicBezTo>
                  <a:pt x="23019" y="5436"/>
                  <a:pt x="23004" y="5454"/>
                  <a:pt x="23044" y="5482"/>
                </a:cubicBezTo>
                <a:cubicBezTo>
                  <a:pt x="23102" y="5422"/>
                  <a:pt x="23115" y="5392"/>
                  <a:pt x="23168" y="5308"/>
                </a:cubicBezTo>
              </a:path>
              <a:path w="6500" h="1638">
                <a:moveTo>
                  <a:pt x="23490" y="4490"/>
                </a:moveTo>
                <a:cubicBezTo>
                  <a:pt x="23575" y="4464"/>
                  <a:pt x="23730" y="4450"/>
                  <a:pt x="23812" y="4415"/>
                </a:cubicBezTo>
                <a:cubicBezTo>
                  <a:pt x="23868" y="4391"/>
                  <a:pt x="23930" y="4393"/>
                  <a:pt x="23986" y="4366"/>
                </a:cubicBezTo>
              </a:path>
              <a:path w="6500" h="1638">
                <a:moveTo>
                  <a:pt x="23688" y="4490"/>
                </a:moveTo>
                <a:cubicBezTo>
                  <a:pt x="23647" y="4555"/>
                  <a:pt x="23602" y="4623"/>
                  <a:pt x="23564" y="4688"/>
                </a:cubicBezTo>
                <a:cubicBezTo>
                  <a:pt x="23538" y="4732"/>
                  <a:pt x="23526" y="4752"/>
                  <a:pt x="23490" y="4787"/>
                </a:cubicBezTo>
                <a:cubicBezTo>
                  <a:pt x="23594" y="4777"/>
                  <a:pt x="23636" y="4775"/>
                  <a:pt x="23738" y="4787"/>
                </a:cubicBezTo>
                <a:cubicBezTo>
                  <a:pt x="23852" y="4800"/>
                  <a:pt x="23931" y="4873"/>
                  <a:pt x="23986" y="4986"/>
                </a:cubicBezTo>
                <a:cubicBezTo>
                  <a:pt x="24014" y="5044"/>
                  <a:pt x="24025" y="5144"/>
                  <a:pt x="24011" y="5209"/>
                </a:cubicBezTo>
                <a:cubicBezTo>
                  <a:pt x="23989" y="5309"/>
                  <a:pt x="23934" y="5345"/>
                  <a:pt x="23862" y="5407"/>
                </a:cubicBezTo>
                <a:cubicBezTo>
                  <a:pt x="23809" y="5452"/>
                  <a:pt x="23738" y="5494"/>
                  <a:pt x="23664" y="5482"/>
                </a:cubicBezTo>
                <a:cubicBezTo>
                  <a:pt x="23623" y="5475"/>
                  <a:pt x="23489" y="5438"/>
                  <a:pt x="23465" y="5407"/>
                </a:cubicBezTo>
                <a:cubicBezTo>
                  <a:pt x="23412" y="5340"/>
                  <a:pt x="23423" y="5324"/>
                  <a:pt x="23416" y="5234"/>
                </a:cubicBezTo>
              </a:path>
              <a:path w="6500" h="1638">
                <a:moveTo>
                  <a:pt x="24061" y="4564"/>
                </a:moveTo>
                <a:cubicBezTo>
                  <a:pt x="24099" y="4640"/>
                  <a:pt x="24149" y="4729"/>
                  <a:pt x="24160" y="4812"/>
                </a:cubicBezTo>
                <a:cubicBezTo>
                  <a:pt x="24175" y="4931"/>
                  <a:pt x="24160" y="5041"/>
                  <a:pt x="24185" y="5159"/>
                </a:cubicBezTo>
                <a:cubicBezTo>
                  <a:pt x="24210" y="5278"/>
                  <a:pt x="24205" y="5329"/>
                  <a:pt x="24309" y="5383"/>
                </a:cubicBezTo>
                <a:cubicBezTo>
                  <a:pt x="24383" y="5422"/>
                  <a:pt x="24404" y="5443"/>
                  <a:pt x="24482" y="5383"/>
                </a:cubicBezTo>
                <a:cubicBezTo>
                  <a:pt x="24565" y="5318"/>
                  <a:pt x="24639" y="5230"/>
                  <a:pt x="24681" y="5135"/>
                </a:cubicBezTo>
                <a:cubicBezTo>
                  <a:pt x="24722" y="5043"/>
                  <a:pt x="24730" y="4960"/>
                  <a:pt x="24730" y="4862"/>
                </a:cubicBezTo>
                <a:cubicBezTo>
                  <a:pt x="24730" y="4753"/>
                  <a:pt x="24728" y="4688"/>
                  <a:pt x="24681" y="4589"/>
                </a:cubicBezTo>
                <a:cubicBezTo>
                  <a:pt x="24625" y="4469"/>
                  <a:pt x="24511" y="4404"/>
                  <a:pt x="24383" y="4390"/>
                </a:cubicBezTo>
                <a:cubicBezTo>
                  <a:pt x="24289" y="4379"/>
                  <a:pt x="24253" y="4416"/>
                  <a:pt x="24209" y="4490"/>
                </a:cubicBezTo>
                <a:cubicBezTo>
                  <a:pt x="24165" y="4564"/>
                  <a:pt x="24115" y="4653"/>
                  <a:pt x="24110" y="4738"/>
                </a:cubicBezTo>
                <a:cubicBezTo>
                  <a:pt x="24110" y="4804"/>
                  <a:pt x="24110" y="4837"/>
                  <a:pt x="24110" y="48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Ink 5"/>
          <p:cNvSpPr/>
          <p:nvPr/>
        </p:nvSpPr>
        <p:spPr>
          <a:xfrm>
            <a:off x="6697800" y="2536920"/>
            <a:ext cx="1374480" cy="436320"/>
          </a:xfrm>
          <a:custGeom>
            <a:avLst/>
            <a:gdLst/>
            <a:ahLst/>
            <a:rect l="l" t="t" r="r" b="b"/>
            <a:pathLst>
              <a:path w="3820" h="1216">
                <a:moveTo>
                  <a:pt x="18703" y="7466"/>
                </a:moveTo>
                <a:cubicBezTo>
                  <a:pt x="18744" y="7385"/>
                  <a:pt x="18753" y="7337"/>
                  <a:pt x="18852" y="7317"/>
                </a:cubicBezTo>
                <a:cubicBezTo>
                  <a:pt x="18896" y="7308"/>
                  <a:pt x="18986" y="7342"/>
                  <a:pt x="19000" y="7392"/>
                </a:cubicBezTo>
                <a:cubicBezTo>
                  <a:pt x="19022" y="7471"/>
                  <a:pt x="19003" y="7512"/>
                  <a:pt x="19000" y="7590"/>
                </a:cubicBezTo>
                <a:cubicBezTo>
                  <a:pt x="18995" y="7711"/>
                  <a:pt x="18947" y="7810"/>
                  <a:pt x="18901" y="7913"/>
                </a:cubicBezTo>
                <a:cubicBezTo>
                  <a:pt x="18866" y="7990"/>
                  <a:pt x="18831" y="8070"/>
                  <a:pt x="18777" y="8136"/>
                </a:cubicBezTo>
                <a:cubicBezTo>
                  <a:pt x="18730" y="8194"/>
                  <a:pt x="18533" y="8236"/>
                  <a:pt x="18604" y="8260"/>
                </a:cubicBezTo>
                <a:cubicBezTo>
                  <a:pt x="18644" y="8274"/>
                  <a:pt x="18726" y="8235"/>
                  <a:pt x="18777" y="8235"/>
                </a:cubicBezTo>
                <a:cubicBezTo>
                  <a:pt x="18901" y="8235"/>
                  <a:pt x="19025" y="8235"/>
                  <a:pt x="19149" y="8235"/>
                </a:cubicBezTo>
              </a:path>
              <a:path w="3820" h="1216">
                <a:moveTo>
                  <a:pt x="19447" y="7466"/>
                </a:moveTo>
                <a:cubicBezTo>
                  <a:pt x="19416" y="7518"/>
                  <a:pt x="19407" y="7602"/>
                  <a:pt x="19397" y="7665"/>
                </a:cubicBezTo>
                <a:cubicBezTo>
                  <a:pt x="19382" y="7760"/>
                  <a:pt x="19407" y="7851"/>
                  <a:pt x="19422" y="7938"/>
                </a:cubicBezTo>
                <a:cubicBezTo>
                  <a:pt x="19428" y="7974"/>
                  <a:pt x="19438" y="8078"/>
                  <a:pt x="19496" y="8086"/>
                </a:cubicBezTo>
                <a:cubicBezTo>
                  <a:pt x="19617" y="8102"/>
                  <a:pt x="19690" y="8067"/>
                  <a:pt x="19745" y="7962"/>
                </a:cubicBezTo>
                <a:cubicBezTo>
                  <a:pt x="19790" y="7875"/>
                  <a:pt x="19850" y="7791"/>
                  <a:pt x="19869" y="7689"/>
                </a:cubicBezTo>
                <a:cubicBezTo>
                  <a:pt x="19886" y="7595"/>
                  <a:pt x="19851" y="7525"/>
                  <a:pt x="19819" y="7441"/>
                </a:cubicBezTo>
                <a:cubicBezTo>
                  <a:pt x="19787" y="7357"/>
                  <a:pt x="19748" y="7313"/>
                  <a:pt x="19670" y="7293"/>
                </a:cubicBezTo>
                <a:cubicBezTo>
                  <a:pt x="19561" y="7265"/>
                  <a:pt x="19490" y="7270"/>
                  <a:pt x="19422" y="7367"/>
                </a:cubicBezTo>
                <a:cubicBezTo>
                  <a:pt x="19376" y="7432"/>
                  <a:pt x="19336" y="7514"/>
                  <a:pt x="19323" y="7590"/>
                </a:cubicBezTo>
                <a:cubicBezTo>
                  <a:pt x="19314" y="7646"/>
                  <a:pt x="19311" y="7768"/>
                  <a:pt x="19348" y="7813"/>
                </a:cubicBezTo>
                <a:cubicBezTo>
                  <a:pt x="19364" y="7821"/>
                  <a:pt x="19381" y="7830"/>
                  <a:pt x="19397" y="7838"/>
                </a:cubicBezTo>
              </a:path>
              <a:path w="3820" h="1216">
                <a:moveTo>
                  <a:pt x="19224" y="7739"/>
                </a:moveTo>
                <a:cubicBezTo>
                  <a:pt x="19216" y="7731"/>
                  <a:pt x="19207" y="7722"/>
                  <a:pt x="19199" y="7714"/>
                </a:cubicBezTo>
                <a:cubicBezTo>
                  <a:pt x="19240" y="7673"/>
                  <a:pt x="19278" y="7649"/>
                  <a:pt x="19323" y="7615"/>
                </a:cubicBezTo>
                <a:cubicBezTo>
                  <a:pt x="19394" y="7562"/>
                  <a:pt x="19477" y="7525"/>
                  <a:pt x="19571" y="7541"/>
                </a:cubicBezTo>
                <a:cubicBezTo>
                  <a:pt x="19609" y="7547"/>
                  <a:pt x="19698" y="7610"/>
                  <a:pt x="19720" y="7640"/>
                </a:cubicBezTo>
                <a:cubicBezTo>
                  <a:pt x="19760" y="7695"/>
                  <a:pt x="19801" y="7733"/>
                  <a:pt x="19844" y="7789"/>
                </a:cubicBezTo>
                <a:cubicBezTo>
                  <a:pt x="19889" y="7849"/>
                  <a:pt x="19946" y="7858"/>
                  <a:pt x="20017" y="7863"/>
                </a:cubicBezTo>
                <a:cubicBezTo>
                  <a:pt x="20025" y="7863"/>
                  <a:pt x="20034" y="7863"/>
                  <a:pt x="20042" y="7863"/>
                </a:cubicBezTo>
              </a:path>
              <a:path w="3820" h="1216">
                <a:moveTo>
                  <a:pt x="20265" y="7491"/>
                </a:moveTo>
                <a:cubicBezTo>
                  <a:pt x="20340" y="7491"/>
                  <a:pt x="20404" y="7478"/>
                  <a:pt x="20464" y="7466"/>
                </a:cubicBezTo>
                <a:cubicBezTo>
                  <a:pt x="20512" y="7456"/>
                  <a:pt x="20524" y="7481"/>
                  <a:pt x="20563" y="7491"/>
                </a:cubicBezTo>
              </a:path>
              <a:path w="3820" h="1216">
                <a:moveTo>
                  <a:pt x="20389" y="7665"/>
                </a:moveTo>
                <a:cubicBezTo>
                  <a:pt x="20381" y="7673"/>
                  <a:pt x="20373" y="7681"/>
                  <a:pt x="20365" y="7689"/>
                </a:cubicBezTo>
                <a:cubicBezTo>
                  <a:pt x="20454" y="7689"/>
                  <a:pt x="20564" y="7707"/>
                  <a:pt x="20638" y="7665"/>
                </a:cubicBezTo>
              </a:path>
              <a:path w="3820" h="1216">
                <a:moveTo>
                  <a:pt x="20861" y="7218"/>
                </a:moveTo>
                <a:cubicBezTo>
                  <a:pt x="20947" y="7158"/>
                  <a:pt x="20959" y="7144"/>
                  <a:pt x="21059" y="7144"/>
                </a:cubicBezTo>
                <a:cubicBezTo>
                  <a:pt x="21151" y="7144"/>
                  <a:pt x="21176" y="7131"/>
                  <a:pt x="21233" y="7193"/>
                </a:cubicBezTo>
                <a:cubicBezTo>
                  <a:pt x="21297" y="7262"/>
                  <a:pt x="21290" y="7318"/>
                  <a:pt x="21282" y="7392"/>
                </a:cubicBezTo>
                <a:cubicBezTo>
                  <a:pt x="21271" y="7487"/>
                  <a:pt x="21234" y="7514"/>
                  <a:pt x="21183" y="7590"/>
                </a:cubicBezTo>
                <a:cubicBezTo>
                  <a:pt x="21161" y="7622"/>
                  <a:pt x="21087" y="7719"/>
                  <a:pt x="21034" y="7714"/>
                </a:cubicBezTo>
                <a:cubicBezTo>
                  <a:pt x="21026" y="7706"/>
                  <a:pt x="21018" y="7697"/>
                  <a:pt x="21010" y="7689"/>
                </a:cubicBezTo>
                <a:cubicBezTo>
                  <a:pt x="21064" y="7593"/>
                  <a:pt x="21065" y="7641"/>
                  <a:pt x="21158" y="7615"/>
                </a:cubicBezTo>
                <a:cubicBezTo>
                  <a:pt x="21233" y="7594"/>
                  <a:pt x="21304" y="7607"/>
                  <a:pt x="21382" y="7640"/>
                </a:cubicBezTo>
                <a:cubicBezTo>
                  <a:pt x="21444" y="7666"/>
                  <a:pt x="21534" y="7694"/>
                  <a:pt x="21555" y="7764"/>
                </a:cubicBezTo>
                <a:cubicBezTo>
                  <a:pt x="21579" y="7844"/>
                  <a:pt x="21543" y="7974"/>
                  <a:pt x="21506" y="8037"/>
                </a:cubicBezTo>
                <a:cubicBezTo>
                  <a:pt x="21465" y="8106"/>
                  <a:pt x="21402" y="8172"/>
                  <a:pt x="21332" y="8210"/>
                </a:cubicBezTo>
                <a:cubicBezTo>
                  <a:pt x="21229" y="8267"/>
                  <a:pt x="21195" y="8250"/>
                  <a:pt x="21084" y="8235"/>
                </a:cubicBezTo>
                <a:cubicBezTo>
                  <a:pt x="21015" y="8226"/>
                  <a:pt x="20959" y="8196"/>
                  <a:pt x="20910" y="8136"/>
                </a:cubicBezTo>
                <a:cubicBezTo>
                  <a:pt x="20859" y="8059"/>
                  <a:pt x="20843" y="8030"/>
                  <a:pt x="20861" y="7962"/>
                </a:cubicBezTo>
              </a:path>
              <a:path w="3820" h="1216">
                <a:moveTo>
                  <a:pt x="21679" y="7293"/>
                </a:moveTo>
                <a:cubicBezTo>
                  <a:pt x="21706" y="7388"/>
                  <a:pt x="21742" y="7496"/>
                  <a:pt x="21754" y="7590"/>
                </a:cubicBezTo>
                <a:cubicBezTo>
                  <a:pt x="21765" y="7670"/>
                  <a:pt x="21770" y="7738"/>
                  <a:pt x="21803" y="7813"/>
                </a:cubicBezTo>
                <a:cubicBezTo>
                  <a:pt x="21827" y="7867"/>
                  <a:pt x="21901" y="7928"/>
                  <a:pt x="21952" y="7962"/>
                </a:cubicBezTo>
                <a:cubicBezTo>
                  <a:pt x="21999" y="7993"/>
                  <a:pt x="22096" y="8002"/>
                  <a:pt x="22151" y="7987"/>
                </a:cubicBezTo>
                <a:cubicBezTo>
                  <a:pt x="22226" y="7966"/>
                  <a:pt x="22312" y="7876"/>
                  <a:pt x="22349" y="7813"/>
                </a:cubicBezTo>
                <a:cubicBezTo>
                  <a:pt x="22394" y="7736"/>
                  <a:pt x="22412" y="7652"/>
                  <a:pt x="22423" y="7565"/>
                </a:cubicBezTo>
                <a:cubicBezTo>
                  <a:pt x="22429" y="7519"/>
                  <a:pt x="22394" y="7377"/>
                  <a:pt x="22374" y="7342"/>
                </a:cubicBezTo>
                <a:cubicBezTo>
                  <a:pt x="22339" y="7282"/>
                  <a:pt x="22260" y="7183"/>
                  <a:pt x="22200" y="7144"/>
                </a:cubicBezTo>
                <a:cubicBezTo>
                  <a:pt x="22150" y="7112"/>
                  <a:pt x="22020" y="7030"/>
                  <a:pt x="21952" y="7045"/>
                </a:cubicBezTo>
                <a:cubicBezTo>
                  <a:pt x="21904" y="7055"/>
                  <a:pt x="21808" y="7104"/>
                  <a:pt x="21779" y="7144"/>
                </a:cubicBezTo>
                <a:cubicBezTo>
                  <a:pt x="21731" y="7212"/>
                  <a:pt x="21754" y="7339"/>
                  <a:pt x="21754" y="7417"/>
                </a:cubicBezTo>
                <a:cubicBezTo>
                  <a:pt x="21754" y="7471"/>
                  <a:pt x="21772" y="7512"/>
                  <a:pt x="21779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Ink 6"/>
          <p:cNvSpPr/>
          <p:nvPr/>
        </p:nvSpPr>
        <p:spPr>
          <a:xfrm>
            <a:off x="7000920" y="3054240"/>
            <a:ext cx="1071360" cy="401760"/>
          </a:xfrm>
          <a:custGeom>
            <a:avLst/>
            <a:gdLst/>
            <a:ahLst/>
            <a:rect l="l" t="t" r="r" b="b"/>
            <a:pathLst>
              <a:path w="2977" h="1117">
                <a:moveTo>
                  <a:pt x="19893" y="8682"/>
                </a:moveTo>
                <a:cubicBezTo>
                  <a:pt x="19830" y="8682"/>
                  <a:pt x="19783" y="8671"/>
                  <a:pt x="19745" y="8731"/>
                </a:cubicBezTo>
                <a:cubicBezTo>
                  <a:pt x="19701" y="8800"/>
                  <a:pt x="19676" y="8879"/>
                  <a:pt x="19645" y="8954"/>
                </a:cubicBezTo>
                <a:cubicBezTo>
                  <a:pt x="19614" y="9028"/>
                  <a:pt x="19603" y="9146"/>
                  <a:pt x="19621" y="9227"/>
                </a:cubicBezTo>
                <a:cubicBezTo>
                  <a:pt x="19637" y="9299"/>
                  <a:pt x="19686" y="9366"/>
                  <a:pt x="19745" y="9401"/>
                </a:cubicBezTo>
                <a:cubicBezTo>
                  <a:pt x="19789" y="9427"/>
                  <a:pt x="19891" y="9446"/>
                  <a:pt x="19943" y="9426"/>
                </a:cubicBezTo>
                <a:cubicBezTo>
                  <a:pt x="20049" y="9385"/>
                  <a:pt x="20092" y="9288"/>
                  <a:pt x="20141" y="9203"/>
                </a:cubicBezTo>
                <a:cubicBezTo>
                  <a:pt x="20192" y="9114"/>
                  <a:pt x="20239" y="9039"/>
                  <a:pt x="20216" y="8930"/>
                </a:cubicBezTo>
                <a:cubicBezTo>
                  <a:pt x="20198" y="8845"/>
                  <a:pt x="20143" y="8772"/>
                  <a:pt x="20092" y="8706"/>
                </a:cubicBezTo>
                <a:cubicBezTo>
                  <a:pt x="20052" y="8654"/>
                  <a:pt x="19978" y="8635"/>
                  <a:pt x="19918" y="8632"/>
                </a:cubicBezTo>
                <a:cubicBezTo>
                  <a:pt x="19790" y="8625"/>
                  <a:pt x="19750" y="8692"/>
                  <a:pt x="19670" y="8781"/>
                </a:cubicBezTo>
                <a:cubicBezTo>
                  <a:pt x="19600" y="8859"/>
                  <a:pt x="19581" y="8901"/>
                  <a:pt x="19571" y="9004"/>
                </a:cubicBezTo>
              </a:path>
              <a:path w="2977" h="1117">
                <a:moveTo>
                  <a:pt x="19447" y="9004"/>
                </a:moveTo>
                <a:cubicBezTo>
                  <a:pt x="19484" y="8940"/>
                  <a:pt x="19505" y="8915"/>
                  <a:pt x="19571" y="8880"/>
                </a:cubicBezTo>
                <a:cubicBezTo>
                  <a:pt x="19669" y="8828"/>
                  <a:pt x="19700" y="8843"/>
                  <a:pt x="19794" y="8855"/>
                </a:cubicBezTo>
                <a:cubicBezTo>
                  <a:pt x="19877" y="8866"/>
                  <a:pt x="19903" y="8893"/>
                  <a:pt x="19968" y="8954"/>
                </a:cubicBezTo>
                <a:cubicBezTo>
                  <a:pt x="20033" y="9015"/>
                  <a:pt x="20081" y="9087"/>
                  <a:pt x="20141" y="9153"/>
                </a:cubicBezTo>
                <a:cubicBezTo>
                  <a:pt x="20170" y="9185"/>
                  <a:pt x="20227" y="9242"/>
                  <a:pt x="20265" y="9252"/>
                </a:cubicBezTo>
                <a:cubicBezTo>
                  <a:pt x="20282" y="9252"/>
                  <a:pt x="20298" y="9252"/>
                  <a:pt x="20315" y="9252"/>
                </a:cubicBezTo>
              </a:path>
              <a:path w="2977" h="1117">
                <a:moveTo>
                  <a:pt x="20588" y="8930"/>
                </a:moveTo>
                <a:cubicBezTo>
                  <a:pt x="20681" y="8910"/>
                  <a:pt x="20789" y="8887"/>
                  <a:pt x="20886" y="8905"/>
                </a:cubicBezTo>
                <a:cubicBezTo>
                  <a:pt x="20911" y="8913"/>
                  <a:pt x="20935" y="8922"/>
                  <a:pt x="20960" y="8930"/>
                </a:cubicBezTo>
              </a:path>
              <a:path w="2977" h="1117">
                <a:moveTo>
                  <a:pt x="20712" y="9103"/>
                </a:moveTo>
                <a:cubicBezTo>
                  <a:pt x="20777" y="9142"/>
                  <a:pt x="20855" y="9128"/>
                  <a:pt x="20935" y="9128"/>
                </a:cubicBezTo>
                <a:cubicBezTo>
                  <a:pt x="20993" y="9128"/>
                  <a:pt x="21013" y="9131"/>
                  <a:pt x="21059" y="9103"/>
                </a:cubicBezTo>
              </a:path>
              <a:path w="2977" h="1117">
                <a:moveTo>
                  <a:pt x="21506" y="8607"/>
                </a:moveTo>
                <a:cubicBezTo>
                  <a:pt x="21536" y="8669"/>
                  <a:pt x="21530" y="8732"/>
                  <a:pt x="21530" y="8806"/>
                </a:cubicBezTo>
                <a:cubicBezTo>
                  <a:pt x="21530" y="8937"/>
                  <a:pt x="21495" y="9052"/>
                  <a:pt x="21481" y="9178"/>
                </a:cubicBezTo>
                <a:cubicBezTo>
                  <a:pt x="21472" y="9263"/>
                  <a:pt x="21456" y="9340"/>
                  <a:pt x="21456" y="9426"/>
                </a:cubicBezTo>
                <a:cubicBezTo>
                  <a:pt x="21456" y="9518"/>
                  <a:pt x="21444" y="9599"/>
                  <a:pt x="21506" y="9475"/>
                </a:cubicBezTo>
              </a:path>
              <a:path w="2977" h="1117">
                <a:moveTo>
                  <a:pt x="21803" y="8632"/>
                </a:moveTo>
                <a:cubicBezTo>
                  <a:pt x="21914" y="8603"/>
                  <a:pt x="22040" y="8557"/>
                  <a:pt x="22151" y="8533"/>
                </a:cubicBezTo>
                <a:cubicBezTo>
                  <a:pt x="22209" y="8521"/>
                  <a:pt x="22243" y="8511"/>
                  <a:pt x="22299" y="8483"/>
                </a:cubicBezTo>
              </a:path>
              <a:path w="2977" h="1117">
                <a:moveTo>
                  <a:pt x="22002" y="8582"/>
                </a:moveTo>
                <a:cubicBezTo>
                  <a:pt x="21965" y="8656"/>
                  <a:pt x="21928" y="8740"/>
                  <a:pt x="21878" y="8806"/>
                </a:cubicBezTo>
                <a:cubicBezTo>
                  <a:pt x="21831" y="8868"/>
                  <a:pt x="21789" y="8930"/>
                  <a:pt x="21779" y="9004"/>
                </a:cubicBezTo>
                <a:cubicBezTo>
                  <a:pt x="21861" y="8962"/>
                  <a:pt x="21909" y="8954"/>
                  <a:pt x="22002" y="8954"/>
                </a:cubicBezTo>
                <a:cubicBezTo>
                  <a:pt x="22077" y="8954"/>
                  <a:pt x="22185" y="8968"/>
                  <a:pt x="22250" y="9004"/>
                </a:cubicBezTo>
                <a:cubicBezTo>
                  <a:pt x="22345" y="9056"/>
                  <a:pt x="22358" y="9099"/>
                  <a:pt x="22399" y="9178"/>
                </a:cubicBezTo>
                <a:cubicBezTo>
                  <a:pt x="22437" y="9250"/>
                  <a:pt x="22411" y="9275"/>
                  <a:pt x="22399" y="9351"/>
                </a:cubicBezTo>
                <a:cubicBezTo>
                  <a:pt x="22385" y="9435"/>
                  <a:pt x="22313" y="9480"/>
                  <a:pt x="22250" y="9550"/>
                </a:cubicBezTo>
                <a:cubicBezTo>
                  <a:pt x="22218" y="9586"/>
                  <a:pt x="22123" y="9606"/>
                  <a:pt x="22076" y="9599"/>
                </a:cubicBezTo>
                <a:cubicBezTo>
                  <a:pt x="22004" y="9588"/>
                  <a:pt x="21895" y="9537"/>
                  <a:pt x="21853" y="9475"/>
                </a:cubicBezTo>
                <a:cubicBezTo>
                  <a:pt x="21853" y="9467"/>
                  <a:pt x="21853" y="9459"/>
                  <a:pt x="21853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Ink 7"/>
          <p:cNvSpPr/>
          <p:nvPr/>
        </p:nvSpPr>
        <p:spPr>
          <a:xfrm>
            <a:off x="1982880" y="3116160"/>
            <a:ext cx="6296040" cy="1071720"/>
          </a:xfrm>
          <a:custGeom>
            <a:avLst/>
            <a:gdLst/>
            <a:ahLst/>
            <a:rect l="l" t="t" r="r" b="b"/>
            <a:pathLst>
              <a:path w="17488" h="2977">
                <a:moveTo>
                  <a:pt x="5531" y="9178"/>
                </a:moveTo>
                <a:cubicBezTo>
                  <a:pt x="5531" y="9411"/>
                  <a:pt x="5532" y="9644"/>
                  <a:pt x="5507" y="9872"/>
                </a:cubicBezTo>
                <a:cubicBezTo>
                  <a:pt x="5491" y="10017"/>
                  <a:pt x="5487" y="10232"/>
                  <a:pt x="5531" y="10368"/>
                </a:cubicBezTo>
              </a:path>
              <a:path w="17488" h="2977">
                <a:moveTo>
                  <a:pt x="5978" y="9327"/>
                </a:moveTo>
                <a:cubicBezTo>
                  <a:pt x="5946" y="9453"/>
                  <a:pt x="5931" y="9593"/>
                  <a:pt x="5928" y="9723"/>
                </a:cubicBezTo>
                <a:cubicBezTo>
                  <a:pt x="5925" y="9838"/>
                  <a:pt x="5896" y="10040"/>
                  <a:pt x="5953" y="10145"/>
                </a:cubicBezTo>
                <a:cubicBezTo>
                  <a:pt x="6019" y="10267"/>
                  <a:pt x="6070" y="10289"/>
                  <a:pt x="6201" y="10294"/>
                </a:cubicBezTo>
                <a:cubicBezTo>
                  <a:pt x="6262" y="10297"/>
                  <a:pt x="6336" y="10199"/>
                  <a:pt x="6375" y="10145"/>
                </a:cubicBezTo>
                <a:cubicBezTo>
                  <a:pt x="6447" y="10046"/>
                  <a:pt x="6470" y="9940"/>
                  <a:pt x="6474" y="9823"/>
                </a:cubicBezTo>
                <a:cubicBezTo>
                  <a:pt x="6479" y="9666"/>
                  <a:pt x="6467" y="9560"/>
                  <a:pt x="6375" y="9426"/>
                </a:cubicBezTo>
                <a:cubicBezTo>
                  <a:pt x="6343" y="9379"/>
                  <a:pt x="6278" y="9279"/>
                  <a:pt x="6226" y="9252"/>
                </a:cubicBezTo>
                <a:cubicBezTo>
                  <a:pt x="6147" y="9212"/>
                  <a:pt x="6092" y="9224"/>
                  <a:pt x="6028" y="9277"/>
                </a:cubicBezTo>
                <a:cubicBezTo>
                  <a:pt x="5957" y="9336"/>
                  <a:pt x="5948" y="9394"/>
                  <a:pt x="5928" y="9475"/>
                </a:cubicBezTo>
                <a:cubicBezTo>
                  <a:pt x="5904" y="9568"/>
                  <a:pt x="5912" y="9566"/>
                  <a:pt x="5953" y="9649"/>
                </a:cubicBezTo>
              </a:path>
              <a:path w="17488" h="2977">
                <a:moveTo>
                  <a:pt x="6722" y="9203"/>
                </a:moveTo>
                <a:cubicBezTo>
                  <a:pt x="6722" y="9395"/>
                  <a:pt x="6714" y="9586"/>
                  <a:pt x="6697" y="9773"/>
                </a:cubicBezTo>
                <a:cubicBezTo>
                  <a:pt x="6685" y="9902"/>
                  <a:pt x="6736" y="10048"/>
                  <a:pt x="6772" y="10170"/>
                </a:cubicBezTo>
                <a:cubicBezTo>
                  <a:pt x="6797" y="10255"/>
                  <a:pt x="6848" y="10325"/>
                  <a:pt x="6921" y="10368"/>
                </a:cubicBezTo>
                <a:cubicBezTo>
                  <a:pt x="6992" y="10410"/>
                  <a:pt x="7033" y="10390"/>
                  <a:pt x="7094" y="10344"/>
                </a:cubicBezTo>
                <a:cubicBezTo>
                  <a:pt x="7176" y="10283"/>
                  <a:pt x="7193" y="10209"/>
                  <a:pt x="7218" y="10120"/>
                </a:cubicBezTo>
                <a:cubicBezTo>
                  <a:pt x="7250" y="10007"/>
                  <a:pt x="7277" y="9866"/>
                  <a:pt x="7268" y="9748"/>
                </a:cubicBezTo>
                <a:cubicBezTo>
                  <a:pt x="7259" y="9629"/>
                  <a:pt x="7248" y="9465"/>
                  <a:pt x="7169" y="9376"/>
                </a:cubicBezTo>
                <a:cubicBezTo>
                  <a:pt x="7110" y="9310"/>
                  <a:pt x="7073" y="9244"/>
                  <a:pt x="6995" y="9203"/>
                </a:cubicBezTo>
                <a:cubicBezTo>
                  <a:pt x="6927" y="9167"/>
                  <a:pt x="6882" y="9171"/>
                  <a:pt x="6821" y="9203"/>
                </a:cubicBezTo>
                <a:cubicBezTo>
                  <a:pt x="6723" y="9255"/>
                  <a:pt x="6736" y="9293"/>
                  <a:pt x="6697" y="9376"/>
                </a:cubicBezTo>
                <a:cubicBezTo>
                  <a:pt x="6662" y="9452"/>
                  <a:pt x="6675" y="9447"/>
                  <a:pt x="6697" y="9550"/>
                </a:cubicBezTo>
              </a:path>
              <a:path w="17488" h="2977">
                <a:moveTo>
                  <a:pt x="7689" y="9575"/>
                </a:moveTo>
                <a:cubicBezTo>
                  <a:pt x="7737" y="9594"/>
                  <a:pt x="7796" y="9575"/>
                  <a:pt x="7863" y="9575"/>
                </a:cubicBezTo>
                <a:cubicBezTo>
                  <a:pt x="7930" y="9575"/>
                  <a:pt x="7982" y="9567"/>
                  <a:pt x="8037" y="9599"/>
                </a:cubicBezTo>
              </a:path>
              <a:path w="17488" h="2977">
                <a:moveTo>
                  <a:pt x="7764" y="9773"/>
                </a:moveTo>
                <a:cubicBezTo>
                  <a:pt x="7855" y="9773"/>
                  <a:pt x="7946" y="9773"/>
                  <a:pt x="8037" y="9773"/>
                </a:cubicBezTo>
              </a:path>
              <a:path w="17488" h="2977">
                <a:moveTo>
                  <a:pt x="9401" y="8657"/>
                </a:moveTo>
                <a:cubicBezTo>
                  <a:pt x="9383" y="8704"/>
                  <a:pt x="9355" y="8789"/>
                  <a:pt x="9351" y="8830"/>
                </a:cubicBezTo>
                <a:cubicBezTo>
                  <a:pt x="9339" y="8946"/>
                  <a:pt x="9341" y="9066"/>
                  <a:pt x="9327" y="9178"/>
                </a:cubicBezTo>
                <a:cubicBezTo>
                  <a:pt x="9318" y="9253"/>
                  <a:pt x="9306" y="9328"/>
                  <a:pt x="9302" y="9401"/>
                </a:cubicBezTo>
                <a:cubicBezTo>
                  <a:pt x="9302" y="9418"/>
                  <a:pt x="9302" y="9434"/>
                  <a:pt x="9302" y="9451"/>
                </a:cubicBezTo>
              </a:path>
              <a:path w="17488" h="2977">
                <a:moveTo>
                  <a:pt x="8731" y="9475"/>
                </a:moveTo>
                <a:cubicBezTo>
                  <a:pt x="8748" y="9492"/>
                  <a:pt x="8764" y="9508"/>
                  <a:pt x="8781" y="9525"/>
                </a:cubicBezTo>
                <a:cubicBezTo>
                  <a:pt x="8878" y="9451"/>
                  <a:pt x="8944" y="9475"/>
                  <a:pt x="9079" y="9475"/>
                </a:cubicBezTo>
                <a:cubicBezTo>
                  <a:pt x="9241" y="9475"/>
                  <a:pt x="9355" y="9485"/>
                  <a:pt x="9500" y="9525"/>
                </a:cubicBezTo>
                <a:cubicBezTo>
                  <a:pt x="9587" y="9549"/>
                  <a:pt x="9671" y="9503"/>
                  <a:pt x="9748" y="9550"/>
                </a:cubicBezTo>
              </a:path>
              <a:path w="17488" h="2977">
                <a:moveTo>
                  <a:pt x="8582" y="9971"/>
                </a:moveTo>
                <a:cubicBezTo>
                  <a:pt x="8613" y="9910"/>
                  <a:pt x="8654" y="9843"/>
                  <a:pt x="8731" y="9823"/>
                </a:cubicBezTo>
                <a:cubicBezTo>
                  <a:pt x="8786" y="9809"/>
                  <a:pt x="8879" y="9772"/>
                  <a:pt x="8930" y="9823"/>
                </a:cubicBezTo>
                <a:cubicBezTo>
                  <a:pt x="8986" y="9879"/>
                  <a:pt x="8952" y="10010"/>
                  <a:pt x="8930" y="10071"/>
                </a:cubicBezTo>
                <a:cubicBezTo>
                  <a:pt x="8905" y="10139"/>
                  <a:pt x="8829" y="10196"/>
                  <a:pt x="8781" y="10244"/>
                </a:cubicBezTo>
                <a:cubicBezTo>
                  <a:pt x="8748" y="10277"/>
                  <a:pt x="8715" y="10310"/>
                  <a:pt x="8682" y="10344"/>
                </a:cubicBezTo>
                <a:cubicBezTo>
                  <a:pt x="8734" y="10290"/>
                  <a:pt x="8755" y="10294"/>
                  <a:pt x="8830" y="10294"/>
                </a:cubicBezTo>
                <a:cubicBezTo>
                  <a:pt x="8914" y="10294"/>
                  <a:pt x="8953" y="10307"/>
                  <a:pt x="9029" y="10344"/>
                </a:cubicBezTo>
                <a:cubicBezTo>
                  <a:pt x="9099" y="10378"/>
                  <a:pt x="9156" y="10484"/>
                  <a:pt x="9153" y="10567"/>
                </a:cubicBezTo>
                <a:cubicBezTo>
                  <a:pt x="9150" y="10626"/>
                  <a:pt x="9098" y="10726"/>
                  <a:pt x="9054" y="10765"/>
                </a:cubicBezTo>
                <a:cubicBezTo>
                  <a:pt x="9014" y="10801"/>
                  <a:pt x="8914" y="10903"/>
                  <a:pt x="8855" y="10914"/>
                </a:cubicBezTo>
                <a:cubicBezTo>
                  <a:pt x="8756" y="10932"/>
                  <a:pt x="8652" y="10946"/>
                  <a:pt x="8558" y="10889"/>
                </a:cubicBezTo>
                <a:cubicBezTo>
                  <a:pt x="8499" y="10854"/>
                  <a:pt x="8486" y="10778"/>
                  <a:pt x="8483" y="10716"/>
                </a:cubicBezTo>
                <a:cubicBezTo>
                  <a:pt x="8483" y="10699"/>
                  <a:pt x="8483" y="10683"/>
                  <a:pt x="8483" y="10666"/>
                </a:cubicBezTo>
              </a:path>
              <a:path w="17488" h="2977">
                <a:moveTo>
                  <a:pt x="9327" y="9996"/>
                </a:moveTo>
                <a:cubicBezTo>
                  <a:pt x="9425" y="9920"/>
                  <a:pt x="9455" y="9878"/>
                  <a:pt x="9575" y="9872"/>
                </a:cubicBezTo>
                <a:cubicBezTo>
                  <a:pt x="9639" y="9869"/>
                  <a:pt x="9685" y="9863"/>
                  <a:pt x="9723" y="9922"/>
                </a:cubicBezTo>
                <a:cubicBezTo>
                  <a:pt x="9770" y="9994"/>
                  <a:pt x="9773" y="10032"/>
                  <a:pt x="9773" y="10120"/>
                </a:cubicBezTo>
                <a:cubicBezTo>
                  <a:pt x="9773" y="10227"/>
                  <a:pt x="9735" y="10397"/>
                  <a:pt x="9674" y="10492"/>
                </a:cubicBezTo>
                <a:cubicBezTo>
                  <a:pt x="9625" y="10569"/>
                  <a:pt x="9545" y="10637"/>
                  <a:pt x="9500" y="10716"/>
                </a:cubicBezTo>
                <a:cubicBezTo>
                  <a:pt x="9449" y="10805"/>
                  <a:pt x="9450" y="10822"/>
                  <a:pt x="9376" y="10889"/>
                </a:cubicBezTo>
                <a:cubicBezTo>
                  <a:pt x="9368" y="10897"/>
                  <a:pt x="9359" y="10906"/>
                  <a:pt x="9351" y="10914"/>
                </a:cubicBezTo>
                <a:cubicBezTo>
                  <a:pt x="9442" y="10873"/>
                  <a:pt x="9500" y="10864"/>
                  <a:pt x="9599" y="10864"/>
                </a:cubicBezTo>
                <a:cubicBezTo>
                  <a:pt x="9674" y="10864"/>
                  <a:pt x="9779" y="10860"/>
                  <a:pt x="9847" y="10889"/>
                </a:cubicBezTo>
                <a:cubicBezTo>
                  <a:pt x="9900" y="10912"/>
                  <a:pt x="9966" y="10927"/>
                  <a:pt x="10021" y="10964"/>
                </a:cubicBezTo>
                <a:cubicBezTo>
                  <a:pt x="10043" y="10986"/>
                  <a:pt x="10052" y="10997"/>
                  <a:pt x="10046" y="10964"/>
                </a:cubicBezTo>
              </a:path>
              <a:path w="17488" h="2977">
                <a:moveTo>
                  <a:pt x="11013" y="9004"/>
                </a:moveTo>
                <a:cubicBezTo>
                  <a:pt x="10970" y="9073"/>
                  <a:pt x="10890" y="9152"/>
                  <a:pt x="10864" y="9227"/>
                </a:cubicBezTo>
                <a:cubicBezTo>
                  <a:pt x="10827" y="9332"/>
                  <a:pt x="10803" y="9445"/>
                  <a:pt x="10765" y="9550"/>
                </a:cubicBezTo>
                <a:cubicBezTo>
                  <a:pt x="10695" y="9741"/>
                  <a:pt x="10637" y="9942"/>
                  <a:pt x="10616" y="10145"/>
                </a:cubicBezTo>
                <a:cubicBezTo>
                  <a:pt x="10605" y="10250"/>
                  <a:pt x="10627" y="10343"/>
                  <a:pt x="10641" y="10443"/>
                </a:cubicBezTo>
                <a:cubicBezTo>
                  <a:pt x="10655" y="10543"/>
                  <a:pt x="10692" y="10549"/>
                  <a:pt x="10765" y="10616"/>
                </a:cubicBezTo>
                <a:cubicBezTo>
                  <a:pt x="10800" y="10648"/>
                  <a:pt x="10867" y="10705"/>
                  <a:pt x="10914" y="10716"/>
                </a:cubicBezTo>
                <a:cubicBezTo>
                  <a:pt x="10931" y="10716"/>
                  <a:pt x="10947" y="10716"/>
                  <a:pt x="10964" y="10716"/>
                </a:cubicBezTo>
              </a:path>
              <a:path w="17488" h="2977">
                <a:moveTo>
                  <a:pt x="11261" y="9451"/>
                </a:moveTo>
                <a:cubicBezTo>
                  <a:pt x="11232" y="9524"/>
                  <a:pt x="11181" y="9616"/>
                  <a:pt x="11187" y="9699"/>
                </a:cubicBezTo>
                <a:cubicBezTo>
                  <a:pt x="11192" y="9770"/>
                  <a:pt x="11286" y="9848"/>
                  <a:pt x="11361" y="9823"/>
                </a:cubicBezTo>
                <a:cubicBezTo>
                  <a:pt x="11520" y="9771"/>
                  <a:pt x="11568" y="9753"/>
                  <a:pt x="11633" y="9624"/>
                </a:cubicBezTo>
                <a:cubicBezTo>
                  <a:pt x="11669" y="9552"/>
                  <a:pt x="11666" y="9493"/>
                  <a:pt x="11633" y="9426"/>
                </a:cubicBezTo>
                <a:cubicBezTo>
                  <a:pt x="11589" y="9335"/>
                  <a:pt x="11536" y="9332"/>
                  <a:pt x="11435" y="9327"/>
                </a:cubicBezTo>
                <a:cubicBezTo>
                  <a:pt x="11333" y="9322"/>
                  <a:pt x="11192" y="9399"/>
                  <a:pt x="11137" y="9475"/>
                </a:cubicBezTo>
                <a:cubicBezTo>
                  <a:pt x="11097" y="9530"/>
                  <a:pt x="11112" y="9611"/>
                  <a:pt x="11112" y="9674"/>
                </a:cubicBezTo>
              </a:path>
              <a:path w="17488" h="2977">
                <a:moveTo>
                  <a:pt x="11385" y="9773"/>
                </a:moveTo>
                <a:cubicBezTo>
                  <a:pt x="11317" y="9813"/>
                  <a:pt x="11306" y="9836"/>
                  <a:pt x="11261" y="9897"/>
                </a:cubicBezTo>
                <a:cubicBezTo>
                  <a:pt x="11218" y="9956"/>
                  <a:pt x="11176" y="10022"/>
                  <a:pt x="11162" y="10096"/>
                </a:cubicBezTo>
                <a:cubicBezTo>
                  <a:pt x="11153" y="10143"/>
                  <a:pt x="11164" y="10257"/>
                  <a:pt x="11187" y="10294"/>
                </a:cubicBezTo>
                <a:cubicBezTo>
                  <a:pt x="11234" y="10370"/>
                  <a:pt x="11353" y="10399"/>
                  <a:pt x="11435" y="10393"/>
                </a:cubicBezTo>
                <a:cubicBezTo>
                  <a:pt x="11494" y="10389"/>
                  <a:pt x="11611" y="10331"/>
                  <a:pt x="11658" y="10294"/>
                </a:cubicBezTo>
                <a:cubicBezTo>
                  <a:pt x="11724" y="10242"/>
                  <a:pt x="11753" y="10151"/>
                  <a:pt x="11757" y="10071"/>
                </a:cubicBezTo>
                <a:cubicBezTo>
                  <a:pt x="11760" y="10008"/>
                  <a:pt x="11759" y="9920"/>
                  <a:pt x="11708" y="9872"/>
                </a:cubicBezTo>
                <a:cubicBezTo>
                  <a:pt x="11640" y="9809"/>
                  <a:pt x="11573" y="9765"/>
                  <a:pt x="11485" y="9798"/>
                </a:cubicBezTo>
                <a:cubicBezTo>
                  <a:pt x="11429" y="9819"/>
                  <a:pt x="11327" y="9900"/>
                  <a:pt x="11286" y="9947"/>
                </a:cubicBezTo>
                <a:cubicBezTo>
                  <a:pt x="11262" y="9974"/>
                  <a:pt x="11236" y="10113"/>
                  <a:pt x="11261" y="10145"/>
                </a:cubicBezTo>
                <a:cubicBezTo>
                  <a:pt x="11278" y="10153"/>
                  <a:pt x="11294" y="10162"/>
                  <a:pt x="11311" y="10170"/>
                </a:cubicBezTo>
              </a:path>
              <a:path w="17488" h="2977">
                <a:moveTo>
                  <a:pt x="12030" y="9426"/>
                </a:moveTo>
                <a:cubicBezTo>
                  <a:pt x="11989" y="9481"/>
                  <a:pt x="11984" y="9552"/>
                  <a:pt x="11981" y="9624"/>
                </a:cubicBezTo>
                <a:cubicBezTo>
                  <a:pt x="11976" y="9723"/>
                  <a:pt x="11970" y="9774"/>
                  <a:pt x="11981" y="9872"/>
                </a:cubicBezTo>
                <a:cubicBezTo>
                  <a:pt x="11992" y="9966"/>
                  <a:pt x="12013" y="10028"/>
                  <a:pt x="12030" y="10120"/>
                </a:cubicBezTo>
                <a:cubicBezTo>
                  <a:pt x="12045" y="10199"/>
                  <a:pt x="12096" y="10256"/>
                  <a:pt x="12154" y="10319"/>
                </a:cubicBezTo>
                <a:cubicBezTo>
                  <a:pt x="12205" y="10374"/>
                  <a:pt x="12280" y="10336"/>
                  <a:pt x="12328" y="10294"/>
                </a:cubicBezTo>
                <a:cubicBezTo>
                  <a:pt x="12388" y="10241"/>
                  <a:pt x="12443" y="10138"/>
                  <a:pt x="12477" y="10071"/>
                </a:cubicBezTo>
                <a:cubicBezTo>
                  <a:pt x="12519" y="9988"/>
                  <a:pt x="12502" y="9887"/>
                  <a:pt x="12502" y="9798"/>
                </a:cubicBezTo>
                <a:cubicBezTo>
                  <a:pt x="12502" y="9667"/>
                  <a:pt x="12449" y="9560"/>
                  <a:pt x="12378" y="9451"/>
                </a:cubicBezTo>
                <a:cubicBezTo>
                  <a:pt x="12355" y="9415"/>
                  <a:pt x="12295" y="9361"/>
                  <a:pt x="12254" y="9351"/>
                </a:cubicBezTo>
                <a:cubicBezTo>
                  <a:pt x="12192" y="9336"/>
                  <a:pt x="12099" y="9350"/>
                  <a:pt x="12055" y="9401"/>
                </a:cubicBezTo>
                <a:cubicBezTo>
                  <a:pt x="12015" y="9448"/>
                  <a:pt x="11966" y="9540"/>
                  <a:pt x="11956" y="9599"/>
                </a:cubicBezTo>
                <a:cubicBezTo>
                  <a:pt x="11939" y="9703"/>
                  <a:pt x="11965" y="9759"/>
                  <a:pt x="12005" y="9847"/>
                </a:cubicBezTo>
              </a:path>
              <a:path w="17488" h="2977">
                <a:moveTo>
                  <a:pt x="12576" y="8954"/>
                </a:moveTo>
                <a:cubicBezTo>
                  <a:pt x="12649" y="8988"/>
                  <a:pt x="12700" y="9009"/>
                  <a:pt x="12750" y="9079"/>
                </a:cubicBezTo>
                <a:cubicBezTo>
                  <a:pt x="12799" y="9148"/>
                  <a:pt x="12862" y="9223"/>
                  <a:pt x="12898" y="9302"/>
                </a:cubicBezTo>
                <a:cubicBezTo>
                  <a:pt x="12941" y="9396"/>
                  <a:pt x="12992" y="9501"/>
                  <a:pt x="13022" y="9599"/>
                </a:cubicBezTo>
                <a:cubicBezTo>
                  <a:pt x="13062" y="9727"/>
                  <a:pt x="13070" y="9911"/>
                  <a:pt x="13047" y="10046"/>
                </a:cubicBezTo>
                <a:cubicBezTo>
                  <a:pt x="13023" y="10189"/>
                  <a:pt x="12973" y="10355"/>
                  <a:pt x="12923" y="10492"/>
                </a:cubicBezTo>
                <a:cubicBezTo>
                  <a:pt x="12890" y="10582"/>
                  <a:pt x="12826" y="10640"/>
                  <a:pt x="12774" y="10716"/>
                </a:cubicBezTo>
                <a:cubicBezTo>
                  <a:pt x="12737" y="10770"/>
                  <a:pt x="12703" y="10822"/>
                  <a:pt x="12650" y="10864"/>
                </a:cubicBezTo>
                <a:cubicBezTo>
                  <a:pt x="12603" y="10901"/>
                  <a:pt x="12568" y="10926"/>
                  <a:pt x="12526" y="10964"/>
                </a:cubicBezTo>
              </a:path>
              <a:path w="17488" h="2977">
                <a:moveTo>
                  <a:pt x="13196" y="9004"/>
                </a:moveTo>
                <a:cubicBezTo>
                  <a:pt x="13268" y="8946"/>
                  <a:pt x="13303" y="8923"/>
                  <a:pt x="13395" y="8954"/>
                </a:cubicBezTo>
                <a:cubicBezTo>
                  <a:pt x="13468" y="8978"/>
                  <a:pt x="13485" y="9030"/>
                  <a:pt x="13469" y="9103"/>
                </a:cubicBezTo>
                <a:cubicBezTo>
                  <a:pt x="13457" y="9159"/>
                  <a:pt x="13391" y="9263"/>
                  <a:pt x="13345" y="9302"/>
                </a:cubicBezTo>
                <a:cubicBezTo>
                  <a:pt x="13312" y="9331"/>
                  <a:pt x="13278" y="9344"/>
                  <a:pt x="13246" y="9376"/>
                </a:cubicBezTo>
                <a:cubicBezTo>
                  <a:pt x="13327" y="9407"/>
                  <a:pt x="13414" y="9399"/>
                  <a:pt x="13494" y="9426"/>
                </a:cubicBezTo>
                <a:cubicBezTo>
                  <a:pt x="13545" y="9443"/>
                  <a:pt x="13564" y="9451"/>
                  <a:pt x="13618" y="9451"/>
                </a:cubicBezTo>
              </a:path>
              <a:path w="17488" h="2977">
                <a:moveTo>
                  <a:pt x="14610" y="9550"/>
                </a:moveTo>
                <a:cubicBezTo>
                  <a:pt x="14554" y="9470"/>
                  <a:pt x="14496" y="9413"/>
                  <a:pt x="14387" y="9426"/>
                </a:cubicBezTo>
                <a:cubicBezTo>
                  <a:pt x="14314" y="9435"/>
                  <a:pt x="14252" y="9452"/>
                  <a:pt x="14213" y="9525"/>
                </a:cubicBezTo>
                <a:cubicBezTo>
                  <a:pt x="14175" y="9597"/>
                  <a:pt x="14128" y="9632"/>
                  <a:pt x="14139" y="9723"/>
                </a:cubicBezTo>
                <a:cubicBezTo>
                  <a:pt x="14151" y="9818"/>
                  <a:pt x="14217" y="9936"/>
                  <a:pt x="14263" y="10021"/>
                </a:cubicBezTo>
                <a:cubicBezTo>
                  <a:pt x="14317" y="10123"/>
                  <a:pt x="14395" y="10182"/>
                  <a:pt x="14436" y="10294"/>
                </a:cubicBezTo>
                <a:cubicBezTo>
                  <a:pt x="14463" y="10367"/>
                  <a:pt x="14480" y="10488"/>
                  <a:pt x="14461" y="10567"/>
                </a:cubicBezTo>
                <a:cubicBezTo>
                  <a:pt x="14428" y="10703"/>
                  <a:pt x="14243" y="10699"/>
                  <a:pt x="14139" y="10666"/>
                </a:cubicBezTo>
                <a:cubicBezTo>
                  <a:pt x="14057" y="10640"/>
                  <a:pt x="14058" y="10555"/>
                  <a:pt x="14015" y="10492"/>
                </a:cubicBezTo>
                <a:cubicBezTo>
                  <a:pt x="13982" y="10444"/>
                  <a:pt x="13990" y="10404"/>
                  <a:pt x="13990" y="10344"/>
                </a:cubicBezTo>
              </a:path>
              <a:path w="17488" h="2977">
                <a:moveTo>
                  <a:pt x="14808" y="9525"/>
                </a:moveTo>
                <a:cubicBezTo>
                  <a:pt x="14823" y="9639"/>
                  <a:pt x="14812" y="9784"/>
                  <a:pt x="14833" y="9897"/>
                </a:cubicBezTo>
                <a:cubicBezTo>
                  <a:pt x="14858" y="10032"/>
                  <a:pt x="14848" y="10131"/>
                  <a:pt x="14833" y="10269"/>
                </a:cubicBezTo>
                <a:cubicBezTo>
                  <a:pt x="14820" y="10382"/>
                  <a:pt x="14842" y="10482"/>
                  <a:pt x="14833" y="10592"/>
                </a:cubicBezTo>
                <a:cubicBezTo>
                  <a:pt x="14827" y="10661"/>
                  <a:pt x="14841" y="10709"/>
                  <a:pt x="14858" y="10765"/>
                </a:cubicBezTo>
                <a:cubicBezTo>
                  <a:pt x="14858" y="10773"/>
                  <a:pt x="14858" y="10782"/>
                  <a:pt x="14858" y="10790"/>
                </a:cubicBezTo>
              </a:path>
              <a:path w="17488" h="2977">
                <a:moveTo>
                  <a:pt x="15180" y="9599"/>
                </a:moveTo>
                <a:cubicBezTo>
                  <a:pt x="15180" y="9701"/>
                  <a:pt x="15194" y="9775"/>
                  <a:pt x="15205" y="9872"/>
                </a:cubicBezTo>
                <a:cubicBezTo>
                  <a:pt x="15235" y="10127"/>
                  <a:pt x="15188" y="10393"/>
                  <a:pt x="15230" y="10641"/>
                </a:cubicBezTo>
                <a:cubicBezTo>
                  <a:pt x="15230" y="10686"/>
                  <a:pt x="15233" y="10706"/>
                  <a:pt x="15205" y="10666"/>
                </a:cubicBezTo>
                <a:cubicBezTo>
                  <a:pt x="15205" y="10478"/>
                  <a:pt x="15184" y="10278"/>
                  <a:pt x="15230" y="10096"/>
                </a:cubicBezTo>
                <a:cubicBezTo>
                  <a:pt x="15267" y="9947"/>
                  <a:pt x="15320" y="9790"/>
                  <a:pt x="15379" y="9649"/>
                </a:cubicBezTo>
                <a:cubicBezTo>
                  <a:pt x="15398" y="9602"/>
                  <a:pt x="15478" y="9496"/>
                  <a:pt x="15528" y="9475"/>
                </a:cubicBezTo>
                <a:cubicBezTo>
                  <a:pt x="15565" y="9460"/>
                  <a:pt x="15653" y="9542"/>
                  <a:pt x="15677" y="9575"/>
                </a:cubicBezTo>
                <a:cubicBezTo>
                  <a:pt x="15735" y="9657"/>
                  <a:pt x="15731" y="9757"/>
                  <a:pt x="15751" y="9847"/>
                </a:cubicBezTo>
                <a:cubicBezTo>
                  <a:pt x="15780" y="9976"/>
                  <a:pt x="15797" y="10111"/>
                  <a:pt x="15801" y="10244"/>
                </a:cubicBezTo>
                <a:cubicBezTo>
                  <a:pt x="15804" y="10328"/>
                  <a:pt x="15790" y="10434"/>
                  <a:pt x="15776" y="10517"/>
                </a:cubicBezTo>
                <a:cubicBezTo>
                  <a:pt x="15764" y="10583"/>
                  <a:pt x="15756" y="10640"/>
                  <a:pt x="15726" y="10691"/>
                </a:cubicBezTo>
              </a:path>
              <a:path w="17488" h="2977">
                <a:moveTo>
                  <a:pt x="14883" y="9054"/>
                </a:moveTo>
                <a:cubicBezTo>
                  <a:pt x="14891" y="9062"/>
                  <a:pt x="14900" y="9071"/>
                  <a:pt x="14908" y="9079"/>
                </a:cubicBezTo>
              </a:path>
              <a:path w="17488" h="2977">
                <a:moveTo>
                  <a:pt x="16197" y="9376"/>
                </a:moveTo>
                <a:cubicBezTo>
                  <a:pt x="16197" y="9292"/>
                  <a:pt x="16209" y="9275"/>
                  <a:pt x="16247" y="9203"/>
                </a:cubicBezTo>
                <a:cubicBezTo>
                  <a:pt x="16289" y="9124"/>
                  <a:pt x="16315" y="9079"/>
                  <a:pt x="16421" y="9103"/>
                </a:cubicBezTo>
                <a:cubicBezTo>
                  <a:pt x="16464" y="9113"/>
                  <a:pt x="16531" y="9151"/>
                  <a:pt x="16545" y="9203"/>
                </a:cubicBezTo>
                <a:cubicBezTo>
                  <a:pt x="16564" y="9273"/>
                  <a:pt x="16585" y="9376"/>
                  <a:pt x="16570" y="9451"/>
                </a:cubicBezTo>
                <a:cubicBezTo>
                  <a:pt x="16549" y="9560"/>
                  <a:pt x="16525" y="9665"/>
                  <a:pt x="16495" y="9773"/>
                </a:cubicBezTo>
                <a:cubicBezTo>
                  <a:pt x="16459" y="9904"/>
                  <a:pt x="16404" y="9977"/>
                  <a:pt x="16346" y="10096"/>
                </a:cubicBezTo>
                <a:cubicBezTo>
                  <a:pt x="16285" y="10222"/>
                  <a:pt x="16212" y="10334"/>
                  <a:pt x="16123" y="10443"/>
                </a:cubicBezTo>
                <a:cubicBezTo>
                  <a:pt x="16085" y="10490"/>
                  <a:pt x="16080" y="10508"/>
                  <a:pt x="16073" y="10567"/>
                </a:cubicBezTo>
                <a:cubicBezTo>
                  <a:pt x="16137" y="10576"/>
                  <a:pt x="16176" y="10592"/>
                  <a:pt x="16247" y="10592"/>
                </a:cubicBezTo>
                <a:cubicBezTo>
                  <a:pt x="16338" y="10592"/>
                  <a:pt x="16427" y="10632"/>
                  <a:pt x="16520" y="10641"/>
                </a:cubicBezTo>
                <a:cubicBezTo>
                  <a:pt x="16568" y="10646"/>
                  <a:pt x="16702" y="10679"/>
                  <a:pt x="16743" y="10666"/>
                </a:cubicBezTo>
                <a:cubicBezTo>
                  <a:pt x="16751" y="10658"/>
                  <a:pt x="16760" y="10649"/>
                  <a:pt x="16768" y="10641"/>
                </a:cubicBezTo>
              </a:path>
              <a:path w="17488" h="2977">
                <a:moveTo>
                  <a:pt x="17264" y="9451"/>
                </a:moveTo>
                <a:cubicBezTo>
                  <a:pt x="17244" y="9573"/>
                  <a:pt x="17206" y="9702"/>
                  <a:pt x="17190" y="9823"/>
                </a:cubicBezTo>
                <a:cubicBezTo>
                  <a:pt x="17171" y="9961"/>
                  <a:pt x="17179" y="10135"/>
                  <a:pt x="17214" y="10269"/>
                </a:cubicBezTo>
                <a:cubicBezTo>
                  <a:pt x="17238" y="10358"/>
                  <a:pt x="17264" y="10457"/>
                  <a:pt x="17338" y="10517"/>
                </a:cubicBezTo>
                <a:cubicBezTo>
                  <a:pt x="17404" y="10571"/>
                  <a:pt x="17471" y="10630"/>
                  <a:pt x="17562" y="10616"/>
                </a:cubicBezTo>
                <a:cubicBezTo>
                  <a:pt x="17673" y="10599"/>
                  <a:pt x="17786" y="10491"/>
                  <a:pt x="17835" y="10393"/>
                </a:cubicBezTo>
                <a:cubicBezTo>
                  <a:pt x="17890" y="10282"/>
                  <a:pt x="17945" y="10145"/>
                  <a:pt x="17959" y="10021"/>
                </a:cubicBezTo>
                <a:cubicBezTo>
                  <a:pt x="17973" y="9897"/>
                  <a:pt x="17961" y="9738"/>
                  <a:pt x="17909" y="9624"/>
                </a:cubicBezTo>
                <a:cubicBezTo>
                  <a:pt x="17870" y="9539"/>
                  <a:pt x="17798" y="9400"/>
                  <a:pt x="17711" y="9351"/>
                </a:cubicBezTo>
                <a:cubicBezTo>
                  <a:pt x="17610" y="9295"/>
                  <a:pt x="17508" y="9223"/>
                  <a:pt x="17388" y="9277"/>
                </a:cubicBezTo>
                <a:cubicBezTo>
                  <a:pt x="17303" y="9315"/>
                  <a:pt x="17233" y="9370"/>
                  <a:pt x="17190" y="9451"/>
                </a:cubicBezTo>
                <a:cubicBezTo>
                  <a:pt x="17136" y="9552"/>
                  <a:pt x="17105" y="9637"/>
                  <a:pt x="17090" y="9748"/>
                </a:cubicBezTo>
                <a:cubicBezTo>
                  <a:pt x="17083" y="9800"/>
                  <a:pt x="17105" y="9849"/>
                  <a:pt x="17115" y="9897"/>
                </a:cubicBezTo>
              </a:path>
              <a:path w="17488" h="2977">
                <a:moveTo>
                  <a:pt x="17090" y="9798"/>
                </a:moveTo>
                <a:cubicBezTo>
                  <a:pt x="17189" y="9780"/>
                  <a:pt x="17310" y="9754"/>
                  <a:pt x="17413" y="9773"/>
                </a:cubicBezTo>
                <a:cubicBezTo>
                  <a:pt x="17524" y="9794"/>
                  <a:pt x="17594" y="9870"/>
                  <a:pt x="17686" y="9922"/>
                </a:cubicBezTo>
                <a:cubicBezTo>
                  <a:pt x="17757" y="9962"/>
                  <a:pt x="17814" y="10034"/>
                  <a:pt x="17884" y="10071"/>
                </a:cubicBezTo>
                <a:cubicBezTo>
                  <a:pt x="17956" y="10109"/>
                  <a:pt x="18038" y="10131"/>
                  <a:pt x="18107" y="10170"/>
                </a:cubicBezTo>
                <a:cubicBezTo>
                  <a:pt x="18151" y="10192"/>
                  <a:pt x="18163" y="10195"/>
                  <a:pt x="18182" y="10220"/>
                </a:cubicBezTo>
              </a:path>
              <a:path w="17488" h="2977">
                <a:moveTo>
                  <a:pt x="18554" y="10641"/>
                </a:moveTo>
                <a:cubicBezTo>
                  <a:pt x="18645" y="10559"/>
                  <a:pt x="18681" y="10562"/>
                  <a:pt x="18777" y="10517"/>
                </a:cubicBezTo>
                <a:cubicBezTo>
                  <a:pt x="18832" y="10491"/>
                  <a:pt x="18889" y="10472"/>
                  <a:pt x="18951" y="10517"/>
                </a:cubicBezTo>
                <a:cubicBezTo>
                  <a:pt x="19003" y="10555"/>
                  <a:pt x="19112" y="10650"/>
                  <a:pt x="19124" y="10716"/>
                </a:cubicBezTo>
                <a:cubicBezTo>
                  <a:pt x="19145" y="10836"/>
                  <a:pt x="19101" y="10937"/>
                  <a:pt x="19050" y="11038"/>
                </a:cubicBezTo>
                <a:cubicBezTo>
                  <a:pt x="19015" y="11107"/>
                  <a:pt x="18972" y="11227"/>
                  <a:pt x="18926" y="11286"/>
                </a:cubicBezTo>
                <a:cubicBezTo>
                  <a:pt x="18872" y="11355"/>
                  <a:pt x="18811" y="11443"/>
                  <a:pt x="18752" y="11509"/>
                </a:cubicBezTo>
                <a:cubicBezTo>
                  <a:pt x="18728" y="11534"/>
                  <a:pt x="18720" y="11543"/>
                  <a:pt x="18703" y="11559"/>
                </a:cubicBezTo>
                <a:cubicBezTo>
                  <a:pt x="18808" y="11550"/>
                  <a:pt x="18876" y="11543"/>
                  <a:pt x="18976" y="11559"/>
                </a:cubicBezTo>
                <a:cubicBezTo>
                  <a:pt x="19057" y="11572"/>
                  <a:pt x="19143" y="11580"/>
                  <a:pt x="19224" y="11584"/>
                </a:cubicBezTo>
                <a:cubicBezTo>
                  <a:pt x="19240" y="11584"/>
                  <a:pt x="19257" y="11584"/>
                  <a:pt x="19273" y="11584"/>
                </a:cubicBezTo>
              </a:path>
              <a:path w="17488" h="2977">
                <a:moveTo>
                  <a:pt x="19472" y="10691"/>
                </a:moveTo>
                <a:cubicBezTo>
                  <a:pt x="19472" y="10797"/>
                  <a:pt x="19485" y="10886"/>
                  <a:pt x="19496" y="10988"/>
                </a:cubicBezTo>
                <a:cubicBezTo>
                  <a:pt x="19506" y="11081"/>
                  <a:pt x="19510" y="11175"/>
                  <a:pt x="19546" y="11261"/>
                </a:cubicBezTo>
                <a:cubicBezTo>
                  <a:pt x="19588" y="11359"/>
                  <a:pt x="19566" y="11402"/>
                  <a:pt x="19670" y="11460"/>
                </a:cubicBezTo>
                <a:cubicBezTo>
                  <a:pt x="19797" y="11531"/>
                  <a:pt x="19879" y="11459"/>
                  <a:pt x="19943" y="11361"/>
                </a:cubicBezTo>
                <a:cubicBezTo>
                  <a:pt x="20008" y="11261"/>
                  <a:pt x="20077" y="11189"/>
                  <a:pt x="20092" y="11063"/>
                </a:cubicBezTo>
                <a:cubicBezTo>
                  <a:pt x="20103" y="10977"/>
                  <a:pt x="20109" y="10842"/>
                  <a:pt x="20067" y="10765"/>
                </a:cubicBezTo>
                <a:cubicBezTo>
                  <a:pt x="20023" y="10685"/>
                  <a:pt x="19955" y="10647"/>
                  <a:pt x="19893" y="10592"/>
                </a:cubicBezTo>
                <a:cubicBezTo>
                  <a:pt x="19819" y="10526"/>
                  <a:pt x="19700" y="10492"/>
                  <a:pt x="19596" y="10517"/>
                </a:cubicBezTo>
                <a:cubicBezTo>
                  <a:pt x="19540" y="10530"/>
                  <a:pt x="19466" y="10625"/>
                  <a:pt x="19422" y="10666"/>
                </a:cubicBezTo>
                <a:cubicBezTo>
                  <a:pt x="19366" y="10718"/>
                  <a:pt x="19399" y="10826"/>
                  <a:pt x="19422" y="10889"/>
                </a:cubicBezTo>
                <a:cubicBezTo>
                  <a:pt x="19430" y="10906"/>
                  <a:pt x="19439" y="10922"/>
                  <a:pt x="19447" y="10939"/>
                </a:cubicBezTo>
              </a:path>
              <a:path w="17488" h="2977">
                <a:moveTo>
                  <a:pt x="19348" y="10939"/>
                </a:moveTo>
                <a:cubicBezTo>
                  <a:pt x="19389" y="10866"/>
                  <a:pt x="19420" y="10853"/>
                  <a:pt x="19496" y="10815"/>
                </a:cubicBezTo>
                <a:cubicBezTo>
                  <a:pt x="19571" y="10777"/>
                  <a:pt x="19635" y="10744"/>
                  <a:pt x="19720" y="10740"/>
                </a:cubicBezTo>
                <a:cubicBezTo>
                  <a:pt x="19817" y="10736"/>
                  <a:pt x="19877" y="10735"/>
                  <a:pt x="19943" y="10815"/>
                </a:cubicBezTo>
                <a:cubicBezTo>
                  <a:pt x="20002" y="10887"/>
                  <a:pt x="20047" y="10934"/>
                  <a:pt x="20092" y="11013"/>
                </a:cubicBezTo>
                <a:cubicBezTo>
                  <a:pt x="20132" y="11084"/>
                  <a:pt x="20159" y="11135"/>
                  <a:pt x="20216" y="11187"/>
                </a:cubicBezTo>
                <a:cubicBezTo>
                  <a:pt x="20276" y="11242"/>
                  <a:pt x="20338" y="11237"/>
                  <a:pt x="20414" y="11237"/>
                </a:cubicBezTo>
              </a:path>
              <a:path w="17488" h="2977">
                <a:moveTo>
                  <a:pt x="20638" y="10815"/>
                </a:moveTo>
                <a:cubicBezTo>
                  <a:pt x="20742" y="10815"/>
                  <a:pt x="20811" y="10821"/>
                  <a:pt x="20910" y="10840"/>
                </a:cubicBezTo>
                <a:cubicBezTo>
                  <a:pt x="20918" y="10840"/>
                  <a:pt x="20927" y="10840"/>
                  <a:pt x="20935" y="10840"/>
                </a:cubicBezTo>
              </a:path>
              <a:path w="17488" h="2977">
                <a:moveTo>
                  <a:pt x="20737" y="11013"/>
                </a:moveTo>
                <a:cubicBezTo>
                  <a:pt x="20737" y="11030"/>
                  <a:pt x="20737" y="11046"/>
                  <a:pt x="20737" y="11063"/>
                </a:cubicBezTo>
                <a:cubicBezTo>
                  <a:pt x="20823" y="11063"/>
                  <a:pt x="20885" y="11085"/>
                  <a:pt x="20960" y="11088"/>
                </a:cubicBezTo>
                <a:cubicBezTo>
                  <a:pt x="21038" y="11088"/>
                  <a:pt x="21056" y="11103"/>
                  <a:pt x="21084" y="11063"/>
                </a:cubicBezTo>
              </a:path>
              <a:path w="17488" h="2977">
                <a:moveTo>
                  <a:pt x="21431" y="10641"/>
                </a:moveTo>
                <a:cubicBezTo>
                  <a:pt x="21431" y="10835"/>
                  <a:pt x="21427" y="11023"/>
                  <a:pt x="21406" y="11212"/>
                </a:cubicBezTo>
                <a:cubicBezTo>
                  <a:pt x="21392" y="11339"/>
                  <a:pt x="21386" y="11515"/>
                  <a:pt x="21431" y="11633"/>
                </a:cubicBezTo>
              </a:path>
              <a:path w="17488" h="2977">
                <a:moveTo>
                  <a:pt x="21779" y="10666"/>
                </a:moveTo>
                <a:cubicBezTo>
                  <a:pt x="21842" y="10592"/>
                  <a:pt x="21889" y="10596"/>
                  <a:pt x="21977" y="10567"/>
                </a:cubicBezTo>
                <a:cubicBezTo>
                  <a:pt x="22047" y="10544"/>
                  <a:pt x="22106" y="10527"/>
                  <a:pt x="22175" y="10517"/>
                </a:cubicBezTo>
              </a:path>
              <a:path w="17488" h="2977">
                <a:moveTo>
                  <a:pt x="21828" y="10567"/>
                </a:moveTo>
                <a:cubicBezTo>
                  <a:pt x="21791" y="10658"/>
                  <a:pt x="21765" y="10752"/>
                  <a:pt x="21729" y="10840"/>
                </a:cubicBezTo>
                <a:cubicBezTo>
                  <a:pt x="21704" y="10901"/>
                  <a:pt x="21689" y="10970"/>
                  <a:pt x="21679" y="11038"/>
                </a:cubicBezTo>
                <a:cubicBezTo>
                  <a:pt x="21768" y="11038"/>
                  <a:pt x="21867" y="10997"/>
                  <a:pt x="21952" y="11013"/>
                </a:cubicBezTo>
                <a:cubicBezTo>
                  <a:pt x="22030" y="11027"/>
                  <a:pt x="22129" y="11043"/>
                  <a:pt x="22200" y="11088"/>
                </a:cubicBezTo>
                <a:cubicBezTo>
                  <a:pt x="22253" y="11121"/>
                  <a:pt x="22310" y="11199"/>
                  <a:pt x="22324" y="11261"/>
                </a:cubicBezTo>
                <a:cubicBezTo>
                  <a:pt x="22341" y="11337"/>
                  <a:pt x="22310" y="11376"/>
                  <a:pt x="22275" y="11435"/>
                </a:cubicBezTo>
                <a:cubicBezTo>
                  <a:pt x="22215" y="11536"/>
                  <a:pt x="22199" y="11540"/>
                  <a:pt x="22101" y="11584"/>
                </a:cubicBezTo>
                <a:cubicBezTo>
                  <a:pt x="22043" y="11610"/>
                  <a:pt x="21942" y="11632"/>
                  <a:pt x="21878" y="11609"/>
                </a:cubicBezTo>
                <a:cubicBezTo>
                  <a:pt x="21836" y="11594"/>
                  <a:pt x="21798" y="11519"/>
                  <a:pt x="21779" y="11485"/>
                </a:cubicBezTo>
              </a:path>
              <a:path w="17488" h="2977">
                <a:moveTo>
                  <a:pt x="22399" y="10716"/>
                </a:moveTo>
                <a:cubicBezTo>
                  <a:pt x="22399" y="10888"/>
                  <a:pt x="22358" y="11129"/>
                  <a:pt x="22423" y="11286"/>
                </a:cubicBezTo>
                <a:cubicBezTo>
                  <a:pt x="22456" y="11365"/>
                  <a:pt x="22487" y="11409"/>
                  <a:pt x="22547" y="11460"/>
                </a:cubicBezTo>
                <a:cubicBezTo>
                  <a:pt x="22635" y="11534"/>
                  <a:pt x="22766" y="11523"/>
                  <a:pt x="22845" y="11435"/>
                </a:cubicBezTo>
                <a:cubicBezTo>
                  <a:pt x="22899" y="11375"/>
                  <a:pt x="22956" y="11244"/>
                  <a:pt x="22969" y="11162"/>
                </a:cubicBezTo>
                <a:cubicBezTo>
                  <a:pt x="22985" y="11058"/>
                  <a:pt x="22986" y="10971"/>
                  <a:pt x="22969" y="10864"/>
                </a:cubicBezTo>
                <a:cubicBezTo>
                  <a:pt x="22949" y="10737"/>
                  <a:pt x="22930" y="10701"/>
                  <a:pt x="22845" y="10616"/>
                </a:cubicBezTo>
                <a:cubicBezTo>
                  <a:pt x="22785" y="10556"/>
                  <a:pt x="22758" y="10522"/>
                  <a:pt x="22671" y="10517"/>
                </a:cubicBezTo>
                <a:cubicBezTo>
                  <a:pt x="22588" y="10512"/>
                  <a:pt x="22553" y="10561"/>
                  <a:pt x="22498" y="10616"/>
                </a:cubicBezTo>
                <a:cubicBezTo>
                  <a:pt x="22418" y="10696"/>
                  <a:pt x="22393" y="10775"/>
                  <a:pt x="22374" y="10889"/>
                </a:cubicBezTo>
                <a:cubicBezTo>
                  <a:pt x="22365" y="10944"/>
                  <a:pt x="22374" y="11007"/>
                  <a:pt x="22374" y="110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Ink 8"/>
          <p:cNvSpPr/>
          <p:nvPr/>
        </p:nvSpPr>
        <p:spPr>
          <a:xfrm>
            <a:off x="2768760" y="4348080"/>
            <a:ext cx="142560" cy="7308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7689" y="12179"/>
                </a:moveTo>
                <a:cubicBezTo>
                  <a:pt x="7734" y="12153"/>
                  <a:pt x="7793" y="12111"/>
                  <a:pt x="7838" y="12105"/>
                </a:cubicBezTo>
                <a:cubicBezTo>
                  <a:pt x="7916" y="12094"/>
                  <a:pt x="7982" y="12080"/>
                  <a:pt x="8062" y="12080"/>
                </a:cubicBezTo>
              </a:path>
              <a:path w="398" h="199">
                <a:moveTo>
                  <a:pt x="7689" y="12278"/>
                </a:moveTo>
                <a:cubicBezTo>
                  <a:pt x="7764" y="12268"/>
                  <a:pt x="7832" y="12240"/>
                  <a:pt x="7913" y="12229"/>
                </a:cubicBezTo>
                <a:cubicBezTo>
                  <a:pt x="7968" y="12221"/>
                  <a:pt x="8030" y="12229"/>
                  <a:pt x="8086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Ink 9"/>
          <p:cNvSpPr/>
          <p:nvPr/>
        </p:nvSpPr>
        <p:spPr>
          <a:xfrm>
            <a:off x="3152880" y="4081320"/>
            <a:ext cx="3259080" cy="642960"/>
          </a:xfrm>
          <a:custGeom>
            <a:avLst/>
            <a:gdLst/>
            <a:ahLst/>
            <a:rect l="l" t="t" r="r" b="b"/>
            <a:pathLst>
              <a:path w="9055" h="1787">
                <a:moveTo>
                  <a:pt x="9327" y="11534"/>
                </a:moveTo>
                <a:cubicBezTo>
                  <a:pt x="9327" y="11616"/>
                  <a:pt x="9306" y="11677"/>
                  <a:pt x="9302" y="11757"/>
                </a:cubicBezTo>
                <a:cubicBezTo>
                  <a:pt x="9298" y="11848"/>
                  <a:pt x="9302" y="11939"/>
                  <a:pt x="9302" y="12030"/>
                </a:cubicBezTo>
              </a:path>
              <a:path w="9055" h="1787">
                <a:moveTo>
                  <a:pt x="8830" y="12030"/>
                </a:moveTo>
                <a:cubicBezTo>
                  <a:pt x="8990" y="12030"/>
                  <a:pt x="9150" y="12036"/>
                  <a:pt x="9302" y="12055"/>
                </a:cubicBezTo>
                <a:cubicBezTo>
                  <a:pt x="9392" y="12066"/>
                  <a:pt x="9487" y="12070"/>
                  <a:pt x="9575" y="12080"/>
                </a:cubicBezTo>
                <a:cubicBezTo>
                  <a:pt x="9645" y="12088"/>
                  <a:pt x="9714" y="12093"/>
                  <a:pt x="9773" y="12105"/>
                </a:cubicBezTo>
                <a:cubicBezTo>
                  <a:pt x="9790" y="12105"/>
                  <a:pt x="9806" y="12105"/>
                  <a:pt x="9823" y="12105"/>
                </a:cubicBezTo>
              </a:path>
              <a:path w="9055" h="1787">
                <a:moveTo>
                  <a:pt x="8781" y="12353"/>
                </a:moveTo>
                <a:cubicBezTo>
                  <a:pt x="8909" y="12321"/>
                  <a:pt x="9033" y="12264"/>
                  <a:pt x="9153" y="12328"/>
                </a:cubicBezTo>
                <a:cubicBezTo>
                  <a:pt x="9203" y="12355"/>
                  <a:pt x="9268" y="12383"/>
                  <a:pt x="9252" y="12452"/>
                </a:cubicBezTo>
                <a:cubicBezTo>
                  <a:pt x="9237" y="12514"/>
                  <a:pt x="9155" y="12548"/>
                  <a:pt x="9103" y="12576"/>
                </a:cubicBezTo>
                <a:cubicBezTo>
                  <a:pt x="9043" y="12608"/>
                  <a:pt x="8971" y="12618"/>
                  <a:pt x="8905" y="12626"/>
                </a:cubicBezTo>
                <a:cubicBezTo>
                  <a:pt x="9012" y="12590"/>
                  <a:pt x="9060" y="12601"/>
                  <a:pt x="9153" y="12650"/>
                </a:cubicBezTo>
                <a:cubicBezTo>
                  <a:pt x="9207" y="12678"/>
                  <a:pt x="9296" y="12694"/>
                  <a:pt x="9277" y="12774"/>
                </a:cubicBezTo>
                <a:cubicBezTo>
                  <a:pt x="9261" y="12840"/>
                  <a:pt x="9185" y="12898"/>
                  <a:pt x="9128" y="12923"/>
                </a:cubicBezTo>
                <a:cubicBezTo>
                  <a:pt x="9040" y="12961"/>
                  <a:pt x="8941" y="12971"/>
                  <a:pt x="8855" y="12948"/>
                </a:cubicBezTo>
                <a:cubicBezTo>
                  <a:pt x="8738" y="12916"/>
                  <a:pt x="8756" y="12883"/>
                  <a:pt x="8756" y="12774"/>
                </a:cubicBezTo>
              </a:path>
              <a:path w="9055" h="1787">
                <a:moveTo>
                  <a:pt x="9451" y="12353"/>
                </a:moveTo>
                <a:cubicBezTo>
                  <a:pt x="9508" y="12287"/>
                  <a:pt x="9534" y="12241"/>
                  <a:pt x="9624" y="12229"/>
                </a:cubicBezTo>
                <a:cubicBezTo>
                  <a:pt x="9669" y="12223"/>
                  <a:pt x="9779" y="12213"/>
                  <a:pt x="9798" y="12278"/>
                </a:cubicBezTo>
                <a:cubicBezTo>
                  <a:pt x="9813" y="12330"/>
                  <a:pt x="9791" y="12431"/>
                  <a:pt x="9773" y="12477"/>
                </a:cubicBezTo>
                <a:cubicBezTo>
                  <a:pt x="9751" y="12533"/>
                  <a:pt x="9693" y="12707"/>
                  <a:pt x="9649" y="12750"/>
                </a:cubicBezTo>
                <a:cubicBezTo>
                  <a:pt x="9599" y="12799"/>
                  <a:pt x="9570" y="12839"/>
                  <a:pt x="9525" y="12898"/>
                </a:cubicBezTo>
                <a:cubicBezTo>
                  <a:pt x="9505" y="12925"/>
                  <a:pt x="9475" y="12949"/>
                  <a:pt x="9451" y="12973"/>
                </a:cubicBezTo>
                <a:cubicBezTo>
                  <a:pt x="9499" y="12993"/>
                  <a:pt x="9578" y="12973"/>
                  <a:pt x="9649" y="12973"/>
                </a:cubicBezTo>
                <a:cubicBezTo>
                  <a:pt x="9748" y="12973"/>
                  <a:pt x="9848" y="12973"/>
                  <a:pt x="9947" y="12973"/>
                </a:cubicBezTo>
              </a:path>
              <a:path w="9055" h="1787">
                <a:moveTo>
                  <a:pt x="10468" y="11633"/>
                </a:moveTo>
                <a:cubicBezTo>
                  <a:pt x="10432" y="11752"/>
                  <a:pt x="10407" y="11863"/>
                  <a:pt x="10368" y="11981"/>
                </a:cubicBezTo>
                <a:cubicBezTo>
                  <a:pt x="10327" y="12106"/>
                  <a:pt x="10259" y="12219"/>
                  <a:pt x="10244" y="12353"/>
                </a:cubicBezTo>
                <a:cubicBezTo>
                  <a:pt x="10229" y="12486"/>
                  <a:pt x="10220" y="12615"/>
                  <a:pt x="10220" y="12750"/>
                </a:cubicBezTo>
                <a:cubicBezTo>
                  <a:pt x="10220" y="12844"/>
                  <a:pt x="10253" y="12916"/>
                  <a:pt x="10294" y="12998"/>
                </a:cubicBezTo>
                <a:cubicBezTo>
                  <a:pt x="10328" y="13065"/>
                  <a:pt x="10402" y="13083"/>
                  <a:pt x="10468" y="13122"/>
                </a:cubicBezTo>
              </a:path>
              <a:path w="9055" h="1787">
                <a:moveTo>
                  <a:pt x="10815" y="12030"/>
                </a:moveTo>
                <a:cubicBezTo>
                  <a:pt x="10815" y="12153"/>
                  <a:pt x="10794" y="12259"/>
                  <a:pt x="10790" y="12378"/>
                </a:cubicBezTo>
                <a:cubicBezTo>
                  <a:pt x="10786" y="12496"/>
                  <a:pt x="10757" y="12678"/>
                  <a:pt x="10840" y="12774"/>
                </a:cubicBezTo>
                <a:cubicBezTo>
                  <a:pt x="10895" y="12838"/>
                  <a:pt x="10999" y="12899"/>
                  <a:pt x="11088" y="12874"/>
                </a:cubicBezTo>
                <a:cubicBezTo>
                  <a:pt x="11145" y="12858"/>
                  <a:pt x="11227" y="12774"/>
                  <a:pt x="11261" y="12725"/>
                </a:cubicBezTo>
                <a:cubicBezTo>
                  <a:pt x="11310" y="12656"/>
                  <a:pt x="11311" y="12582"/>
                  <a:pt x="11311" y="12502"/>
                </a:cubicBezTo>
                <a:cubicBezTo>
                  <a:pt x="11311" y="12436"/>
                  <a:pt x="11281" y="12422"/>
                  <a:pt x="11237" y="12378"/>
                </a:cubicBezTo>
                <a:cubicBezTo>
                  <a:pt x="11185" y="12395"/>
                  <a:pt x="11150" y="12445"/>
                  <a:pt x="11137" y="12526"/>
                </a:cubicBezTo>
                <a:cubicBezTo>
                  <a:pt x="11125" y="12599"/>
                  <a:pt x="11144" y="12721"/>
                  <a:pt x="11187" y="12774"/>
                </a:cubicBezTo>
                <a:cubicBezTo>
                  <a:pt x="11210" y="12797"/>
                  <a:pt x="11218" y="12801"/>
                  <a:pt x="11212" y="12824"/>
                </a:cubicBezTo>
              </a:path>
              <a:path w="9055" h="1787">
                <a:moveTo>
                  <a:pt x="11584" y="11931"/>
                </a:moveTo>
                <a:cubicBezTo>
                  <a:pt x="11574" y="12030"/>
                  <a:pt x="11557" y="12033"/>
                  <a:pt x="11485" y="12105"/>
                </a:cubicBezTo>
                <a:cubicBezTo>
                  <a:pt x="11455" y="12135"/>
                  <a:pt x="11418" y="12153"/>
                  <a:pt x="11385" y="12179"/>
                </a:cubicBezTo>
                <a:cubicBezTo>
                  <a:pt x="11452" y="12212"/>
                  <a:pt x="11513" y="12184"/>
                  <a:pt x="11584" y="12204"/>
                </a:cubicBezTo>
                <a:cubicBezTo>
                  <a:pt x="11655" y="12224"/>
                  <a:pt x="11716" y="12254"/>
                  <a:pt x="11782" y="12278"/>
                </a:cubicBezTo>
                <a:cubicBezTo>
                  <a:pt x="11862" y="12307"/>
                  <a:pt x="11938" y="12319"/>
                  <a:pt x="12005" y="12278"/>
                </a:cubicBezTo>
              </a:path>
              <a:path w="9055" h="1787">
                <a:moveTo>
                  <a:pt x="11658" y="11981"/>
                </a:moveTo>
                <a:cubicBezTo>
                  <a:pt x="11721" y="12079"/>
                  <a:pt x="11707" y="12105"/>
                  <a:pt x="11733" y="12204"/>
                </a:cubicBezTo>
                <a:cubicBezTo>
                  <a:pt x="11756" y="12289"/>
                  <a:pt x="11757" y="12361"/>
                  <a:pt x="11757" y="12452"/>
                </a:cubicBezTo>
                <a:cubicBezTo>
                  <a:pt x="11757" y="12520"/>
                  <a:pt x="11765" y="12660"/>
                  <a:pt x="11782" y="12725"/>
                </a:cubicBezTo>
                <a:cubicBezTo>
                  <a:pt x="11791" y="12758"/>
                  <a:pt x="11835" y="12788"/>
                  <a:pt x="11857" y="12799"/>
                </a:cubicBezTo>
              </a:path>
              <a:path w="9055" h="1787">
                <a:moveTo>
                  <a:pt x="12105" y="12005"/>
                </a:moveTo>
                <a:cubicBezTo>
                  <a:pt x="12137" y="12060"/>
                  <a:pt x="12129" y="12112"/>
                  <a:pt x="12129" y="12179"/>
                </a:cubicBezTo>
                <a:cubicBezTo>
                  <a:pt x="12129" y="12317"/>
                  <a:pt x="12136" y="12443"/>
                  <a:pt x="12154" y="12576"/>
                </a:cubicBezTo>
                <a:cubicBezTo>
                  <a:pt x="12169" y="12685"/>
                  <a:pt x="12163" y="12772"/>
                  <a:pt x="12303" y="12750"/>
                </a:cubicBezTo>
                <a:cubicBezTo>
                  <a:pt x="12383" y="12738"/>
                  <a:pt x="12465" y="12620"/>
                  <a:pt x="12502" y="12551"/>
                </a:cubicBezTo>
                <a:cubicBezTo>
                  <a:pt x="12555" y="12452"/>
                  <a:pt x="12551" y="12337"/>
                  <a:pt x="12551" y="12229"/>
                </a:cubicBezTo>
                <a:cubicBezTo>
                  <a:pt x="12551" y="12133"/>
                  <a:pt x="12500" y="12093"/>
                  <a:pt x="12452" y="12030"/>
                </a:cubicBezTo>
                <a:cubicBezTo>
                  <a:pt x="12399" y="11960"/>
                  <a:pt x="12341" y="11915"/>
                  <a:pt x="12254" y="11956"/>
                </a:cubicBezTo>
                <a:cubicBezTo>
                  <a:pt x="12203" y="11980"/>
                  <a:pt x="12182" y="12032"/>
                  <a:pt x="12179" y="12080"/>
                </a:cubicBezTo>
                <a:cubicBezTo>
                  <a:pt x="12175" y="12148"/>
                  <a:pt x="12187" y="12176"/>
                  <a:pt x="12229" y="12229"/>
                </a:cubicBezTo>
              </a:path>
              <a:path w="9055" h="1787">
                <a:moveTo>
                  <a:pt x="12700" y="11956"/>
                </a:moveTo>
                <a:cubicBezTo>
                  <a:pt x="12700" y="12107"/>
                  <a:pt x="12664" y="12286"/>
                  <a:pt x="12675" y="12427"/>
                </a:cubicBezTo>
                <a:cubicBezTo>
                  <a:pt x="12681" y="12509"/>
                  <a:pt x="12702" y="12635"/>
                  <a:pt x="12750" y="12700"/>
                </a:cubicBezTo>
                <a:cubicBezTo>
                  <a:pt x="12787" y="12751"/>
                  <a:pt x="12835" y="12764"/>
                  <a:pt x="12898" y="12750"/>
                </a:cubicBezTo>
                <a:cubicBezTo>
                  <a:pt x="13016" y="12724"/>
                  <a:pt x="13049" y="12677"/>
                  <a:pt x="13097" y="12576"/>
                </a:cubicBezTo>
                <a:cubicBezTo>
                  <a:pt x="13135" y="12497"/>
                  <a:pt x="13167" y="12416"/>
                  <a:pt x="13171" y="12328"/>
                </a:cubicBezTo>
                <a:cubicBezTo>
                  <a:pt x="13175" y="12236"/>
                  <a:pt x="13139" y="12097"/>
                  <a:pt x="13072" y="12030"/>
                </a:cubicBezTo>
                <a:cubicBezTo>
                  <a:pt x="13040" y="11998"/>
                  <a:pt x="12924" y="11915"/>
                  <a:pt x="12874" y="11906"/>
                </a:cubicBezTo>
                <a:cubicBezTo>
                  <a:pt x="12778" y="11888"/>
                  <a:pt x="12742" y="11933"/>
                  <a:pt x="12700" y="12005"/>
                </a:cubicBezTo>
              </a:path>
              <a:path w="9055" h="1787">
                <a:moveTo>
                  <a:pt x="13022" y="11559"/>
                </a:moveTo>
                <a:cubicBezTo>
                  <a:pt x="13084" y="11595"/>
                  <a:pt x="13119" y="11632"/>
                  <a:pt x="13171" y="11683"/>
                </a:cubicBezTo>
                <a:cubicBezTo>
                  <a:pt x="13282" y="11793"/>
                  <a:pt x="13411" y="11938"/>
                  <a:pt x="13469" y="12080"/>
                </a:cubicBezTo>
                <a:cubicBezTo>
                  <a:pt x="13508" y="12175"/>
                  <a:pt x="13593" y="12281"/>
                  <a:pt x="13618" y="12378"/>
                </a:cubicBezTo>
                <a:cubicBezTo>
                  <a:pt x="13640" y="12462"/>
                  <a:pt x="13643" y="12561"/>
                  <a:pt x="13643" y="12650"/>
                </a:cubicBezTo>
                <a:cubicBezTo>
                  <a:pt x="13643" y="12722"/>
                  <a:pt x="13605" y="12765"/>
                  <a:pt x="13568" y="12824"/>
                </a:cubicBezTo>
                <a:cubicBezTo>
                  <a:pt x="13499" y="12932"/>
                  <a:pt x="13492" y="12903"/>
                  <a:pt x="13395" y="12948"/>
                </a:cubicBezTo>
                <a:cubicBezTo>
                  <a:pt x="13372" y="12971"/>
                  <a:pt x="13368" y="12979"/>
                  <a:pt x="13345" y="12973"/>
                </a:cubicBezTo>
              </a:path>
              <a:path w="9055" h="1787">
                <a:moveTo>
                  <a:pt x="14238" y="11832"/>
                </a:moveTo>
                <a:cubicBezTo>
                  <a:pt x="14299" y="11770"/>
                  <a:pt x="14342" y="11745"/>
                  <a:pt x="14263" y="11757"/>
                </a:cubicBezTo>
                <a:cubicBezTo>
                  <a:pt x="14216" y="11764"/>
                  <a:pt x="14149" y="11791"/>
                  <a:pt x="14114" y="11832"/>
                </a:cubicBezTo>
                <a:cubicBezTo>
                  <a:pt x="13918" y="12060"/>
                  <a:pt x="14334" y="12271"/>
                  <a:pt x="14436" y="12452"/>
                </a:cubicBezTo>
                <a:cubicBezTo>
                  <a:pt x="14464" y="12501"/>
                  <a:pt x="14521" y="12617"/>
                  <a:pt x="14511" y="12675"/>
                </a:cubicBezTo>
                <a:cubicBezTo>
                  <a:pt x="14504" y="12718"/>
                  <a:pt x="14358" y="12904"/>
                  <a:pt x="14288" y="12799"/>
                </a:cubicBezTo>
                <a:cubicBezTo>
                  <a:pt x="14215" y="12600"/>
                  <a:pt x="14146" y="12579"/>
                  <a:pt x="14213" y="12477"/>
                </a:cubicBezTo>
              </a:path>
              <a:path w="9055" h="1787">
                <a:moveTo>
                  <a:pt x="14709" y="11807"/>
                </a:moveTo>
                <a:cubicBezTo>
                  <a:pt x="14725" y="12030"/>
                  <a:pt x="14750" y="12282"/>
                  <a:pt x="14784" y="12502"/>
                </a:cubicBezTo>
                <a:cubicBezTo>
                  <a:pt x="14793" y="12559"/>
                  <a:pt x="14802" y="12658"/>
                  <a:pt x="14833" y="12700"/>
                </a:cubicBezTo>
                <a:cubicBezTo>
                  <a:pt x="14916" y="12783"/>
                  <a:pt x="14946" y="12712"/>
                  <a:pt x="14932" y="12452"/>
                </a:cubicBezTo>
              </a:path>
              <a:path w="9055" h="1787">
                <a:moveTo>
                  <a:pt x="15056" y="11832"/>
                </a:moveTo>
                <a:cubicBezTo>
                  <a:pt x="15076" y="11892"/>
                  <a:pt x="15075" y="11907"/>
                  <a:pt x="15106" y="11931"/>
                </a:cubicBezTo>
              </a:path>
              <a:path w="9055" h="1787">
                <a:moveTo>
                  <a:pt x="15007" y="11832"/>
                </a:moveTo>
                <a:cubicBezTo>
                  <a:pt x="15017" y="11901"/>
                  <a:pt x="15032" y="11952"/>
                  <a:pt x="15032" y="12030"/>
                </a:cubicBezTo>
                <a:cubicBezTo>
                  <a:pt x="15032" y="12118"/>
                  <a:pt x="15052" y="12192"/>
                  <a:pt x="15056" y="12278"/>
                </a:cubicBezTo>
                <a:cubicBezTo>
                  <a:pt x="15063" y="12423"/>
                  <a:pt x="15058" y="12562"/>
                  <a:pt x="15081" y="12700"/>
                </a:cubicBezTo>
                <a:cubicBezTo>
                  <a:pt x="15081" y="12745"/>
                  <a:pt x="15077" y="12758"/>
                  <a:pt x="15106" y="12774"/>
                </a:cubicBezTo>
                <a:cubicBezTo>
                  <a:pt x="15106" y="12621"/>
                  <a:pt x="15081" y="12445"/>
                  <a:pt x="15131" y="12303"/>
                </a:cubicBezTo>
                <a:cubicBezTo>
                  <a:pt x="15163" y="12212"/>
                  <a:pt x="15168" y="12121"/>
                  <a:pt x="15205" y="12030"/>
                </a:cubicBezTo>
                <a:cubicBezTo>
                  <a:pt x="15224" y="11984"/>
                  <a:pt x="15266" y="11889"/>
                  <a:pt x="15304" y="11857"/>
                </a:cubicBezTo>
                <a:cubicBezTo>
                  <a:pt x="15369" y="11801"/>
                  <a:pt x="15459" y="11793"/>
                  <a:pt x="15528" y="11857"/>
                </a:cubicBezTo>
                <a:cubicBezTo>
                  <a:pt x="15589" y="11913"/>
                  <a:pt x="15620" y="12055"/>
                  <a:pt x="15652" y="12129"/>
                </a:cubicBezTo>
                <a:cubicBezTo>
                  <a:pt x="15686" y="12208"/>
                  <a:pt x="15697" y="12291"/>
                  <a:pt x="15701" y="12378"/>
                </a:cubicBezTo>
                <a:cubicBezTo>
                  <a:pt x="15707" y="12514"/>
                  <a:pt x="15704" y="12645"/>
                  <a:pt x="15726" y="12774"/>
                </a:cubicBezTo>
                <a:cubicBezTo>
                  <a:pt x="15726" y="12816"/>
                  <a:pt x="15726" y="12824"/>
                  <a:pt x="15726" y="12849"/>
                </a:cubicBezTo>
              </a:path>
              <a:path w="9055" h="1787">
                <a:moveTo>
                  <a:pt x="14808" y="11336"/>
                </a:moveTo>
                <a:cubicBezTo>
                  <a:pt x="14830" y="11379"/>
                  <a:pt x="14834" y="11391"/>
                  <a:pt x="14858" y="11410"/>
                </a:cubicBezTo>
              </a:path>
              <a:path w="9055" h="1787">
                <a:moveTo>
                  <a:pt x="16073" y="11807"/>
                </a:moveTo>
                <a:cubicBezTo>
                  <a:pt x="16139" y="11741"/>
                  <a:pt x="16202" y="11652"/>
                  <a:pt x="16297" y="11633"/>
                </a:cubicBezTo>
                <a:cubicBezTo>
                  <a:pt x="16353" y="11622"/>
                  <a:pt x="16431" y="11637"/>
                  <a:pt x="16470" y="11683"/>
                </a:cubicBezTo>
                <a:cubicBezTo>
                  <a:pt x="16546" y="11772"/>
                  <a:pt x="16508" y="11856"/>
                  <a:pt x="16495" y="11956"/>
                </a:cubicBezTo>
                <a:cubicBezTo>
                  <a:pt x="16484" y="12040"/>
                  <a:pt x="16484" y="12097"/>
                  <a:pt x="16446" y="12179"/>
                </a:cubicBezTo>
                <a:cubicBezTo>
                  <a:pt x="16414" y="12247"/>
                  <a:pt x="16381" y="12316"/>
                  <a:pt x="16346" y="12378"/>
                </a:cubicBezTo>
                <a:cubicBezTo>
                  <a:pt x="16306" y="12448"/>
                  <a:pt x="16270" y="12513"/>
                  <a:pt x="16222" y="12576"/>
                </a:cubicBezTo>
                <a:cubicBezTo>
                  <a:pt x="16179" y="12632"/>
                  <a:pt x="16116" y="12705"/>
                  <a:pt x="16098" y="12774"/>
                </a:cubicBezTo>
                <a:cubicBezTo>
                  <a:pt x="16076" y="12859"/>
                  <a:pt x="16182" y="12885"/>
                  <a:pt x="16247" y="12874"/>
                </a:cubicBezTo>
                <a:cubicBezTo>
                  <a:pt x="16342" y="12858"/>
                  <a:pt x="16422" y="12849"/>
                  <a:pt x="16520" y="12849"/>
                </a:cubicBezTo>
                <a:cubicBezTo>
                  <a:pt x="16584" y="12849"/>
                  <a:pt x="16610" y="12846"/>
                  <a:pt x="16669" y="12824"/>
                </a:cubicBezTo>
              </a:path>
              <a:path w="9055" h="1787">
                <a:moveTo>
                  <a:pt x="17066" y="11857"/>
                </a:moveTo>
                <a:cubicBezTo>
                  <a:pt x="17057" y="11941"/>
                  <a:pt x="17026" y="12025"/>
                  <a:pt x="17016" y="12105"/>
                </a:cubicBezTo>
                <a:cubicBezTo>
                  <a:pt x="17002" y="12216"/>
                  <a:pt x="17000" y="12298"/>
                  <a:pt x="17016" y="12402"/>
                </a:cubicBezTo>
                <a:cubicBezTo>
                  <a:pt x="17026" y="12467"/>
                  <a:pt x="17031" y="12543"/>
                  <a:pt x="17066" y="12601"/>
                </a:cubicBezTo>
                <a:cubicBezTo>
                  <a:pt x="17095" y="12649"/>
                  <a:pt x="17149" y="12669"/>
                  <a:pt x="17190" y="12700"/>
                </a:cubicBezTo>
                <a:cubicBezTo>
                  <a:pt x="17235" y="12734"/>
                  <a:pt x="17300" y="12696"/>
                  <a:pt x="17338" y="12650"/>
                </a:cubicBezTo>
                <a:cubicBezTo>
                  <a:pt x="17425" y="12546"/>
                  <a:pt x="17432" y="12474"/>
                  <a:pt x="17462" y="12353"/>
                </a:cubicBezTo>
                <a:cubicBezTo>
                  <a:pt x="17488" y="12251"/>
                  <a:pt x="17487" y="12161"/>
                  <a:pt x="17487" y="12055"/>
                </a:cubicBezTo>
                <a:cubicBezTo>
                  <a:pt x="17487" y="11985"/>
                  <a:pt x="17481" y="11866"/>
                  <a:pt x="17438" y="11807"/>
                </a:cubicBezTo>
                <a:cubicBezTo>
                  <a:pt x="17404" y="11759"/>
                  <a:pt x="17315" y="11681"/>
                  <a:pt x="17264" y="11658"/>
                </a:cubicBezTo>
                <a:cubicBezTo>
                  <a:pt x="17144" y="11603"/>
                  <a:pt x="17106" y="11655"/>
                  <a:pt x="17041" y="11733"/>
                </a:cubicBezTo>
                <a:cubicBezTo>
                  <a:pt x="16966" y="11823"/>
                  <a:pt x="16974" y="11820"/>
                  <a:pt x="16942" y="11931"/>
                </a:cubicBezTo>
                <a:cubicBezTo>
                  <a:pt x="16925" y="11991"/>
                  <a:pt x="16898" y="12062"/>
                  <a:pt x="16917" y="12129"/>
                </a:cubicBezTo>
                <a:cubicBezTo>
                  <a:pt x="16925" y="12146"/>
                  <a:pt x="16934" y="12162"/>
                  <a:pt x="16942" y="12179"/>
                </a:cubicBezTo>
              </a:path>
              <a:path w="9055" h="1787">
                <a:moveTo>
                  <a:pt x="16793" y="11981"/>
                </a:moveTo>
                <a:cubicBezTo>
                  <a:pt x="16900" y="11947"/>
                  <a:pt x="16999" y="11910"/>
                  <a:pt x="17115" y="11931"/>
                </a:cubicBezTo>
                <a:cubicBezTo>
                  <a:pt x="17224" y="11951"/>
                  <a:pt x="17250" y="11982"/>
                  <a:pt x="17314" y="12055"/>
                </a:cubicBezTo>
                <a:cubicBezTo>
                  <a:pt x="17379" y="12130"/>
                  <a:pt x="17458" y="12217"/>
                  <a:pt x="17537" y="12278"/>
                </a:cubicBezTo>
                <a:cubicBezTo>
                  <a:pt x="17605" y="12331"/>
                  <a:pt x="17661" y="12359"/>
                  <a:pt x="17735" y="12378"/>
                </a:cubicBezTo>
                <a:cubicBezTo>
                  <a:pt x="17793" y="12397"/>
                  <a:pt x="17818" y="12387"/>
                  <a:pt x="17810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6634080" y="3705120"/>
            <a:ext cx="54000" cy="885960"/>
          </a:xfrm>
          <a:custGeom>
            <a:avLst/>
            <a:gdLst/>
            <a:ahLst/>
            <a:rect l="l" t="t" r="r" b="b"/>
            <a:pathLst>
              <a:path w="150" h="2457">
                <a:moveTo>
                  <a:pt x="18430" y="10294"/>
                </a:moveTo>
                <a:cubicBezTo>
                  <a:pt x="18430" y="10383"/>
                  <a:pt x="18447" y="10457"/>
                  <a:pt x="18455" y="10542"/>
                </a:cubicBezTo>
                <a:cubicBezTo>
                  <a:pt x="18471" y="10709"/>
                  <a:pt x="18489" y="10897"/>
                  <a:pt x="18479" y="11063"/>
                </a:cubicBezTo>
                <a:cubicBezTo>
                  <a:pt x="18467" y="11254"/>
                  <a:pt x="18455" y="11440"/>
                  <a:pt x="18455" y="11633"/>
                </a:cubicBezTo>
                <a:cubicBezTo>
                  <a:pt x="18455" y="11984"/>
                  <a:pt x="18424" y="12359"/>
                  <a:pt x="18479" y="12700"/>
                </a:cubicBezTo>
                <a:cubicBezTo>
                  <a:pt x="18496" y="12809"/>
                  <a:pt x="18529" y="12731"/>
                  <a:pt x="18579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Ink 11"/>
          <p:cNvSpPr/>
          <p:nvPr/>
        </p:nvSpPr>
        <p:spPr>
          <a:xfrm>
            <a:off x="7027920" y="4340160"/>
            <a:ext cx="1098360" cy="45576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19819" y="12154"/>
                </a:moveTo>
                <a:cubicBezTo>
                  <a:pt x="19757" y="12204"/>
                  <a:pt x="19732" y="12229"/>
                  <a:pt x="19695" y="12303"/>
                </a:cubicBezTo>
                <a:cubicBezTo>
                  <a:pt x="19642" y="12408"/>
                  <a:pt x="19670" y="12557"/>
                  <a:pt x="19670" y="12675"/>
                </a:cubicBezTo>
                <a:cubicBezTo>
                  <a:pt x="19670" y="12768"/>
                  <a:pt x="19691" y="12862"/>
                  <a:pt x="19720" y="12948"/>
                </a:cubicBezTo>
                <a:cubicBezTo>
                  <a:pt x="19764" y="13078"/>
                  <a:pt x="19775" y="13084"/>
                  <a:pt x="19893" y="13122"/>
                </a:cubicBezTo>
                <a:cubicBezTo>
                  <a:pt x="19963" y="13145"/>
                  <a:pt x="20051" y="13155"/>
                  <a:pt x="20117" y="13097"/>
                </a:cubicBezTo>
                <a:cubicBezTo>
                  <a:pt x="20179" y="13042"/>
                  <a:pt x="20262" y="12876"/>
                  <a:pt x="20290" y="12799"/>
                </a:cubicBezTo>
                <a:cubicBezTo>
                  <a:pt x="20351" y="12629"/>
                  <a:pt x="20358" y="12541"/>
                  <a:pt x="20340" y="12378"/>
                </a:cubicBezTo>
                <a:cubicBezTo>
                  <a:pt x="20325" y="12248"/>
                  <a:pt x="20313" y="12234"/>
                  <a:pt x="20216" y="12154"/>
                </a:cubicBezTo>
                <a:cubicBezTo>
                  <a:pt x="20150" y="12099"/>
                  <a:pt x="20088" y="12037"/>
                  <a:pt x="19993" y="12055"/>
                </a:cubicBezTo>
                <a:cubicBezTo>
                  <a:pt x="19926" y="12068"/>
                  <a:pt x="19817" y="12102"/>
                  <a:pt x="19769" y="12154"/>
                </a:cubicBezTo>
                <a:cubicBezTo>
                  <a:pt x="19710" y="12218"/>
                  <a:pt x="19675" y="12291"/>
                  <a:pt x="19670" y="12378"/>
                </a:cubicBezTo>
                <a:cubicBezTo>
                  <a:pt x="19665" y="12472"/>
                  <a:pt x="19665" y="12503"/>
                  <a:pt x="19720" y="12576"/>
                </a:cubicBezTo>
              </a:path>
              <a:path w="3052" h="1266">
                <a:moveTo>
                  <a:pt x="19521" y="12551"/>
                </a:moveTo>
                <a:cubicBezTo>
                  <a:pt x="19569" y="12503"/>
                  <a:pt x="19611" y="12460"/>
                  <a:pt x="19670" y="12427"/>
                </a:cubicBezTo>
                <a:cubicBezTo>
                  <a:pt x="19739" y="12388"/>
                  <a:pt x="19840" y="12382"/>
                  <a:pt x="19918" y="12378"/>
                </a:cubicBezTo>
                <a:cubicBezTo>
                  <a:pt x="20027" y="12373"/>
                  <a:pt x="20056" y="12453"/>
                  <a:pt x="20117" y="12526"/>
                </a:cubicBezTo>
                <a:cubicBezTo>
                  <a:pt x="20181" y="12603"/>
                  <a:pt x="20216" y="12677"/>
                  <a:pt x="20290" y="12750"/>
                </a:cubicBezTo>
                <a:cubicBezTo>
                  <a:pt x="20331" y="12791"/>
                  <a:pt x="20379" y="12860"/>
                  <a:pt x="20439" y="12874"/>
                </a:cubicBezTo>
                <a:cubicBezTo>
                  <a:pt x="20501" y="12889"/>
                  <a:pt x="20531" y="12907"/>
                  <a:pt x="20588" y="12874"/>
                </a:cubicBezTo>
              </a:path>
              <a:path w="3052" h="1266">
                <a:moveTo>
                  <a:pt x="20712" y="12502"/>
                </a:moveTo>
                <a:cubicBezTo>
                  <a:pt x="20819" y="12502"/>
                  <a:pt x="20927" y="12502"/>
                  <a:pt x="21034" y="12502"/>
                </a:cubicBezTo>
              </a:path>
              <a:path w="3052" h="1266">
                <a:moveTo>
                  <a:pt x="20886" y="12650"/>
                </a:moveTo>
                <a:cubicBezTo>
                  <a:pt x="20940" y="12683"/>
                  <a:pt x="20991" y="12675"/>
                  <a:pt x="21059" y="12675"/>
                </a:cubicBezTo>
                <a:cubicBezTo>
                  <a:pt x="21130" y="12675"/>
                  <a:pt x="21155" y="12668"/>
                  <a:pt x="21208" y="12700"/>
                </a:cubicBezTo>
              </a:path>
              <a:path w="3052" h="1266">
                <a:moveTo>
                  <a:pt x="21332" y="12179"/>
                </a:moveTo>
                <a:cubicBezTo>
                  <a:pt x="21425" y="12156"/>
                  <a:pt x="21510" y="12134"/>
                  <a:pt x="21605" y="12129"/>
                </a:cubicBezTo>
                <a:cubicBezTo>
                  <a:pt x="21670" y="12126"/>
                  <a:pt x="21772" y="12144"/>
                  <a:pt x="21828" y="12179"/>
                </a:cubicBezTo>
                <a:cubicBezTo>
                  <a:pt x="21888" y="12216"/>
                  <a:pt x="21890" y="12318"/>
                  <a:pt x="21878" y="12378"/>
                </a:cubicBezTo>
                <a:cubicBezTo>
                  <a:pt x="21860" y="12470"/>
                  <a:pt x="21817" y="12558"/>
                  <a:pt x="21803" y="12650"/>
                </a:cubicBezTo>
                <a:cubicBezTo>
                  <a:pt x="21786" y="12760"/>
                  <a:pt x="21740" y="12861"/>
                  <a:pt x="21704" y="12973"/>
                </a:cubicBezTo>
                <a:cubicBezTo>
                  <a:pt x="21677" y="13057"/>
                  <a:pt x="21642" y="13133"/>
                  <a:pt x="21630" y="13221"/>
                </a:cubicBezTo>
                <a:cubicBezTo>
                  <a:pt x="21621" y="13285"/>
                  <a:pt x="21608" y="13312"/>
                  <a:pt x="21654" y="13295"/>
                </a:cubicBezTo>
              </a:path>
              <a:path w="3052" h="1266">
                <a:moveTo>
                  <a:pt x="22027" y="12229"/>
                </a:moveTo>
                <a:cubicBezTo>
                  <a:pt x="22126" y="12205"/>
                  <a:pt x="22200" y="12179"/>
                  <a:pt x="22299" y="12179"/>
                </a:cubicBezTo>
                <a:cubicBezTo>
                  <a:pt x="22371" y="12179"/>
                  <a:pt x="22408" y="12159"/>
                  <a:pt x="22473" y="12154"/>
                </a:cubicBezTo>
                <a:cubicBezTo>
                  <a:pt x="22481" y="12154"/>
                  <a:pt x="22490" y="12154"/>
                  <a:pt x="22498" y="12154"/>
                </a:cubicBezTo>
              </a:path>
              <a:path w="3052" h="1266">
                <a:moveTo>
                  <a:pt x="22225" y="12154"/>
                </a:moveTo>
                <a:cubicBezTo>
                  <a:pt x="22161" y="12191"/>
                  <a:pt x="22156" y="12239"/>
                  <a:pt x="22101" y="12278"/>
                </a:cubicBezTo>
                <a:cubicBezTo>
                  <a:pt x="22055" y="12311"/>
                  <a:pt x="22010" y="12352"/>
                  <a:pt x="21977" y="12402"/>
                </a:cubicBezTo>
                <a:cubicBezTo>
                  <a:pt x="21919" y="12492"/>
                  <a:pt x="21961" y="12521"/>
                  <a:pt x="22051" y="12526"/>
                </a:cubicBezTo>
                <a:cubicBezTo>
                  <a:pt x="22126" y="12530"/>
                  <a:pt x="22208" y="12562"/>
                  <a:pt x="22275" y="12601"/>
                </a:cubicBezTo>
                <a:cubicBezTo>
                  <a:pt x="22354" y="12647"/>
                  <a:pt x="22433" y="12712"/>
                  <a:pt x="22498" y="12774"/>
                </a:cubicBezTo>
                <a:cubicBezTo>
                  <a:pt x="22570" y="12842"/>
                  <a:pt x="22556" y="12892"/>
                  <a:pt x="22547" y="12973"/>
                </a:cubicBezTo>
                <a:cubicBezTo>
                  <a:pt x="22538" y="13054"/>
                  <a:pt x="22476" y="13115"/>
                  <a:pt x="22399" y="13146"/>
                </a:cubicBezTo>
                <a:cubicBezTo>
                  <a:pt x="22317" y="13179"/>
                  <a:pt x="22262" y="13196"/>
                  <a:pt x="22175" y="13196"/>
                </a:cubicBezTo>
                <a:cubicBezTo>
                  <a:pt x="22085" y="13196"/>
                  <a:pt x="22075" y="13165"/>
                  <a:pt x="22002" y="13122"/>
                </a:cubicBezTo>
                <a:cubicBezTo>
                  <a:pt x="21985" y="13114"/>
                  <a:pt x="21969" y="13105"/>
                  <a:pt x="21952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Ink 12"/>
          <p:cNvSpPr/>
          <p:nvPr/>
        </p:nvSpPr>
        <p:spPr>
          <a:xfrm>
            <a:off x="2035080" y="4170240"/>
            <a:ext cx="3036960" cy="1054080"/>
          </a:xfrm>
          <a:custGeom>
            <a:avLst/>
            <a:gdLst/>
            <a:ahLst/>
            <a:rect l="l" t="t" r="r" b="b"/>
            <a:pathLst>
              <a:path w="8435" h="2928">
                <a:moveTo>
                  <a:pt x="5655" y="11733"/>
                </a:moveTo>
                <a:cubicBezTo>
                  <a:pt x="5655" y="11821"/>
                  <a:pt x="5676" y="11896"/>
                  <a:pt x="5680" y="11981"/>
                </a:cubicBezTo>
                <a:cubicBezTo>
                  <a:pt x="5687" y="12154"/>
                  <a:pt x="5655" y="12328"/>
                  <a:pt x="5655" y="12502"/>
                </a:cubicBezTo>
                <a:cubicBezTo>
                  <a:pt x="5655" y="12616"/>
                  <a:pt x="5665" y="12715"/>
                  <a:pt x="5680" y="12824"/>
                </a:cubicBezTo>
                <a:cubicBezTo>
                  <a:pt x="5689" y="12892"/>
                  <a:pt x="5645" y="12968"/>
                  <a:pt x="5705" y="12948"/>
                </a:cubicBezTo>
              </a:path>
              <a:path w="8435" h="2928">
                <a:moveTo>
                  <a:pt x="6077" y="11733"/>
                </a:moveTo>
                <a:cubicBezTo>
                  <a:pt x="6077" y="11935"/>
                  <a:pt x="6082" y="12129"/>
                  <a:pt x="6102" y="12328"/>
                </a:cubicBezTo>
                <a:cubicBezTo>
                  <a:pt x="6112" y="12425"/>
                  <a:pt x="6129" y="12492"/>
                  <a:pt x="6176" y="12576"/>
                </a:cubicBezTo>
                <a:cubicBezTo>
                  <a:pt x="6216" y="12648"/>
                  <a:pt x="6246" y="12684"/>
                  <a:pt x="6325" y="12650"/>
                </a:cubicBezTo>
                <a:cubicBezTo>
                  <a:pt x="6407" y="12615"/>
                  <a:pt x="6460" y="12542"/>
                  <a:pt x="6474" y="12452"/>
                </a:cubicBezTo>
                <a:cubicBezTo>
                  <a:pt x="6492" y="12336"/>
                  <a:pt x="6520" y="12222"/>
                  <a:pt x="6524" y="12105"/>
                </a:cubicBezTo>
                <a:cubicBezTo>
                  <a:pt x="6527" y="12011"/>
                  <a:pt x="6508" y="11892"/>
                  <a:pt x="6474" y="11807"/>
                </a:cubicBezTo>
                <a:cubicBezTo>
                  <a:pt x="6452" y="11752"/>
                  <a:pt x="6357" y="11651"/>
                  <a:pt x="6300" y="11633"/>
                </a:cubicBezTo>
                <a:cubicBezTo>
                  <a:pt x="6190" y="11599"/>
                  <a:pt x="6127" y="11645"/>
                  <a:pt x="6077" y="11733"/>
                </a:cubicBezTo>
                <a:cubicBezTo>
                  <a:pt x="6042" y="11796"/>
                  <a:pt x="6031" y="11885"/>
                  <a:pt x="6028" y="11956"/>
                </a:cubicBezTo>
                <a:cubicBezTo>
                  <a:pt x="6024" y="12057"/>
                  <a:pt x="6058" y="12111"/>
                  <a:pt x="6077" y="12204"/>
                </a:cubicBezTo>
                <a:cubicBezTo>
                  <a:pt x="6077" y="12221"/>
                  <a:pt x="6077" y="12237"/>
                  <a:pt x="6077" y="12254"/>
                </a:cubicBezTo>
              </a:path>
              <a:path w="8435" h="2928">
                <a:moveTo>
                  <a:pt x="6722" y="11658"/>
                </a:moveTo>
                <a:cubicBezTo>
                  <a:pt x="6722" y="11906"/>
                  <a:pt x="6683" y="12188"/>
                  <a:pt x="6747" y="12427"/>
                </a:cubicBezTo>
                <a:cubicBezTo>
                  <a:pt x="6775" y="12533"/>
                  <a:pt x="6807" y="12667"/>
                  <a:pt x="6896" y="12725"/>
                </a:cubicBezTo>
                <a:cubicBezTo>
                  <a:pt x="6954" y="12763"/>
                  <a:pt x="7009" y="12780"/>
                  <a:pt x="7069" y="12750"/>
                </a:cubicBezTo>
                <a:cubicBezTo>
                  <a:pt x="7169" y="12700"/>
                  <a:pt x="7213" y="12629"/>
                  <a:pt x="7243" y="12526"/>
                </a:cubicBezTo>
                <a:cubicBezTo>
                  <a:pt x="7279" y="12404"/>
                  <a:pt x="7293" y="12306"/>
                  <a:pt x="7293" y="12179"/>
                </a:cubicBezTo>
                <a:cubicBezTo>
                  <a:pt x="7293" y="12065"/>
                  <a:pt x="7261" y="11939"/>
                  <a:pt x="7218" y="11832"/>
                </a:cubicBezTo>
                <a:cubicBezTo>
                  <a:pt x="7167" y="11704"/>
                  <a:pt x="7121" y="11679"/>
                  <a:pt x="7020" y="11609"/>
                </a:cubicBezTo>
                <a:cubicBezTo>
                  <a:pt x="6981" y="11582"/>
                  <a:pt x="6888" y="11558"/>
                  <a:pt x="6846" y="11609"/>
                </a:cubicBezTo>
                <a:cubicBezTo>
                  <a:pt x="6796" y="11670"/>
                  <a:pt x="6710" y="11819"/>
                  <a:pt x="6697" y="11906"/>
                </a:cubicBezTo>
                <a:cubicBezTo>
                  <a:pt x="6678" y="12026"/>
                  <a:pt x="6699" y="12162"/>
                  <a:pt x="6722" y="12278"/>
                </a:cubicBezTo>
              </a:path>
              <a:path w="8435" h="2928">
                <a:moveTo>
                  <a:pt x="5879" y="13271"/>
                </a:moveTo>
                <a:cubicBezTo>
                  <a:pt x="5841" y="13346"/>
                  <a:pt x="5874" y="13411"/>
                  <a:pt x="5854" y="13494"/>
                </a:cubicBezTo>
                <a:cubicBezTo>
                  <a:pt x="5823" y="13623"/>
                  <a:pt x="5804" y="13731"/>
                  <a:pt x="5804" y="13866"/>
                </a:cubicBezTo>
                <a:cubicBezTo>
                  <a:pt x="5804" y="13940"/>
                  <a:pt x="5753" y="14407"/>
                  <a:pt x="5829" y="14436"/>
                </a:cubicBezTo>
                <a:cubicBezTo>
                  <a:pt x="5837" y="14428"/>
                  <a:pt x="5846" y="14420"/>
                  <a:pt x="5854" y="14412"/>
                </a:cubicBezTo>
              </a:path>
              <a:path w="8435" h="2928">
                <a:moveTo>
                  <a:pt x="6152" y="13419"/>
                </a:moveTo>
                <a:cubicBezTo>
                  <a:pt x="6144" y="13537"/>
                  <a:pt x="6127" y="13648"/>
                  <a:pt x="6127" y="13767"/>
                </a:cubicBezTo>
                <a:cubicBezTo>
                  <a:pt x="6127" y="13880"/>
                  <a:pt x="6120" y="13981"/>
                  <a:pt x="6152" y="14089"/>
                </a:cubicBezTo>
                <a:cubicBezTo>
                  <a:pt x="6174" y="14165"/>
                  <a:pt x="6197" y="14209"/>
                  <a:pt x="6251" y="14263"/>
                </a:cubicBezTo>
                <a:cubicBezTo>
                  <a:pt x="6343" y="14209"/>
                  <a:pt x="6423" y="14092"/>
                  <a:pt x="6449" y="13990"/>
                </a:cubicBezTo>
                <a:cubicBezTo>
                  <a:pt x="6483" y="13859"/>
                  <a:pt x="6476" y="13702"/>
                  <a:pt x="6499" y="13568"/>
                </a:cubicBezTo>
                <a:cubicBezTo>
                  <a:pt x="6514" y="13477"/>
                  <a:pt x="6527" y="13380"/>
                  <a:pt x="6474" y="13295"/>
                </a:cubicBezTo>
                <a:cubicBezTo>
                  <a:pt x="6440" y="13240"/>
                  <a:pt x="6359" y="13227"/>
                  <a:pt x="6300" y="13246"/>
                </a:cubicBezTo>
                <a:cubicBezTo>
                  <a:pt x="6242" y="13264"/>
                  <a:pt x="6189" y="13370"/>
                  <a:pt x="6176" y="13419"/>
                </a:cubicBezTo>
                <a:cubicBezTo>
                  <a:pt x="6152" y="13507"/>
                  <a:pt x="6128" y="13632"/>
                  <a:pt x="6176" y="13717"/>
                </a:cubicBezTo>
                <a:cubicBezTo>
                  <a:pt x="6206" y="13747"/>
                  <a:pt x="6217" y="13761"/>
                  <a:pt x="6226" y="13791"/>
                </a:cubicBezTo>
              </a:path>
              <a:path w="8435" h="2928">
                <a:moveTo>
                  <a:pt x="6772" y="13221"/>
                </a:moveTo>
                <a:cubicBezTo>
                  <a:pt x="6747" y="13313"/>
                  <a:pt x="6726" y="13399"/>
                  <a:pt x="6722" y="13494"/>
                </a:cubicBezTo>
                <a:cubicBezTo>
                  <a:pt x="6715" y="13691"/>
                  <a:pt x="6693" y="13926"/>
                  <a:pt x="6747" y="14114"/>
                </a:cubicBezTo>
                <a:cubicBezTo>
                  <a:pt x="6766" y="14181"/>
                  <a:pt x="6792" y="14391"/>
                  <a:pt x="6871" y="14412"/>
                </a:cubicBezTo>
                <a:cubicBezTo>
                  <a:pt x="6993" y="14445"/>
                  <a:pt x="7047" y="14319"/>
                  <a:pt x="7094" y="14238"/>
                </a:cubicBezTo>
                <a:cubicBezTo>
                  <a:pt x="7171" y="14106"/>
                  <a:pt x="7169" y="13984"/>
                  <a:pt x="7193" y="13841"/>
                </a:cubicBezTo>
                <a:cubicBezTo>
                  <a:pt x="7216" y="13706"/>
                  <a:pt x="7222" y="13624"/>
                  <a:pt x="7169" y="13494"/>
                </a:cubicBezTo>
                <a:cubicBezTo>
                  <a:pt x="7141" y="13425"/>
                  <a:pt x="7067" y="13297"/>
                  <a:pt x="6995" y="13271"/>
                </a:cubicBezTo>
                <a:cubicBezTo>
                  <a:pt x="6942" y="13252"/>
                  <a:pt x="6849" y="13262"/>
                  <a:pt x="6821" y="13320"/>
                </a:cubicBezTo>
                <a:cubicBezTo>
                  <a:pt x="6784" y="13398"/>
                  <a:pt x="6796" y="13484"/>
                  <a:pt x="6796" y="13568"/>
                </a:cubicBezTo>
              </a:path>
              <a:path w="8435" h="2928">
                <a:moveTo>
                  <a:pt x="7491" y="13444"/>
                </a:moveTo>
                <a:cubicBezTo>
                  <a:pt x="7572" y="13466"/>
                  <a:pt x="7631" y="13469"/>
                  <a:pt x="7714" y="13469"/>
                </a:cubicBezTo>
                <a:cubicBezTo>
                  <a:pt x="7756" y="13469"/>
                  <a:pt x="7764" y="13469"/>
                  <a:pt x="7789" y="13469"/>
                </a:cubicBezTo>
              </a:path>
              <a:path w="8435" h="2928">
                <a:moveTo>
                  <a:pt x="7516" y="13717"/>
                </a:moveTo>
                <a:cubicBezTo>
                  <a:pt x="7657" y="13735"/>
                  <a:pt x="7703" y="13745"/>
                  <a:pt x="7813" y="13717"/>
                </a:cubicBezTo>
              </a:path>
              <a:path w="8435" h="2928">
                <a:moveTo>
                  <a:pt x="8285" y="13469"/>
                </a:moveTo>
                <a:cubicBezTo>
                  <a:pt x="8307" y="13431"/>
                  <a:pt x="8340" y="13366"/>
                  <a:pt x="8384" y="13345"/>
                </a:cubicBezTo>
                <a:cubicBezTo>
                  <a:pt x="8466" y="13306"/>
                  <a:pt x="8518" y="13311"/>
                  <a:pt x="8582" y="13370"/>
                </a:cubicBezTo>
                <a:cubicBezTo>
                  <a:pt x="8624" y="13409"/>
                  <a:pt x="8669" y="13461"/>
                  <a:pt x="8682" y="13519"/>
                </a:cubicBezTo>
                <a:cubicBezTo>
                  <a:pt x="8705" y="13623"/>
                  <a:pt x="8647" y="13769"/>
                  <a:pt x="8607" y="13866"/>
                </a:cubicBezTo>
                <a:cubicBezTo>
                  <a:pt x="8573" y="13949"/>
                  <a:pt x="8556" y="14036"/>
                  <a:pt x="8508" y="14114"/>
                </a:cubicBezTo>
                <a:cubicBezTo>
                  <a:pt x="8478" y="14163"/>
                  <a:pt x="8399" y="14258"/>
                  <a:pt x="8384" y="14312"/>
                </a:cubicBezTo>
                <a:cubicBezTo>
                  <a:pt x="8367" y="14375"/>
                  <a:pt x="8344" y="14421"/>
                  <a:pt x="8384" y="14486"/>
                </a:cubicBezTo>
                <a:cubicBezTo>
                  <a:pt x="8427" y="14555"/>
                  <a:pt x="8577" y="14493"/>
                  <a:pt x="8632" y="14486"/>
                </a:cubicBezTo>
                <a:cubicBezTo>
                  <a:pt x="8701" y="14477"/>
                  <a:pt x="8765" y="14472"/>
                  <a:pt x="8830" y="14461"/>
                </a:cubicBezTo>
                <a:cubicBezTo>
                  <a:pt x="8891" y="14451"/>
                  <a:pt x="8951" y="14462"/>
                  <a:pt x="9004" y="14436"/>
                </a:cubicBezTo>
                <a:cubicBezTo>
                  <a:pt x="9012" y="14428"/>
                  <a:pt x="9021" y="14420"/>
                  <a:pt x="9029" y="14412"/>
                </a:cubicBezTo>
              </a:path>
              <a:path w="8435" h="2928">
                <a:moveTo>
                  <a:pt x="9227" y="13643"/>
                </a:moveTo>
                <a:cubicBezTo>
                  <a:pt x="9182" y="13711"/>
                  <a:pt x="9178" y="13760"/>
                  <a:pt x="9178" y="13841"/>
                </a:cubicBezTo>
                <a:cubicBezTo>
                  <a:pt x="9178" y="13922"/>
                  <a:pt x="9140" y="14014"/>
                  <a:pt x="9153" y="14089"/>
                </a:cubicBezTo>
                <a:cubicBezTo>
                  <a:pt x="9170" y="14193"/>
                  <a:pt x="9173" y="14293"/>
                  <a:pt x="9227" y="14387"/>
                </a:cubicBezTo>
                <a:cubicBezTo>
                  <a:pt x="9257" y="14417"/>
                  <a:pt x="9271" y="14428"/>
                  <a:pt x="9302" y="14436"/>
                </a:cubicBezTo>
                <a:cubicBezTo>
                  <a:pt x="9457" y="14227"/>
                  <a:pt x="9859" y="13920"/>
                  <a:pt x="9624" y="13643"/>
                </a:cubicBezTo>
                <a:cubicBezTo>
                  <a:pt x="9579" y="13590"/>
                  <a:pt x="9496" y="13546"/>
                  <a:pt x="9426" y="13543"/>
                </a:cubicBezTo>
                <a:cubicBezTo>
                  <a:pt x="9316" y="13538"/>
                  <a:pt x="9303" y="13542"/>
                  <a:pt x="9227" y="13618"/>
                </a:cubicBezTo>
                <a:cubicBezTo>
                  <a:pt x="9166" y="13679"/>
                  <a:pt x="9093" y="13712"/>
                  <a:pt x="9103" y="13816"/>
                </a:cubicBezTo>
                <a:cubicBezTo>
                  <a:pt x="9127" y="13864"/>
                  <a:pt x="9135" y="13878"/>
                  <a:pt x="9128" y="13915"/>
                </a:cubicBezTo>
              </a:path>
              <a:path w="8435" h="2928">
                <a:moveTo>
                  <a:pt x="9922" y="13543"/>
                </a:moveTo>
                <a:cubicBezTo>
                  <a:pt x="9913" y="13619"/>
                  <a:pt x="9881" y="13693"/>
                  <a:pt x="9872" y="13767"/>
                </a:cubicBezTo>
                <a:cubicBezTo>
                  <a:pt x="9859" y="13868"/>
                  <a:pt x="9847" y="13961"/>
                  <a:pt x="9847" y="14064"/>
                </a:cubicBezTo>
                <a:cubicBezTo>
                  <a:pt x="9847" y="14166"/>
                  <a:pt x="9831" y="14269"/>
                  <a:pt x="9872" y="14362"/>
                </a:cubicBezTo>
                <a:cubicBezTo>
                  <a:pt x="9902" y="14429"/>
                  <a:pt x="9964" y="14484"/>
                  <a:pt x="10046" y="14461"/>
                </a:cubicBezTo>
                <a:cubicBezTo>
                  <a:pt x="10088" y="14449"/>
                  <a:pt x="10169" y="14373"/>
                  <a:pt x="10195" y="14337"/>
                </a:cubicBezTo>
                <a:cubicBezTo>
                  <a:pt x="10260" y="14246"/>
                  <a:pt x="10289" y="14124"/>
                  <a:pt x="10294" y="14015"/>
                </a:cubicBezTo>
                <a:cubicBezTo>
                  <a:pt x="10298" y="13917"/>
                  <a:pt x="10282" y="13835"/>
                  <a:pt x="10269" y="13742"/>
                </a:cubicBezTo>
                <a:cubicBezTo>
                  <a:pt x="10256" y="13650"/>
                  <a:pt x="10238" y="13625"/>
                  <a:pt x="10170" y="13568"/>
                </a:cubicBezTo>
                <a:cubicBezTo>
                  <a:pt x="10122" y="13528"/>
                  <a:pt x="10043" y="13527"/>
                  <a:pt x="9996" y="13568"/>
                </a:cubicBezTo>
                <a:cubicBezTo>
                  <a:pt x="9934" y="13622"/>
                  <a:pt x="9902" y="13660"/>
                  <a:pt x="9897" y="13742"/>
                </a:cubicBezTo>
                <a:cubicBezTo>
                  <a:pt x="9893" y="13817"/>
                  <a:pt x="9882" y="13842"/>
                  <a:pt x="9897" y="13915"/>
                </a:cubicBezTo>
              </a:path>
              <a:path w="8435" h="2928">
                <a:moveTo>
                  <a:pt x="10988" y="13816"/>
                </a:moveTo>
                <a:cubicBezTo>
                  <a:pt x="11022" y="13760"/>
                  <a:pt x="11026" y="13705"/>
                  <a:pt x="10988" y="13643"/>
                </a:cubicBezTo>
                <a:cubicBezTo>
                  <a:pt x="10953" y="13586"/>
                  <a:pt x="10860" y="13622"/>
                  <a:pt x="10815" y="13643"/>
                </a:cubicBezTo>
                <a:cubicBezTo>
                  <a:pt x="10714" y="13690"/>
                  <a:pt x="10671" y="13730"/>
                  <a:pt x="10666" y="13841"/>
                </a:cubicBezTo>
                <a:cubicBezTo>
                  <a:pt x="10662" y="13937"/>
                  <a:pt x="10711" y="13974"/>
                  <a:pt x="10790" y="14015"/>
                </a:cubicBezTo>
                <a:cubicBezTo>
                  <a:pt x="10858" y="14050"/>
                  <a:pt x="10952" y="14074"/>
                  <a:pt x="11013" y="14114"/>
                </a:cubicBezTo>
                <a:cubicBezTo>
                  <a:pt x="11030" y="14130"/>
                  <a:pt x="11046" y="14147"/>
                  <a:pt x="11063" y="14163"/>
                </a:cubicBezTo>
              </a:path>
              <a:path w="8435" h="2928">
                <a:moveTo>
                  <a:pt x="11112" y="14238"/>
                </a:moveTo>
                <a:cubicBezTo>
                  <a:pt x="11109" y="14311"/>
                  <a:pt x="11145" y="14520"/>
                  <a:pt x="10988" y="14511"/>
                </a:cubicBezTo>
                <a:cubicBezTo>
                  <a:pt x="10908" y="14507"/>
                  <a:pt x="10888" y="14474"/>
                  <a:pt x="10864" y="14412"/>
                </a:cubicBezTo>
                <a:cubicBezTo>
                  <a:pt x="10841" y="14364"/>
                  <a:pt x="10833" y="14349"/>
                  <a:pt x="10840" y="14312"/>
                </a:cubicBezTo>
              </a:path>
              <a:path w="8435" h="2928">
                <a:moveTo>
                  <a:pt x="11286" y="13593"/>
                </a:moveTo>
                <a:cubicBezTo>
                  <a:pt x="11329" y="13692"/>
                  <a:pt x="11356" y="13759"/>
                  <a:pt x="11361" y="13866"/>
                </a:cubicBezTo>
                <a:cubicBezTo>
                  <a:pt x="11366" y="13966"/>
                  <a:pt x="11385" y="14061"/>
                  <a:pt x="11385" y="14163"/>
                </a:cubicBezTo>
                <a:cubicBezTo>
                  <a:pt x="11385" y="14233"/>
                  <a:pt x="11408" y="14349"/>
                  <a:pt x="11435" y="14412"/>
                </a:cubicBezTo>
                <a:cubicBezTo>
                  <a:pt x="11460" y="14436"/>
                  <a:pt x="11469" y="14444"/>
                  <a:pt x="11485" y="14461"/>
                </a:cubicBezTo>
              </a:path>
              <a:path w="8435" h="2928">
                <a:moveTo>
                  <a:pt x="11633" y="13593"/>
                </a:moveTo>
                <a:cubicBezTo>
                  <a:pt x="11643" y="13698"/>
                  <a:pt x="11695" y="13789"/>
                  <a:pt x="11708" y="13891"/>
                </a:cubicBezTo>
                <a:cubicBezTo>
                  <a:pt x="11726" y="14035"/>
                  <a:pt x="11708" y="14192"/>
                  <a:pt x="11708" y="14337"/>
                </a:cubicBezTo>
                <a:cubicBezTo>
                  <a:pt x="11672" y="14277"/>
                  <a:pt x="11683" y="14214"/>
                  <a:pt x="11683" y="14139"/>
                </a:cubicBezTo>
                <a:cubicBezTo>
                  <a:pt x="11683" y="14003"/>
                  <a:pt x="11739" y="13895"/>
                  <a:pt x="11757" y="13767"/>
                </a:cubicBezTo>
                <a:cubicBezTo>
                  <a:pt x="11769" y="13682"/>
                  <a:pt x="11779" y="13638"/>
                  <a:pt x="11832" y="13568"/>
                </a:cubicBezTo>
                <a:cubicBezTo>
                  <a:pt x="11875" y="13511"/>
                  <a:pt x="11918" y="13504"/>
                  <a:pt x="11981" y="13543"/>
                </a:cubicBezTo>
                <a:cubicBezTo>
                  <a:pt x="12014" y="13563"/>
                  <a:pt x="12097" y="13711"/>
                  <a:pt x="12105" y="13742"/>
                </a:cubicBezTo>
                <a:cubicBezTo>
                  <a:pt x="12134" y="13847"/>
                  <a:pt x="12164" y="13979"/>
                  <a:pt x="12179" y="14089"/>
                </a:cubicBezTo>
                <a:cubicBezTo>
                  <a:pt x="12193" y="14193"/>
                  <a:pt x="12170" y="14291"/>
                  <a:pt x="12154" y="14387"/>
                </a:cubicBezTo>
                <a:cubicBezTo>
                  <a:pt x="12154" y="14403"/>
                  <a:pt x="12154" y="14420"/>
                  <a:pt x="12154" y="14436"/>
                </a:cubicBezTo>
              </a:path>
              <a:path w="8435" h="2928">
                <a:moveTo>
                  <a:pt x="11534" y="13271"/>
                </a:moveTo>
                <a:cubicBezTo>
                  <a:pt x="11542" y="13279"/>
                  <a:pt x="11551" y="13287"/>
                  <a:pt x="11559" y="13295"/>
                </a:cubicBezTo>
              </a:path>
              <a:path w="8435" h="2928">
                <a:moveTo>
                  <a:pt x="12402" y="13543"/>
                </a:moveTo>
                <a:cubicBezTo>
                  <a:pt x="12460" y="13479"/>
                  <a:pt x="12522" y="13406"/>
                  <a:pt x="12601" y="13370"/>
                </a:cubicBezTo>
                <a:cubicBezTo>
                  <a:pt x="12670" y="13339"/>
                  <a:pt x="12768" y="13326"/>
                  <a:pt x="12799" y="13419"/>
                </a:cubicBezTo>
                <a:cubicBezTo>
                  <a:pt x="12818" y="13476"/>
                  <a:pt x="12824" y="13528"/>
                  <a:pt x="12824" y="13593"/>
                </a:cubicBezTo>
                <a:cubicBezTo>
                  <a:pt x="12824" y="13681"/>
                  <a:pt x="12804" y="13783"/>
                  <a:pt x="12774" y="13866"/>
                </a:cubicBezTo>
                <a:cubicBezTo>
                  <a:pt x="12737" y="13969"/>
                  <a:pt x="12740" y="14081"/>
                  <a:pt x="12700" y="14188"/>
                </a:cubicBezTo>
                <a:cubicBezTo>
                  <a:pt x="12668" y="14273"/>
                  <a:pt x="12617" y="14355"/>
                  <a:pt x="12576" y="14436"/>
                </a:cubicBezTo>
                <a:cubicBezTo>
                  <a:pt x="12649" y="14473"/>
                  <a:pt x="12736" y="14461"/>
                  <a:pt x="12824" y="14461"/>
                </a:cubicBezTo>
                <a:cubicBezTo>
                  <a:pt x="12886" y="14461"/>
                  <a:pt x="12922" y="14455"/>
                  <a:pt x="12973" y="14436"/>
                </a:cubicBezTo>
              </a:path>
              <a:path w="8435" h="2928">
                <a:moveTo>
                  <a:pt x="13246" y="13469"/>
                </a:moveTo>
                <a:cubicBezTo>
                  <a:pt x="13271" y="13559"/>
                  <a:pt x="13269" y="13605"/>
                  <a:pt x="13246" y="13692"/>
                </a:cubicBezTo>
                <a:cubicBezTo>
                  <a:pt x="13219" y="13794"/>
                  <a:pt x="13221" y="13884"/>
                  <a:pt x="13221" y="13990"/>
                </a:cubicBezTo>
                <a:cubicBezTo>
                  <a:pt x="13221" y="14102"/>
                  <a:pt x="13237" y="14204"/>
                  <a:pt x="13271" y="14312"/>
                </a:cubicBezTo>
                <a:cubicBezTo>
                  <a:pt x="13294" y="14386"/>
                  <a:pt x="13348" y="14432"/>
                  <a:pt x="13419" y="14436"/>
                </a:cubicBezTo>
                <a:cubicBezTo>
                  <a:pt x="13507" y="14441"/>
                  <a:pt x="13599" y="14391"/>
                  <a:pt x="13643" y="14312"/>
                </a:cubicBezTo>
                <a:cubicBezTo>
                  <a:pt x="13699" y="14213"/>
                  <a:pt x="13737" y="14101"/>
                  <a:pt x="13767" y="13990"/>
                </a:cubicBezTo>
                <a:cubicBezTo>
                  <a:pt x="13802" y="13860"/>
                  <a:pt x="13796" y="13722"/>
                  <a:pt x="13767" y="13593"/>
                </a:cubicBezTo>
                <a:cubicBezTo>
                  <a:pt x="13752" y="13526"/>
                  <a:pt x="13710" y="13425"/>
                  <a:pt x="13667" y="13370"/>
                </a:cubicBezTo>
                <a:cubicBezTo>
                  <a:pt x="13606" y="13291"/>
                  <a:pt x="13553" y="13282"/>
                  <a:pt x="13469" y="13320"/>
                </a:cubicBezTo>
                <a:cubicBezTo>
                  <a:pt x="13392" y="13354"/>
                  <a:pt x="13314" y="13457"/>
                  <a:pt x="13295" y="13543"/>
                </a:cubicBezTo>
                <a:cubicBezTo>
                  <a:pt x="13279" y="13616"/>
                  <a:pt x="13271" y="13691"/>
                  <a:pt x="13271" y="13767"/>
                </a:cubicBezTo>
                <a:cubicBezTo>
                  <a:pt x="13271" y="13842"/>
                  <a:pt x="13271" y="13868"/>
                  <a:pt x="13295" y="13915"/>
                </a:cubicBezTo>
              </a:path>
              <a:path w="8435" h="2928">
                <a:moveTo>
                  <a:pt x="13097" y="13841"/>
                </a:moveTo>
                <a:cubicBezTo>
                  <a:pt x="13162" y="13776"/>
                  <a:pt x="13197" y="13762"/>
                  <a:pt x="13271" y="13717"/>
                </a:cubicBezTo>
                <a:cubicBezTo>
                  <a:pt x="13315" y="13690"/>
                  <a:pt x="13411" y="13650"/>
                  <a:pt x="13469" y="13667"/>
                </a:cubicBezTo>
                <a:cubicBezTo>
                  <a:pt x="13531" y="13685"/>
                  <a:pt x="13576" y="13771"/>
                  <a:pt x="13618" y="13816"/>
                </a:cubicBezTo>
                <a:cubicBezTo>
                  <a:pt x="13684" y="13887"/>
                  <a:pt x="13735" y="13962"/>
                  <a:pt x="13816" y="14015"/>
                </a:cubicBezTo>
                <a:cubicBezTo>
                  <a:pt x="13876" y="14054"/>
                  <a:pt x="13969" y="14101"/>
                  <a:pt x="14039" y="14114"/>
                </a:cubicBezTo>
                <a:cubicBezTo>
                  <a:pt x="14056" y="14114"/>
                  <a:pt x="14072" y="14114"/>
                  <a:pt x="14089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Ink 13"/>
          <p:cNvSpPr/>
          <p:nvPr/>
        </p:nvSpPr>
        <p:spPr>
          <a:xfrm>
            <a:off x="2295360" y="5322960"/>
            <a:ext cx="2276640" cy="500040"/>
          </a:xfrm>
          <a:custGeom>
            <a:avLst/>
            <a:gdLst/>
            <a:ahLst/>
            <a:rect l="l" t="t" r="r" b="b"/>
            <a:pathLst>
              <a:path w="6326" h="1390">
                <a:moveTo>
                  <a:pt x="6449" y="15280"/>
                </a:moveTo>
                <a:cubicBezTo>
                  <a:pt x="6388" y="15339"/>
                  <a:pt x="6427" y="15359"/>
                  <a:pt x="6400" y="15429"/>
                </a:cubicBezTo>
                <a:cubicBezTo>
                  <a:pt x="6382" y="15476"/>
                  <a:pt x="6380" y="15458"/>
                  <a:pt x="6424" y="15503"/>
                </a:cubicBezTo>
                <a:cubicBezTo>
                  <a:pt x="6424" y="15461"/>
                  <a:pt x="6421" y="15346"/>
                  <a:pt x="6400" y="15453"/>
                </a:cubicBezTo>
                <a:cubicBezTo>
                  <a:pt x="6424" y="15429"/>
                  <a:pt x="6432" y="15421"/>
                  <a:pt x="6400" y="15404"/>
                </a:cubicBezTo>
              </a:path>
              <a:path w="6326" h="1390">
                <a:moveTo>
                  <a:pt x="7020" y="14908"/>
                </a:moveTo>
                <a:cubicBezTo>
                  <a:pt x="7091" y="14908"/>
                  <a:pt x="7151" y="14898"/>
                  <a:pt x="7218" y="14883"/>
                </a:cubicBezTo>
                <a:cubicBezTo>
                  <a:pt x="7305" y="14864"/>
                  <a:pt x="7437" y="14841"/>
                  <a:pt x="7516" y="14808"/>
                </a:cubicBezTo>
                <a:cubicBezTo>
                  <a:pt x="7524" y="14800"/>
                  <a:pt x="7533" y="14792"/>
                  <a:pt x="7541" y="14784"/>
                </a:cubicBezTo>
              </a:path>
              <a:path w="6326" h="1390">
                <a:moveTo>
                  <a:pt x="6921" y="14957"/>
                </a:moveTo>
                <a:cubicBezTo>
                  <a:pt x="6855" y="15042"/>
                  <a:pt x="6860" y="15114"/>
                  <a:pt x="6821" y="15205"/>
                </a:cubicBezTo>
                <a:cubicBezTo>
                  <a:pt x="6791" y="15235"/>
                  <a:pt x="6786" y="15249"/>
                  <a:pt x="6821" y="15280"/>
                </a:cubicBezTo>
                <a:cubicBezTo>
                  <a:pt x="6873" y="15219"/>
                  <a:pt x="6955" y="15170"/>
                  <a:pt x="7045" y="15156"/>
                </a:cubicBezTo>
                <a:cubicBezTo>
                  <a:pt x="7113" y="15146"/>
                  <a:pt x="7206" y="15159"/>
                  <a:pt x="7268" y="15180"/>
                </a:cubicBezTo>
                <a:cubicBezTo>
                  <a:pt x="7331" y="15201"/>
                  <a:pt x="7490" y="15273"/>
                  <a:pt x="7541" y="15329"/>
                </a:cubicBezTo>
                <a:cubicBezTo>
                  <a:pt x="7580" y="15371"/>
                  <a:pt x="7606" y="15475"/>
                  <a:pt x="7615" y="15528"/>
                </a:cubicBezTo>
                <a:cubicBezTo>
                  <a:pt x="7636" y="15655"/>
                  <a:pt x="7569" y="15730"/>
                  <a:pt x="7491" y="15825"/>
                </a:cubicBezTo>
                <a:cubicBezTo>
                  <a:pt x="7430" y="15899"/>
                  <a:pt x="7335" y="15944"/>
                  <a:pt x="7243" y="15949"/>
                </a:cubicBezTo>
                <a:cubicBezTo>
                  <a:pt x="7162" y="15953"/>
                  <a:pt x="7134" y="15939"/>
                  <a:pt x="7069" y="15900"/>
                </a:cubicBezTo>
                <a:cubicBezTo>
                  <a:pt x="7019" y="15870"/>
                  <a:pt x="6986" y="15842"/>
                  <a:pt x="6945" y="15801"/>
                </a:cubicBezTo>
                <a:cubicBezTo>
                  <a:pt x="6890" y="15745"/>
                  <a:pt x="6920" y="15810"/>
                  <a:pt x="6896" y="15726"/>
                </a:cubicBezTo>
              </a:path>
              <a:path w="6326" h="1390">
                <a:moveTo>
                  <a:pt x="7962" y="15205"/>
                </a:moveTo>
                <a:cubicBezTo>
                  <a:pt x="8003" y="15220"/>
                  <a:pt x="8135" y="15210"/>
                  <a:pt x="8161" y="15230"/>
                </a:cubicBezTo>
                <a:cubicBezTo>
                  <a:pt x="8216" y="15273"/>
                  <a:pt x="8179" y="15280"/>
                  <a:pt x="8260" y="15280"/>
                </a:cubicBezTo>
              </a:path>
              <a:path w="6326" h="1390">
                <a:moveTo>
                  <a:pt x="8062" y="15429"/>
                </a:moveTo>
                <a:cubicBezTo>
                  <a:pt x="8120" y="15429"/>
                  <a:pt x="8177" y="15429"/>
                  <a:pt x="8235" y="15429"/>
                </a:cubicBezTo>
              </a:path>
              <a:path w="6326" h="1390">
                <a:moveTo>
                  <a:pt x="9103" y="15205"/>
                </a:moveTo>
                <a:cubicBezTo>
                  <a:pt x="9103" y="15159"/>
                  <a:pt x="9107" y="15040"/>
                  <a:pt x="9079" y="15007"/>
                </a:cubicBezTo>
                <a:cubicBezTo>
                  <a:pt x="9034" y="14955"/>
                  <a:pt x="8967" y="14957"/>
                  <a:pt x="8905" y="14957"/>
                </a:cubicBezTo>
                <a:cubicBezTo>
                  <a:pt x="8854" y="14957"/>
                  <a:pt x="8795" y="14976"/>
                  <a:pt x="8756" y="15007"/>
                </a:cubicBezTo>
                <a:cubicBezTo>
                  <a:pt x="8687" y="15062"/>
                  <a:pt x="8690" y="15128"/>
                  <a:pt x="8731" y="15205"/>
                </a:cubicBezTo>
                <a:cubicBezTo>
                  <a:pt x="8776" y="15288"/>
                  <a:pt x="8835" y="15305"/>
                  <a:pt x="8905" y="15354"/>
                </a:cubicBezTo>
                <a:cubicBezTo>
                  <a:pt x="9066" y="15466"/>
                  <a:pt x="9218" y="15508"/>
                  <a:pt x="9302" y="15677"/>
                </a:cubicBezTo>
                <a:cubicBezTo>
                  <a:pt x="9341" y="15756"/>
                  <a:pt x="9396" y="15832"/>
                  <a:pt x="9376" y="15925"/>
                </a:cubicBezTo>
                <a:cubicBezTo>
                  <a:pt x="9363" y="15984"/>
                  <a:pt x="9322" y="16128"/>
                  <a:pt x="9252" y="16148"/>
                </a:cubicBezTo>
                <a:cubicBezTo>
                  <a:pt x="9175" y="16170"/>
                  <a:pt x="9121" y="16161"/>
                  <a:pt x="9054" y="16148"/>
                </a:cubicBezTo>
                <a:cubicBezTo>
                  <a:pt x="8992" y="16136"/>
                  <a:pt x="8944" y="16132"/>
                  <a:pt x="8905" y="16073"/>
                </a:cubicBezTo>
                <a:cubicBezTo>
                  <a:pt x="8840" y="15973"/>
                  <a:pt x="8869" y="15922"/>
                  <a:pt x="8880" y="15801"/>
                </a:cubicBezTo>
              </a:path>
              <a:path w="6326" h="1390">
                <a:moveTo>
                  <a:pt x="9500" y="15280"/>
                </a:moveTo>
                <a:cubicBezTo>
                  <a:pt x="9522" y="15382"/>
                  <a:pt x="9540" y="15416"/>
                  <a:pt x="9575" y="15503"/>
                </a:cubicBezTo>
                <a:cubicBezTo>
                  <a:pt x="9602" y="15569"/>
                  <a:pt x="9620" y="15657"/>
                  <a:pt x="9624" y="15726"/>
                </a:cubicBezTo>
                <a:cubicBezTo>
                  <a:pt x="9629" y="15813"/>
                  <a:pt x="9634" y="15900"/>
                  <a:pt x="9649" y="15974"/>
                </a:cubicBezTo>
                <a:cubicBezTo>
                  <a:pt x="9665" y="16054"/>
                  <a:pt x="9660" y="16095"/>
                  <a:pt x="9699" y="16173"/>
                </a:cubicBezTo>
              </a:path>
              <a:path w="6326" h="1390">
                <a:moveTo>
                  <a:pt x="9847" y="15304"/>
                </a:moveTo>
                <a:cubicBezTo>
                  <a:pt x="9847" y="15396"/>
                  <a:pt x="9868" y="15443"/>
                  <a:pt x="9872" y="15528"/>
                </a:cubicBezTo>
                <a:cubicBezTo>
                  <a:pt x="9876" y="15606"/>
                  <a:pt x="9893" y="15675"/>
                  <a:pt x="9897" y="15751"/>
                </a:cubicBezTo>
                <a:cubicBezTo>
                  <a:pt x="9901" y="15833"/>
                  <a:pt x="9897" y="15917"/>
                  <a:pt x="9897" y="15999"/>
                </a:cubicBezTo>
                <a:cubicBezTo>
                  <a:pt x="9878" y="15943"/>
                  <a:pt x="9897" y="15874"/>
                  <a:pt x="9897" y="15801"/>
                </a:cubicBezTo>
                <a:cubicBezTo>
                  <a:pt x="9897" y="15699"/>
                  <a:pt x="9906" y="15602"/>
                  <a:pt x="9922" y="15503"/>
                </a:cubicBezTo>
                <a:cubicBezTo>
                  <a:pt x="9939" y="15402"/>
                  <a:pt x="9942" y="15270"/>
                  <a:pt x="9996" y="15180"/>
                </a:cubicBezTo>
                <a:cubicBezTo>
                  <a:pt x="10016" y="15147"/>
                  <a:pt x="10068" y="15053"/>
                  <a:pt x="10120" y="15056"/>
                </a:cubicBezTo>
                <a:cubicBezTo>
                  <a:pt x="10159" y="15058"/>
                  <a:pt x="10223" y="15124"/>
                  <a:pt x="10244" y="15156"/>
                </a:cubicBezTo>
                <a:cubicBezTo>
                  <a:pt x="10298" y="15238"/>
                  <a:pt x="10401" y="15351"/>
                  <a:pt x="10418" y="15453"/>
                </a:cubicBezTo>
                <a:cubicBezTo>
                  <a:pt x="10435" y="15552"/>
                  <a:pt x="10443" y="15649"/>
                  <a:pt x="10443" y="15751"/>
                </a:cubicBezTo>
                <a:cubicBezTo>
                  <a:pt x="10443" y="15858"/>
                  <a:pt x="10433" y="15946"/>
                  <a:pt x="10418" y="16049"/>
                </a:cubicBezTo>
                <a:cubicBezTo>
                  <a:pt x="10418" y="16093"/>
                  <a:pt x="10421" y="16113"/>
                  <a:pt x="10393" y="16073"/>
                </a:cubicBezTo>
              </a:path>
              <a:path w="6326" h="1390">
                <a:moveTo>
                  <a:pt x="9599" y="14883"/>
                </a:moveTo>
                <a:cubicBezTo>
                  <a:pt x="9607" y="14891"/>
                  <a:pt x="9616" y="14900"/>
                  <a:pt x="9624" y="14908"/>
                </a:cubicBezTo>
              </a:path>
              <a:path w="6326" h="1390">
                <a:moveTo>
                  <a:pt x="10815" y="15205"/>
                </a:moveTo>
                <a:cubicBezTo>
                  <a:pt x="10821" y="15162"/>
                  <a:pt x="10827" y="15084"/>
                  <a:pt x="10864" y="15056"/>
                </a:cubicBezTo>
                <a:cubicBezTo>
                  <a:pt x="10913" y="15019"/>
                  <a:pt x="10975" y="14989"/>
                  <a:pt x="11038" y="15007"/>
                </a:cubicBezTo>
                <a:cubicBezTo>
                  <a:pt x="11098" y="15024"/>
                  <a:pt x="11145" y="15064"/>
                  <a:pt x="11187" y="15106"/>
                </a:cubicBezTo>
                <a:cubicBezTo>
                  <a:pt x="11241" y="15160"/>
                  <a:pt x="11233" y="15309"/>
                  <a:pt x="11212" y="15379"/>
                </a:cubicBezTo>
                <a:cubicBezTo>
                  <a:pt x="11189" y="15456"/>
                  <a:pt x="11146" y="15532"/>
                  <a:pt x="11088" y="15602"/>
                </a:cubicBezTo>
                <a:cubicBezTo>
                  <a:pt x="11044" y="15655"/>
                  <a:pt x="11011" y="15758"/>
                  <a:pt x="10964" y="15801"/>
                </a:cubicBezTo>
                <a:cubicBezTo>
                  <a:pt x="10917" y="15845"/>
                  <a:pt x="10885" y="15875"/>
                  <a:pt x="10840" y="15925"/>
                </a:cubicBezTo>
                <a:cubicBezTo>
                  <a:pt x="10832" y="15933"/>
                  <a:pt x="10823" y="15941"/>
                  <a:pt x="10815" y="15949"/>
                </a:cubicBezTo>
                <a:cubicBezTo>
                  <a:pt x="10870" y="15982"/>
                  <a:pt x="10969" y="15990"/>
                  <a:pt x="11038" y="15974"/>
                </a:cubicBezTo>
                <a:cubicBezTo>
                  <a:pt x="11092" y="15962"/>
                  <a:pt x="11164" y="15932"/>
                  <a:pt x="11212" y="15925"/>
                </a:cubicBezTo>
                <a:cubicBezTo>
                  <a:pt x="11302" y="15912"/>
                  <a:pt x="11345" y="15916"/>
                  <a:pt x="11410" y="15850"/>
                </a:cubicBezTo>
                <a:cubicBezTo>
                  <a:pt x="11432" y="15828"/>
                  <a:pt x="11441" y="15823"/>
                  <a:pt x="11435" y="15801"/>
                </a:cubicBezTo>
              </a:path>
              <a:path w="6326" h="1390">
                <a:moveTo>
                  <a:pt x="11733" y="15081"/>
                </a:moveTo>
                <a:cubicBezTo>
                  <a:pt x="11698" y="15173"/>
                  <a:pt x="11729" y="15259"/>
                  <a:pt x="11708" y="15354"/>
                </a:cubicBezTo>
                <a:cubicBezTo>
                  <a:pt x="11692" y="15425"/>
                  <a:pt x="11676" y="15506"/>
                  <a:pt x="11658" y="15577"/>
                </a:cubicBezTo>
                <a:cubicBezTo>
                  <a:pt x="11625" y="15709"/>
                  <a:pt x="11660" y="15830"/>
                  <a:pt x="11733" y="15949"/>
                </a:cubicBezTo>
                <a:cubicBezTo>
                  <a:pt x="11775" y="16016"/>
                  <a:pt x="11836" y="15999"/>
                  <a:pt x="11906" y="15999"/>
                </a:cubicBezTo>
                <a:cubicBezTo>
                  <a:pt x="11977" y="15999"/>
                  <a:pt x="12079" y="15953"/>
                  <a:pt x="12129" y="15900"/>
                </a:cubicBezTo>
                <a:cubicBezTo>
                  <a:pt x="12180" y="15846"/>
                  <a:pt x="12214" y="15721"/>
                  <a:pt x="12229" y="15652"/>
                </a:cubicBezTo>
                <a:cubicBezTo>
                  <a:pt x="12259" y="15515"/>
                  <a:pt x="12262" y="15412"/>
                  <a:pt x="12229" y="15280"/>
                </a:cubicBezTo>
                <a:cubicBezTo>
                  <a:pt x="12213" y="15216"/>
                  <a:pt x="12183" y="15082"/>
                  <a:pt x="12129" y="15032"/>
                </a:cubicBezTo>
                <a:cubicBezTo>
                  <a:pt x="12044" y="14952"/>
                  <a:pt x="11936" y="14958"/>
                  <a:pt x="11832" y="14982"/>
                </a:cubicBezTo>
                <a:cubicBezTo>
                  <a:pt x="11770" y="14997"/>
                  <a:pt x="11715" y="15083"/>
                  <a:pt x="11683" y="15131"/>
                </a:cubicBezTo>
                <a:cubicBezTo>
                  <a:pt x="11642" y="15192"/>
                  <a:pt x="11604" y="15309"/>
                  <a:pt x="11609" y="15379"/>
                </a:cubicBezTo>
                <a:cubicBezTo>
                  <a:pt x="11617" y="15404"/>
                  <a:pt x="11625" y="15428"/>
                  <a:pt x="11633" y="15453"/>
                </a:cubicBezTo>
              </a:path>
              <a:path w="6326" h="1390">
                <a:moveTo>
                  <a:pt x="11485" y="15404"/>
                </a:moveTo>
                <a:cubicBezTo>
                  <a:pt x="11531" y="15366"/>
                  <a:pt x="11580" y="15331"/>
                  <a:pt x="11633" y="15304"/>
                </a:cubicBezTo>
                <a:cubicBezTo>
                  <a:pt x="11661" y="15290"/>
                  <a:pt x="11864" y="15178"/>
                  <a:pt x="11931" y="15230"/>
                </a:cubicBezTo>
                <a:cubicBezTo>
                  <a:pt x="11978" y="15266"/>
                  <a:pt x="12013" y="15332"/>
                  <a:pt x="12055" y="15379"/>
                </a:cubicBezTo>
                <a:cubicBezTo>
                  <a:pt x="12096" y="15424"/>
                  <a:pt x="12116" y="15482"/>
                  <a:pt x="12154" y="15528"/>
                </a:cubicBezTo>
                <a:cubicBezTo>
                  <a:pt x="12208" y="15593"/>
                  <a:pt x="12274" y="15627"/>
                  <a:pt x="12353" y="15652"/>
                </a:cubicBezTo>
                <a:cubicBezTo>
                  <a:pt x="12440" y="15679"/>
                  <a:pt x="12512" y="15677"/>
                  <a:pt x="12601" y="15677"/>
                </a:cubicBezTo>
                <a:cubicBezTo>
                  <a:pt x="12671" y="15677"/>
                  <a:pt x="12648" y="15702"/>
                  <a:pt x="12700" y="156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Ink 14"/>
          <p:cNvSpPr/>
          <p:nvPr/>
        </p:nvSpPr>
        <p:spPr>
          <a:xfrm>
            <a:off x="6616800" y="3589200"/>
            <a:ext cx="1857240" cy="1312920"/>
          </a:xfrm>
          <a:custGeom>
            <a:avLst/>
            <a:gdLst/>
            <a:ahLst/>
            <a:rect l="l" t="t" r="r" b="b"/>
            <a:pathLst>
              <a:path w="5161" h="3648">
                <a:moveTo>
                  <a:pt x="18554" y="10269"/>
                </a:moveTo>
                <a:cubicBezTo>
                  <a:pt x="18858" y="10170"/>
                  <a:pt x="19027" y="10107"/>
                  <a:pt x="19323" y="10071"/>
                </a:cubicBezTo>
                <a:cubicBezTo>
                  <a:pt x="19519" y="10047"/>
                  <a:pt x="19720" y="10046"/>
                  <a:pt x="19918" y="10046"/>
                </a:cubicBezTo>
                <a:cubicBezTo>
                  <a:pt x="20207" y="10046"/>
                  <a:pt x="20502" y="10054"/>
                  <a:pt x="20786" y="10046"/>
                </a:cubicBezTo>
                <a:cubicBezTo>
                  <a:pt x="21133" y="10036"/>
                  <a:pt x="21483" y="10013"/>
                  <a:pt x="21828" y="9996"/>
                </a:cubicBezTo>
                <a:cubicBezTo>
                  <a:pt x="22035" y="9986"/>
                  <a:pt x="22242" y="9975"/>
                  <a:pt x="22448" y="9971"/>
                </a:cubicBezTo>
                <a:cubicBezTo>
                  <a:pt x="22634" y="9968"/>
                  <a:pt x="22811" y="9980"/>
                  <a:pt x="22994" y="9996"/>
                </a:cubicBezTo>
                <a:cubicBezTo>
                  <a:pt x="23131" y="10008"/>
                  <a:pt x="23241" y="10015"/>
                  <a:pt x="23366" y="10071"/>
                </a:cubicBezTo>
                <a:cubicBezTo>
                  <a:pt x="23443" y="10105"/>
                  <a:pt x="23489" y="10165"/>
                  <a:pt x="23515" y="10244"/>
                </a:cubicBezTo>
                <a:cubicBezTo>
                  <a:pt x="23545" y="10336"/>
                  <a:pt x="23537" y="10418"/>
                  <a:pt x="23540" y="10517"/>
                </a:cubicBezTo>
                <a:cubicBezTo>
                  <a:pt x="23556" y="10990"/>
                  <a:pt x="23520" y="11461"/>
                  <a:pt x="23515" y="11931"/>
                </a:cubicBezTo>
                <a:cubicBezTo>
                  <a:pt x="23513" y="12099"/>
                  <a:pt x="23496" y="12260"/>
                  <a:pt x="23490" y="12427"/>
                </a:cubicBezTo>
                <a:cubicBezTo>
                  <a:pt x="23485" y="12575"/>
                  <a:pt x="23494" y="12730"/>
                  <a:pt x="23465" y="12874"/>
                </a:cubicBezTo>
                <a:cubicBezTo>
                  <a:pt x="23438" y="13009"/>
                  <a:pt x="23376" y="13166"/>
                  <a:pt x="23292" y="13271"/>
                </a:cubicBezTo>
                <a:cubicBezTo>
                  <a:pt x="23228" y="13352"/>
                  <a:pt x="23153" y="13410"/>
                  <a:pt x="23068" y="13469"/>
                </a:cubicBezTo>
                <a:cubicBezTo>
                  <a:pt x="22950" y="13551"/>
                  <a:pt x="22786" y="13606"/>
                  <a:pt x="22647" y="13618"/>
                </a:cubicBezTo>
                <a:cubicBezTo>
                  <a:pt x="22524" y="13629"/>
                  <a:pt x="22396" y="13606"/>
                  <a:pt x="22275" y="13593"/>
                </a:cubicBezTo>
                <a:cubicBezTo>
                  <a:pt x="22043" y="13568"/>
                  <a:pt x="21810" y="13531"/>
                  <a:pt x="21580" y="13494"/>
                </a:cubicBezTo>
                <a:cubicBezTo>
                  <a:pt x="21055" y="13410"/>
                  <a:pt x="20547" y="13314"/>
                  <a:pt x="20017" y="13271"/>
                </a:cubicBezTo>
                <a:cubicBezTo>
                  <a:pt x="19844" y="13257"/>
                  <a:pt x="19669" y="13238"/>
                  <a:pt x="19496" y="13221"/>
                </a:cubicBezTo>
                <a:cubicBezTo>
                  <a:pt x="19337" y="13205"/>
                  <a:pt x="19187" y="13198"/>
                  <a:pt x="19025" y="13196"/>
                </a:cubicBezTo>
                <a:cubicBezTo>
                  <a:pt x="18885" y="13194"/>
                  <a:pt x="18736" y="13177"/>
                  <a:pt x="18604" y="13171"/>
                </a:cubicBezTo>
                <a:cubicBezTo>
                  <a:pt x="18529" y="13168"/>
                  <a:pt x="18455" y="13174"/>
                  <a:pt x="18380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ome things to remember: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olving an equation!  Your priority is to isolate the trigonometric function involved in the equation.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2" name="Ink 4"/>
          <p:cNvSpPr/>
          <p:nvPr/>
        </p:nvSpPr>
        <p:spPr>
          <a:xfrm>
            <a:off x="581040" y="4929120"/>
            <a:ext cx="928800" cy="652680"/>
          </a:xfrm>
          <a:custGeom>
            <a:avLst/>
            <a:gdLst/>
            <a:ahLst/>
            <a:rect l="l" t="t" r="r" b="b"/>
            <a:pathLst>
              <a:path w="2581" h="1812">
                <a:moveTo>
                  <a:pt x="1736" y="13692"/>
                </a:moveTo>
                <a:cubicBezTo>
                  <a:pt x="1774" y="13730"/>
                  <a:pt x="1810" y="13771"/>
                  <a:pt x="1836" y="13816"/>
                </a:cubicBezTo>
                <a:cubicBezTo>
                  <a:pt x="1884" y="13897"/>
                  <a:pt x="1899" y="14021"/>
                  <a:pt x="1935" y="14114"/>
                </a:cubicBezTo>
                <a:cubicBezTo>
                  <a:pt x="1968" y="14200"/>
                  <a:pt x="2031" y="14369"/>
                  <a:pt x="2084" y="14436"/>
                </a:cubicBezTo>
                <a:cubicBezTo>
                  <a:pt x="2142" y="14509"/>
                  <a:pt x="2233" y="14578"/>
                  <a:pt x="2307" y="14635"/>
                </a:cubicBezTo>
                <a:cubicBezTo>
                  <a:pt x="2315" y="14643"/>
                  <a:pt x="2324" y="14652"/>
                  <a:pt x="2332" y="14660"/>
                </a:cubicBezTo>
              </a:path>
              <a:path w="2581" h="1812">
                <a:moveTo>
                  <a:pt x="2282" y="13767"/>
                </a:moveTo>
                <a:cubicBezTo>
                  <a:pt x="2194" y="13863"/>
                  <a:pt x="2112" y="13960"/>
                  <a:pt x="2034" y="14064"/>
                </a:cubicBezTo>
                <a:cubicBezTo>
                  <a:pt x="1942" y="14186"/>
                  <a:pt x="1859" y="14319"/>
                  <a:pt x="1761" y="14436"/>
                </a:cubicBezTo>
                <a:cubicBezTo>
                  <a:pt x="1722" y="14482"/>
                  <a:pt x="1606" y="14599"/>
                  <a:pt x="1612" y="14660"/>
                </a:cubicBezTo>
                <a:cubicBezTo>
                  <a:pt x="1642" y="14689"/>
                  <a:pt x="1653" y="14691"/>
                  <a:pt x="1662" y="14635"/>
                </a:cubicBezTo>
              </a:path>
              <a:path w="2581" h="1812">
                <a:moveTo>
                  <a:pt x="2406" y="14263"/>
                </a:moveTo>
                <a:lnTo>
                  <a:pt x="2406" y="14263"/>
                </a:lnTo>
              </a:path>
              <a:path w="2581" h="1812">
                <a:moveTo>
                  <a:pt x="2877" y="14039"/>
                </a:moveTo>
                <a:cubicBezTo>
                  <a:pt x="2926" y="14170"/>
                  <a:pt x="2959" y="14341"/>
                  <a:pt x="3026" y="14461"/>
                </a:cubicBezTo>
                <a:cubicBezTo>
                  <a:pt x="3080" y="14558"/>
                  <a:pt x="3146" y="14656"/>
                  <a:pt x="3225" y="14734"/>
                </a:cubicBezTo>
              </a:path>
              <a:path w="2581" h="1812">
                <a:moveTo>
                  <a:pt x="3497" y="13940"/>
                </a:moveTo>
                <a:cubicBezTo>
                  <a:pt x="3432" y="14104"/>
                  <a:pt x="3356" y="14262"/>
                  <a:pt x="3324" y="14436"/>
                </a:cubicBezTo>
                <a:cubicBezTo>
                  <a:pt x="3283" y="14660"/>
                  <a:pt x="3239" y="14881"/>
                  <a:pt x="3200" y="15106"/>
                </a:cubicBezTo>
                <a:cubicBezTo>
                  <a:pt x="3177" y="15239"/>
                  <a:pt x="3012" y="15577"/>
                  <a:pt x="3125" y="15503"/>
                </a:cubicBezTo>
                <a:cubicBezTo>
                  <a:pt x="3142" y="15478"/>
                  <a:pt x="3158" y="15454"/>
                  <a:pt x="3175" y="15429"/>
                </a:cubicBezTo>
              </a:path>
              <a:path w="2581" h="1812">
                <a:moveTo>
                  <a:pt x="3721" y="14263"/>
                </a:moveTo>
                <a:cubicBezTo>
                  <a:pt x="3891" y="14244"/>
                  <a:pt x="3984" y="14250"/>
                  <a:pt x="4142" y="14263"/>
                </a:cubicBezTo>
              </a:path>
              <a:path w="2581" h="1812">
                <a:moveTo>
                  <a:pt x="3870" y="14635"/>
                </a:moveTo>
                <a:cubicBezTo>
                  <a:pt x="3992" y="14669"/>
                  <a:pt x="4069" y="14646"/>
                  <a:pt x="4192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Ink 5"/>
          <p:cNvSpPr/>
          <p:nvPr/>
        </p:nvSpPr>
        <p:spPr>
          <a:xfrm>
            <a:off x="1704960" y="499104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4837" y="14089"/>
                </a:moveTo>
                <a:cubicBezTo>
                  <a:pt x="4765" y="14217"/>
                  <a:pt x="4742" y="14311"/>
                  <a:pt x="4738" y="14461"/>
                </a:cubicBezTo>
                <a:cubicBezTo>
                  <a:pt x="4734" y="14602"/>
                  <a:pt x="4781" y="14714"/>
                  <a:pt x="4887" y="14808"/>
                </a:cubicBezTo>
                <a:cubicBezTo>
                  <a:pt x="4970" y="14881"/>
                  <a:pt x="5108" y="14921"/>
                  <a:pt x="5209" y="14883"/>
                </a:cubicBezTo>
                <a:cubicBezTo>
                  <a:pt x="5343" y="14832"/>
                  <a:pt x="5429" y="14743"/>
                  <a:pt x="5482" y="14610"/>
                </a:cubicBezTo>
                <a:cubicBezTo>
                  <a:pt x="5535" y="14476"/>
                  <a:pt x="5501" y="14320"/>
                  <a:pt x="5457" y="14188"/>
                </a:cubicBezTo>
                <a:cubicBezTo>
                  <a:pt x="5403" y="14026"/>
                  <a:pt x="5310" y="13879"/>
                  <a:pt x="5135" y="13866"/>
                </a:cubicBezTo>
                <a:cubicBezTo>
                  <a:pt x="5060" y="13866"/>
                  <a:pt x="5036" y="13866"/>
                  <a:pt x="4986" y="138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Ink 6"/>
          <p:cNvSpPr/>
          <p:nvPr/>
        </p:nvSpPr>
        <p:spPr>
          <a:xfrm>
            <a:off x="2589120" y="4884840"/>
            <a:ext cx="1411560" cy="64296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7193" y="13618"/>
                </a:moveTo>
                <a:cubicBezTo>
                  <a:pt x="7246" y="13754"/>
                  <a:pt x="7327" y="13863"/>
                  <a:pt x="7392" y="13990"/>
                </a:cubicBezTo>
                <a:cubicBezTo>
                  <a:pt x="7480" y="14163"/>
                  <a:pt x="7585" y="14321"/>
                  <a:pt x="7689" y="14486"/>
                </a:cubicBezTo>
                <a:cubicBezTo>
                  <a:pt x="7760" y="14604"/>
                  <a:pt x="7781" y="14640"/>
                  <a:pt x="7838" y="14709"/>
                </a:cubicBezTo>
              </a:path>
              <a:path w="3920" h="1787">
                <a:moveTo>
                  <a:pt x="7615" y="13841"/>
                </a:moveTo>
                <a:cubicBezTo>
                  <a:pt x="7510" y="14009"/>
                  <a:pt x="7396" y="14179"/>
                  <a:pt x="7317" y="14362"/>
                </a:cubicBezTo>
                <a:cubicBezTo>
                  <a:pt x="7292" y="14421"/>
                  <a:pt x="7208" y="14557"/>
                  <a:pt x="7218" y="14610"/>
                </a:cubicBezTo>
                <a:cubicBezTo>
                  <a:pt x="7226" y="14618"/>
                  <a:pt x="7235" y="14627"/>
                  <a:pt x="7243" y="14635"/>
                </a:cubicBezTo>
              </a:path>
              <a:path w="3920" h="1787">
                <a:moveTo>
                  <a:pt x="7888" y="14064"/>
                </a:moveTo>
                <a:cubicBezTo>
                  <a:pt x="7921" y="14031"/>
                  <a:pt x="7937" y="14015"/>
                  <a:pt x="7962" y="13990"/>
                </a:cubicBezTo>
              </a:path>
              <a:path w="3920" h="1787">
                <a:moveTo>
                  <a:pt x="8458" y="13742"/>
                </a:moveTo>
                <a:cubicBezTo>
                  <a:pt x="8458" y="13904"/>
                  <a:pt x="8478" y="14016"/>
                  <a:pt x="8558" y="14163"/>
                </a:cubicBezTo>
                <a:cubicBezTo>
                  <a:pt x="8610" y="14258"/>
                  <a:pt x="8673" y="14350"/>
                  <a:pt x="8756" y="14412"/>
                </a:cubicBezTo>
              </a:path>
              <a:path w="3920" h="1787">
                <a:moveTo>
                  <a:pt x="8979" y="13692"/>
                </a:moveTo>
                <a:cubicBezTo>
                  <a:pt x="8971" y="13852"/>
                  <a:pt x="8940" y="14003"/>
                  <a:pt x="8930" y="14163"/>
                </a:cubicBezTo>
                <a:cubicBezTo>
                  <a:pt x="8919" y="14338"/>
                  <a:pt x="8905" y="14508"/>
                  <a:pt x="8905" y="14684"/>
                </a:cubicBezTo>
                <a:cubicBezTo>
                  <a:pt x="8905" y="14824"/>
                  <a:pt x="8888" y="15347"/>
                  <a:pt x="8930" y="15304"/>
                </a:cubicBezTo>
              </a:path>
              <a:path w="3920" h="1787">
                <a:moveTo>
                  <a:pt x="9351" y="13866"/>
                </a:moveTo>
                <a:cubicBezTo>
                  <a:pt x="9578" y="13757"/>
                  <a:pt x="9627" y="13775"/>
                  <a:pt x="9872" y="13816"/>
                </a:cubicBezTo>
              </a:path>
              <a:path w="3920" h="1787">
                <a:moveTo>
                  <a:pt x="9426" y="14089"/>
                </a:moveTo>
                <a:cubicBezTo>
                  <a:pt x="9535" y="14180"/>
                  <a:pt x="9603" y="14224"/>
                  <a:pt x="9748" y="14188"/>
                </a:cubicBezTo>
                <a:cubicBezTo>
                  <a:pt x="9773" y="14180"/>
                  <a:pt x="9798" y="14171"/>
                  <a:pt x="9823" y="14163"/>
                </a:cubicBezTo>
              </a:path>
              <a:path w="3920" h="1787">
                <a:moveTo>
                  <a:pt x="10294" y="13593"/>
                </a:moveTo>
                <a:cubicBezTo>
                  <a:pt x="10526" y="13585"/>
                  <a:pt x="10618" y="13569"/>
                  <a:pt x="10740" y="13791"/>
                </a:cubicBezTo>
                <a:cubicBezTo>
                  <a:pt x="10817" y="13931"/>
                  <a:pt x="10803" y="14080"/>
                  <a:pt x="10716" y="14213"/>
                </a:cubicBezTo>
                <a:cubicBezTo>
                  <a:pt x="10699" y="14230"/>
                  <a:pt x="10683" y="14246"/>
                  <a:pt x="10666" y="14263"/>
                </a:cubicBezTo>
              </a:path>
              <a:path w="3920" h="1787">
                <a:moveTo>
                  <a:pt x="10492" y="14312"/>
                </a:moveTo>
                <a:cubicBezTo>
                  <a:pt x="10422" y="14359"/>
                  <a:pt x="10403" y="14376"/>
                  <a:pt x="10344" y="14362"/>
                </a:cubicBezTo>
                <a:cubicBezTo>
                  <a:pt x="10402" y="14280"/>
                  <a:pt x="10423" y="14280"/>
                  <a:pt x="10517" y="14312"/>
                </a:cubicBezTo>
                <a:cubicBezTo>
                  <a:pt x="10657" y="14360"/>
                  <a:pt x="10770" y="14439"/>
                  <a:pt x="10914" y="14486"/>
                </a:cubicBezTo>
                <a:cubicBezTo>
                  <a:pt x="11003" y="14516"/>
                  <a:pt x="11044" y="14521"/>
                  <a:pt x="11112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at is meant by the directions????</a:t>
            </a:r>
            <a:endParaRPr b="0" lang="en-US" sz="28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ve the equation for 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&lt;2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view of unit circle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676520" y="175248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 Sin x + 1 = 1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92" name="Ink 4"/>
          <p:cNvSpPr/>
          <p:nvPr/>
        </p:nvSpPr>
        <p:spPr>
          <a:xfrm>
            <a:off x="3071880" y="1670040"/>
            <a:ext cx="330120" cy="24120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8533" y="4911"/>
                </a:moveTo>
                <a:cubicBezTo>
                  <a:pt x="8650" y="4936"/>
                  <a:pt x="8676" y="4929"/>
                  <a:pt x="8781" y="4911"/>
                </a:cubicBezTo>
                <a:cubicBezTo>
                  <a:pt x="8863" y="4897"/>
                  <a:pt x="8949" y="4910"/>
                  <a:pt x="9029" y="4887"/>
                </a:cubicBezTo>
                <a:cubicBezTo>
                  <a:pt x="9046" y="4879"/>
                  <a:pt x="9062" y="4870"/>
                  <a:pt x="9079" y="4862"/>
                </a:cubicBezTo>
              </a:path>
              <a:path w="919" h="671">
                <a:moveTo>
                  <a:pt x="9376" y="4638"/>
                </a:moveTo>
                <a:cubicBezTo>
                  <a:pt x="9388" y="4737"/>
                  <a:pt x="9422" y="4831"/>
                  <a:pt x="9426" y="4936"/>
                </a:cubicBezTo>
                <a:cubicBezTo>
                  <a:pt x="9430" y="5051"/>
                  <a:pt x="9394" y="5214"/>
                  <a:pt x="9451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Ink 5"/>
          <p:cNvSpPr/>
          <p:nvPr/>
        </p:nvSpPr>
        <p:spPr>
          <a:xfrm>
            <a:off x="3902040" y="1652760"/>
            <a:ext cx="357120" cy="642600"/>
          </a:xfrm>
          <a:custGeom>
            <a:avLst/>
            <a:gdLst/>
            <a:ahLst/>
            <a:rect l="l" t="t" r="r" b="b"/>
            <a:pathLst>
              <a:path w="993" h="1787">
                <a:moveTo>
                  <a:pt x="10840" y="4911"/>
                </a:moveTo>
                <a:cubicBezTo>
                  <a:pt x="10906" y="4911"/>
                  <a:pt x="10977" y="4907"/>
                  <a:pt x="11038" y="4887"/>
                </a:cubicBezTo>
                <a:cubicBezTo>
                  <a:pt x="11108" y="4864"/>
                  <a:pt x="11173" y="4860"/>
                  <a:pt x="11237" y="4837"/>
                </a:cubicBezTo>
                <a:cubicBezTo>
                  <a:pt x="11286" y="4820"/>
                  <a:pt x="11321" y="4811"/>
                  <a:pt x="11361" y="4787"/>
                </a:cubicBezTo>
              </a:path>
              <a:path w="993" h="1787">
                <a:moveTo>
                  <a:pt x="11733" y="4589"/>
                </a:moveTo>
                <a:cubicBezTo>
                  <a:pt x="11733" y="4750"/>
                  <a:pt x="11734" y="4906"/>
                  <a:pt x="11757" y="5060"/>
                </a:cubicBezTo>
                <a:cubicBezTo>
                  <a:pt x="11767" y="5125"/>
                  <a:pt x="11761" y="5171"/>
                  <a:pt x="11782" y="5234"/>
                </a:cubicBezTo>
              </a:path>
              <a:path w="993" h="1787">
                <a:moveTo>
                  <a:pt x="11509" y="5705"/>
                </a:moveTo>
                <a:cubicBezTo>
                  <a:pt x="11485" y="5754"/>
                  <a:pt x="11351" y="5964"/>
                  <a:pt x="11336" y="6052"/>
                </a:cubicBezTo>
                <a:cubicBezTo>
                  <a:pt x="11324" y="6121"/>
                  <a:pt x="11332" y="6196"/>
                  <a:pt x="11361" y="6251"/>
                </a:cubicBezTo>
                <a:cubicBezTo>
                  <a:pt x="11377" y="6282"/>
                  <a:pt x="11420" y="6363"/>
                  <a:pt x="11460" y="6375"/>
                </a:cubicBezTo>
                <a:cubicBezTo>
                  <a:pt x="11536" y="6397"/>
                  <a:pt x="11618" y="6356"/>
                  <a:pt x="11683" y="6325"/>
                </a:cubicBezTo>
                <a:cubicBezTo>
                  <a:pt x="11731" y="6302"/>
                  <a:pt x="11793" y="6254"/>
                  <a:pt x="11807" y="6201"/>
                </a:cubicBezTo>
                <a:cubicBezTo>
                  <a:pt x="11826" y="6130"/>
                  <a:pt x="11832" y="6053"/>
                  <a:pt x="11832" y="5978"/>
                </a:cubicBezTo>
                <a:cubicBezTo>
                  <a:pt x="11832" y="5887"/>
                  <a:pt x="11796" y="5835"/>
                  <a:pt x="11757" y="5755"/>
                </a:cubicBezTo>
                <a:cubicBezTo>
                  <a:pt x="11716" y="5672"/>
                  <a:pt x="11663" y="5675"/>
                  <a:pt x="11584" y="5655"/>
                </a:cubicBezTo>
                <a:cubicBezTo>
                  <a:pt x="11486" y="5624"/>
                  <a:pt x="11438" y="5620"/>
                  <a:pt x="11361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Ink 6"/>
          <p:cNvSpPr/>
          <p:nvPr/>
        </p:nvSpPr>
        <p:spPr>
          <a:xfrm>
            <a:off x="2741760" y="2071800"/>
            <a:ext cx="1098360" cy="303120"/>
          </a:xfrm>
          <a:custGeom>
            <a:avLst/>
            <a:gdLst/>
            <a:ahLst/>
            <a:rect l="l" t="t" r="r" b="b"/>
            <a:pathLst>
              <a:path w="3052" h="844">
                <a:moveTo>
                  <a:pt x="8012" y="5978"/>
                </a:moveTo>
                <a:cubicBezTo>
                  <a:pt x="8000" y="5895"/>
                  <a:pt x="7957" y="5883"/>
                  <a:pt x="7863" y="5904"/>
                </a:cubicBezTo>
                <a:cubicBezTo>
                  <a:pt x="7814" y="5915"/>
                  <a:pt x="7707" y="5979"/>
                  <a:pt x="7665" y="6003"/>
                </a:cubicBezTo>
                <a:cubicBezTo>
                  <a:pt x="7640" y="6028"/>
                  <a:pt x="7632" y="6036"/>
                  <a:pt x="7615" y="6052"/>
                </a:cubicBezTo>
                <a:cubicBezTo>
                  <a:pt x="7692" y="6052"/>
                  <a:pt x="7745" y="6061"/>
                  <a:pt x="7813" y="6102"/>
                </a:cubicBezTo>
                <a:cubicBezTo>
                  <a:pt x="7873" y="6138"/>
                  <a:pt x="7915" y="6188"/>
                  <a:pt x="7962" y="6226"/>
                </a:cubicBezTo>
                <a:cubicBezTo>
                  <a:pt x="8015" y="6269"/>
                  <a:pt x="8110" y="6305"/>
                  <a:pt x="8136" y="6375"/>
                </a:cubicBezTo>
                <a:cubicBezTo>
                  <a:pt x="8163" y="6446"/>
                  <a:pt x="8085" y="6496"/>
                  <a:pt x="8037" y="6524"/>
                </a:cubicBezTo>
                <a:cubicBezTo>
                  <a:pt x="7980" y="6557"/>
                  <a:pt x="7921" y="6597"/>
                  <a:pt x="7888" y="6548"/>
                </a:cubicBezTo>
              </a:path>
              <a:path w="3052" h="844">
                <a:moveTo>
                  <a:pt x="8483" y="5978"/>
                </a:moveTo>
                <a:cubicBezTo>
                  <a:pt x="8492" y="6065"/>
                  <a:pt x="8506" y="6137"/>
                  <a:pt x="8533" y="6226"/>
                </a:cubicBezTo>
                <a:cubicBezTo>
                  <a:pt x="8559" y="6313"/>
                  <a:pt x="8558" y="6383"/>
                  <a:pt x="8558" y="6474"/>
                </a:cubicBezTo>
              </a:path>
              <a:path w="3052" h="844">
                <a:moveTo>
                  <a:pt x="8558" y="5755"/>
                </a:moveTo>
                <a:lnTo>
                  <a:pt x="8558" y="5755"/>
                </a:lnTo>
              </a:path>
              <a:path w="3052" h="844">
                <a:moveTo>
                  <a:pt x="8781" y="6077"/>
                </a:moveTo>
                <a:cubicBezTo>
                  <a:pt x="8788" y="6156"/>
                  <a:pt x="8810" y="6224"/>
                  <a:pt x="8830" y="6300"/>
                </a:cubicBezTo>
                <a:cubicBezTo>
                  <a:pt x="8850" y="6376"/>
                  <a:pt x="8854" y="6479"/>
                  <a:pt x="8880" y="6548"/>
                </a:cubicBezTo>
                <a:cubicBezTo>
                  <a:pt x="8909" y="6624"/>
                  <a:pt x="8880" y="6453"/>
                  <a:pt x="8880" y="6424"/>
                </a:cubicBezTo>
                <a:cubicBezTo>
                  <a:pt x="8880" y="6341"/>
                  <a:pt x="8887" y="6276"/>
                  <a:pt x="8930" y="6201"/>
                </a:cubicBezTo>
                <a:cubicBezTo>
                  <a:pt x="8970" y="6133"/>
                  <a:pt x="9047" y="6070"/>
                  <a:pt x="9128" y="6052"/>
                </a:cubicBezTo>
                <a:cubicBezTo>
                  <a:pt x="9198" y="6036"/>
                  <a:pt x="9225" y="6101"/>
                  <a:pt x="9252" y="6152"/>
                </a:cubicBezTo>
                <a:cubicBezTo>
                  <a:pt x="9289" y="6221"/>
                  <a:pt x="9279" y="6303"/>
                  <a:pt x="9302" y="6375"/>
                </a:cubicBezTo>
                <a:cubicBezTo>
                  <a:pt x="9325" y="6446"/>
                  <a:pt x="9327" y="6496"/>
                  <a:pt x="9327" y="6573"/>
                </a:cubicBezTo>
                <a:cubicBezTo>
                  <a:pt x="9327" y="6581"/>
                  <a:pt x="9327" y="6590"/>
                  <a:pt x="9327" y="6598"/>
                </a:cubicBezTo>
              </a:path>
              <a:path w="3052" h="844">
                <a:moveTo>
                  <a:pt x="9823" y="6003"/>
                </a:moveTo>
                <a:cubicBezTo>
                  <a:pt x="9823" y="6103"/>
                  <a:pt x="9808" y="6136"/>
                  <a:pt x="9773" y="6226"/>
                </a:cubicBezTo>
                <a:cubicBezTo>
                  <a:pt x="9740" y="6310"/>
                  <a:pt x="9715" y="6393"/>
                  <a:pt x="9674" y="6474"/>
                </a:cubicBezTo>
                <a:cubicBezTo>
                  <a:pt x="9648" y="6526"/>
                  <a:pt x="9616" y="6590"/>
                  <a:pt x="9599" y="6573"/>
                </a:cubicBezTo>
              </a:path>
              <a:path w="3052" h="844">
                <a:moveTo>
                  <a:pt x="9624" y="6028"/>
                </a:moveTo>
                <a:cubicBezTo>
                  <a:pt x="9648" y="6128"/>
                  <a:pt x="9663" y="6196"/>
                  <a:pt x="9723" y="6276"/>
                </a:cubicBezTo>
                <a:cubicBezTo>
                  <a:pt x="9753" y="6316"/>
                  <a:pt x="9827" y="6380"/>
                  <a:pt x="9872" y="6400"/>
                </a:cubicBezTo>
                <a:cubicBezTo>
                  <a:pt x="9964" y="6441"/>
                  <a:pt x="10031" y="6432"/>
                  <a:pt x="10120" y="6424"/>
                </a:cubicBezTo>
                <a:cubicBezTo>
                  <a:pt x="10162" y="6424"/>
                  <a:pt x="10170" y="6424"/>
                  <a:pt x="10195" y="6424"/>
                </a:cubicBezTo>
              </a:path>
              <a:path w="3052" h="844">
                <a:moveTo>
                  <a:pt x="10269" y="6003"/>
                </a:moveTo>
                <a:cubicBezTo>
                  <a:pt x="10350" y="5981"/>
                  <a:pt x="10409" y="5978"/>
                  <a:pt x="10492" y="5978"/>
                </a:cubicBezTo>
                <a:cubicBezTo>
                  <a:pt x="10542" y="5978"/>
                  <a:pt x="10559" y="5978"/>
                  <a:pt x="10592" y="5978"/>
                </a:cubicBezTo>
              </a:path>
              <a:path w="3052" h="844">
                <a:moveTo>
                  <a:pt x="10269" y="6201"/>
                </a:moveTo>
                <a:cubicBezTo>
                  <a:pt x="10360" y="6201"/>
                  <a:pt x="10430" y="6188"/>
                  <a:pt x="10517" y="6176"/>
                </a:cubicBezTo>
                <a:cubicBezTo>
                  <a:pt x="10579" y="6167"/>
                  <a:pt x="10636" y="6195"/>
                  <a:pt x="10666" y="61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Ink 7"/>
          <p:cNvSpPr/>
          <p:nvPr/>
        </p:nvSpPr>
        <p:spPr>
          <a:xfrm>
            <a:off x="2320920" y="2705040"/>
            <a:ext cx="1251000" cy="938160"/>
          </a:xfrm>
          <a:custGeom>
            <a:avLst/>
            <a:gdLst/>
            <a:ahLst/>
            <a:rect l="l" t="t" r="r" b="b"/>
            <a:pathLst>
              <a:path w="3474" h="2605">
                <a:moveTo>
                  <a:pt x="8657" y="7888"/>
                </a:moveTo>
                <a:cubicBezTo>
                  <a:pt x="8669" y="7973"/>
                  <a:pt x="8682" y="8039"/>
                  <a:pt x="8682" y="8136"/>
                </a:cubicBezTo>
                <a:cubicBezTo>
                  <a:pt x="8682" y="8285"/>
                  <a:pt x="8618" y="8431"/>
                  <a:pt x="8607" y="8582"/>
                </a:cubicBezTo>
                <a:cubicBezTo>
                  <a:pt x="8596" y="8728"/>
                  <a:pt x="8600" y="8899"/>
                  <a:pt x="8558" y="9029"/>
                </a:cubicBezTo>
              </a:path>
              <a:path w="3474" h="2605">
                <a:moveTo>
                  <a:pt x="9079" y="7913"/>
                </a:moveTo>
                <a:cubicBezTo>
                  <a:pt x="9079" y="8219"/>
                  <a:pt x="9072" y="8529"/>
                  <a:pt x="9103" y="8830"/>
                </a:cubicBezTo>
                <a:cubicBezTo>
                  <a:pt x="9111" y="8907"/>
                  <a:pt x="9092" y="9069"/>
                  <a:pt x="9153" y="8930"/>
                </a:cubicBezTo>
              </a:path>
              <a:path w="3474" h="2605">
                <a:moveTo>
                  <a:pt x="8458" y="8012"/>
                </a:moveTo>
                <a:cubicBezTo>
                  <a:pt x="8626" y="7945"/>
                  <a:pt x="8777" y="7899"/>
                  <a:pt x="8954" y="7863"/>
                </a:cubicBezTo>
                <a:cubicBezTo>
                  <a:pt x="9085" y="7836"/>
                  <a:pt x="9224" y="7803"/>
                  <a:pt x="9351" y="7789"/>
                </a:cubicBezTo>
                <a:cubicBezTo>
                  <a:pt x="9417" y="7789"/>
                  <a:pt x="9434" y="7789"/>
                  <a:pt x="9475" y="7789"/>
                </a:cubicBezTo>
              </a:path>
              <a:path w="3474" h="2605">
                <a:moveTo>
                  <a:pt x="7640" y="8409"/>
                </a:moveTo>
                <a:cubicBezTo>
                  <a:pt x="7580" y="8480"/>
                  <a:pt x="7491" y="8562"/>
                  <a:pt x="7441" y="8632"/>
                </a:cubicBezTo>
                <a:cubicBezTo>
                  <a:pt x="7358" y="8747"/>
                  <a:pt x="7278" y="8863"/>
                  <a:pt x="7193" y="8979"/>
                </a:cubicBezTo>
                <a:cubicBezTo>
                  <a:pt x="7156" y="9029"/>
                  <a:pt x="7036" y="9241"/>
                  <a:pt x="6970" y="9227"/>
                </a:cubicBezTo>
                <a:cubicBezTo>
                  <a:pt x="6962" y="9211"/>
                  <a:pt x="6953" y="9194"/>
                  <a:pt x="6945" y="9178"/>
                </a:cubicBezTo>
              </a:path>
              <a:path w="3474" h="2605">
                <a:moveTo>
                  <a:pt x="7045" y="8607"/>
                </a:moveTo>
                <a:cubicBezTo>
                  <a:pt x="7119" y="8682"/>
                  <a:pt x="7194" y="8755"/>
                  <a:pt x="7268" y="8830"/>
                </a:cubicBezTo>
                <a:cubicBezTo>
                  <a:pt x="7338" y="8900"/>
                  <a:pt x="7385" y="8995"/>
                  <a:pt x="7466" y="9054"/>
                </a:cubicBezTo>
                <a:cubicBezTo>
                  <a:pt x="7511" y="9087"/>
                  <a:pt x="7608" y="9141"/>
                  <a:pt x="7665" y="9128"/>
                </a:cubicBezTo>
                <a:cubicBezTo>
                  <a:pt x="7732" y="9113"/>
                  <a:pt x="7757" y="9055"/>
                  <a:pt x="7789" y="9004"/>
                </a:cubicBezTo>
              </a:path>
              <a:path w="3474" h="2605">
                <a:moveTo>
                  <a:pt x="7888" y="8384"/>
                </a:moveTo>
                <a:cubicBezTo>
                  <a:pt x="7981" y="8337"/>
                  <a:pt x="8082" y="8279"/>
                  <a:pt x="8186" y="8260"/>
                </a:cubicBezTo>
                <a:cubicBezTo>
                  <a:pt x="8202" y="8260"/>
                  <a:pt x="8219" y="8260"/>
                  <a:pt x="8235" y="8260"/>
                </a:cubicBezTo>
              </a:path>
              <a:path w="3474" h="2605">
                <a:moveTo>
                  <a:pt x="7888" y="8682"/>
                </a:moveTo>
                <a:cubicBezTo>
                  <a:pt x="7980" y="8677"/>
                  <a:pt x="8028" y="8667"/>
                  <a:pt x="8111" y="8657"/>
                </a:cubicBezTo>
              </a:path>
              <a:path w="3474" h="2605">
                <a:moveTo>
                  <a:pt x="6598" y="9004"/>
                </a:moveTo>
                <a:cubicBezTo>
                  <a:pt x="6620" y="9139"/>
                  <a:pt x="6652" y="9268"/>
                  <a:pt x="6672" y="9401"/>
                </a:cubicBezTo>
                <a:cubicBezTo>
                  <a:pt x="6688" y="9507"/>
                  <a:pt x="6714" y="9597"/>
                  <a:pt x="6747" y="9699"/>
                </a:cubicBezTo>
                <a:cubicBezTo>
                  <a:pt x="6747" y="9743"/>
                  <a:pt x="6744" y="9757"/>
                  <a:pt x="6772" y="9773"/>
                </a:cubicBezTo>
                <a:cubicBezTo>
                  <a:pt x="6750" y="9676"/>
                  <a:pt x="6718" y="9575"/>
                  <a:pt x="6697" y="9475"/>
                </a:cubicBezTo>
                <a:cubicBezTo>
                  <a:pt x="6659" y="9295"/>
                  <a:pt x="6605" y="9151"/>
                  <a:pt x="6548" y="8979"/>
                </a:cubicBezTo>
                <a:cubicBezTo>
                  <a:pt x="6504" y="8845"/>
                  <a:pt x="6443" y="8726"/>
                  <a:pt x="6449" y="8582"/>
                </a:cubicBezTo>
                <a:cubicBezTo>
                  <a:pt x="6454" y="8467"/>
                  <a:pt x="6482" y="8459"/>
                  <a:pt x="6548" y="8384"/>
                </a:cubicBezTo>
                <a:cubicBezTo>
                  <a:pt x="6625" y="8297"/>
                  <a:pt x="6696" y="8267"/>
                  <a:pt x="6796" y="8210"/>
                </a:cubicBezTo>
                <a:cubicBezTo>
                  <a:pt x="7014" y="8086"/>
                  <a:pt x="7249" y="7955"/>
                  <a:pt x="7491" y="7888"/>
                </a:cubicBezTo>
                <a:cubicBezTo>
                  <a:pt x="7760" y="7814"/>
                  <a:pt x="8037" y="7726"/>
                  <a:pt x="8310" y="7665"/>
                </a:cubicBezTo>
                <a:cubicBezTo>
                  <a:pt x="8509" y="7620"/>
                  <a:pt x="8728" y="7561"/>
                  <a:pt x="8930" y="7541"/>
                </a:cubicBezTo>
                <a:cubicBezTo>
                  <a:pt x="9062" y="7528"/>
                  <a:pt x="9220" y="7511"/>
                  <a:pt x="9351" y="7516"/>
                </a:cubicBezTo>
                <a:cubicBezTo>
                  <a:pt x="9427" y="7519"/>
                  <a:pt x="9528" y="7531"/>
                  <a:pt x="9599" y="7565"/>
                </a:cubicBezTo>
                <a:cubicBezTo>
                  <a:pt x="9693" y="7609"/>
                  <a:pt x="9708" y="7669"/>
                  <a:pt x="9723" y="7764"/>
                </a:cubicBezTo>
                <a:cubicBezTo>
                  <a:pt x="9739" y="7862"/>
                  <a:pt x="9735" y="7964"/>
                  <a:pt x="9748" y="8062"/>
                </a:cubicBezTo>
                <a:cubicBezTo>
                  <a:pt x="9761" y="8160"/>
                  <a:pt x="9783" y="8261"/>
                  <a:pt x="9798" y="8359"/>
                </a:cubicBezTo>
                <a:cubicBezTo>
                  <a:pt x="9819" y="8493"/>
                  <a:pt x="9847" y="8625"/>
                  <a:pt x="9872" y="8756"/>
                </a:cubicBezTo>
                <a:cubicBezTo>
                  <a:pt x="9890" y="8850"/>
                  <a:pt x="9921" y="8941"/>
                  <a:pt x="9897" y="9029"/>
                </a:cubicBezTo>
                <a:cubicBezTo>
                  <a:pt x="9869" y="9131"/>
                  <a:pt x="9808" y="9162"/>
                  <a:pt x="9723" y="9203"/>
                </a:cubicBezTo>
                <a:cubicBezTo>
                  <a:pt x="9599" y="9263"/>
                  <a:pt x="9411" y="9299"/>
                  <a:pt x="9277" y="9327"/>
                </a:cubicBezTo>
                <a:cubicBezTo>
                  <a:pt x="8938" y="9397"/>
                  <a:pt x="8614" y="9427"/>
                  <a:pt x="8285" y="9525"/>
                </a:cubicBezTo>
                <a:cubicBezTo>
                  <a:pt x="7980" y="9616"/>
                  <a:pt x="7690" y="9706"/>
                  <a:pt x="7392" y="9823"/>
                </a:cubicBezTo>
                <a:cubicBezTo>
                  <a:pt x="7191" y="9902"/>
                  <a:pt x="6996" y="9989"/>
                  <a:pt x="6796" y="10071"/>
                </a:cubicBezTo>
                <a:cubicBezTo>
                  <a:pt x="6755" y="10087"/>
                  <a:pt x="6713" y="10104"/>
                  <a:pt x="6672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Ink 8"/>
          <p:cNvSpPr/>
          <p:nvPr/>
        </p:nvSpPr>
        <p:spPr>
          <a:xfrm>
            <a:off x="2759040" y="3367080"/>
            <a:ext cx="1098720" cy="938160"/>
          </a:xfrm>
          <a:custGeom>
            <a:avLst/>
            <a:gdLst/>
            <a:ahLst/>
            <a:rect l="l" t="t" r="r" b="b"/>
            <a:pathLst>
              <a:path w="3052" h="2606">
                <a:moveTo>
                  <a:pt x="8334" y="10220"/>
                </a:moveTo>
                <a:cubicBezTo>
                  <a:pt x="8320" y="10287"/>
                  <a:pt x="8314" y="10393"/>
                  <a:pt x="8334" y="10468"/>
                </a:cubicBezTo>
                <a:cubicBezTo>
                  <a:pt x="8352" y="10534"/>
                  <a:pt x="8361" y="10630"/>
                  <a:pt x="8384" y="10691"/>
                </a:cubicBezTo>
                <a:cubicBezTo>
                  <a:pt x="8406" y="10713"/>
                  <a:pt x="8415" y="10718"/>
                  <a:pt x="8409" y="10740"/>
                </a:cubicBezTo>
              </a:path>
              <a:path w="3052" h="2606">
                <a:moveTo>
                  <a:pt x="8136" y="10592"/>
                </a:moveTo>
                <a:cubicBezTo>
                  <a:pt x="8210" y="10555"/>
                  <a:pt x="8285" y="10527"/>
                  <a:pt x="8359" y="10492"/>
                </a:cubicBezTo>
                <a:cubicBezTo>
                  <a:pt x="8446" y="10451"/>
                  <a:pt x="8517" y="10393"/>
                  <a:pt x="8582" y="10344"/>
                </a:cubicBezTo>
                <a:cubicBezTo>
                  <a:pt x="8632" y="10319"/>
                  <a:pt x="8649" y="10311"/>
                  <a:pt x="8682" y="10294"/>
                </a:cubicBezTo>
              </a:path>
              <a:path w="3052" h="2606">
                <a:moveTo>
                  <a:pt x="9277" y="9823"/>
                </a:moveTo>
                <a:cubicBezTo>
                  <a:pt x="9247" y="9926"/>
                  <a:pt x="9207" y="10013"/>
                  <a:pt x="9203" y="10120"/>
                </a:cubicBezTo>
                <a:cubicBezTo>
                  <a:pt x="9199" y="10227"/>
                  <a:pt x="9188" y="10344"/>
                  <a:pt x="9227" y="10443"/>
                </a:cubicBezTo>
                <a:cubicBezTo>
                  <a:pt x="9264" y="10536"/>
                  <a:pt x="9359" y="10554"/>
                  <a:pt x="9451" y="10542"/>
                </a:cubicBezTo>
                <a:cubicBezTo>
                  <a:pt x="9525" y="10532"/>
                  <a:pt x="9662" y="10488"/>
                  <a:pt x="9723" y="10443"/>
                </a:cubicBezTo>
                <a:cubicBezTo>
                  <a:pt x="9794" y="10390"/>
                  <a:pt x="9858" y="10310"/>
                  <a:pt x="9872" y="10220"/>
                </a:cubicBezTo>
                <a:cubicBezTo>
                  <a:pt x="9886" y="10126"/>
                  <a:pt x="9881" y="10040"/>
                  <a:pt x="9823" y="9971"/>
                </a:cubicBezTo>
                <a:cubicBezTo>
                  <a:pt x="9744" y="9877"/>
                  <a:pt x="9615" y="9860"/>
                  <a:pt x="9500" y="9847"/>
                </a:cubicBezTo>
                <a:cubicBezTo>
                  <a:pt x="9413" y="9837"/>
                  <a:pt x="9330" y="9842"/>
                  <a:pt x="9252" y="9872"/>
                </a:cubicBezTo>
              </a:path>
              <a:path w="3052" h="2606">
                <a:moveTo>
                  <a:pt x="7764" y="10368"/>
                </a:moveTo>
                <a:cubicBezTo>
                  <a:pt x="7800" y="10467"/>
                  <a:pt x="7837" y="10564"/>
                  <a:pt x="7863" y="10666"/>
                </a:cubicBezTo>
                <a:cubicBezTo>
                  <a:pt x="7903" y="10821"/>
                  <a:pt x="7936" y="10985"/>
                  <a:pt x="7987" y="11137"/>
                </a:cubicBezTo>
                <a:cubicBezTo>
                  <a:pt x="8011" y="11207"/>
                  <a:pt x="8035" y="11297"/>
                  <a:pt x="8062" y="11361"/>
                </a:cubicBezTo>
                <a:cubicBezTo>
                  <a:pt x="8091" y="11390"/>
                  <a:pt x="8096" y="11392"/>
                  <a:pt x="8062" y="11336"/>
                </a:cubicBezTo>
                <a:cubicBezTo>
                  <a:pt x="8014" y="11186"/>
                  <a:pt x="7980" y="11031"/>
                  <a:pt x="7913" y="10889"/>
                </a:cubicBezTo>
                <a:cubicBezTo>
                  <a:pt x="7852" y="10760"/>
                  <a:pt x="7769" y="10649"/>
                  <a:pt x="7714" y="10517"/>
                </a:cubicBezTo>
                <a:cubicBezTo>
                  <a:pt x="7657" y="10379"/>
                  <a:pt x="7688" y="10388"/>
                  <a:pt x="7739" y="10269"/>
                </a:cubicBezTo>
                <a:cubicBezTo>
                  <a:pt x="7817" y="10086"/>
                  <a:pt x="7997" y="9993"/>
                  <a:pt x="8161" y="9897"/>
                </a:cubicBezTo>
                <a:cubicBezTo>
                  <a:pt x="8353" y="9785"/>
                  <a:pt x="8550" y="9655"/>
                  <a:pt x="8756" y="9575"/>
                </a:cubicBezTo>
                <a:cubicBezTo>
                  <a:pt x="8933" y="9506"/>
                  <a:pt x="9118" y="9447"/>
                  <a:pt x="9302" y="9401"/>
                </a:cubicBezTo>
                <a:cubicBezTo>
                  <a:pt x="9456" y="9362"/>
                  <a:pt x="9590" y="9354"/>
                  <a:pt x="9748" y="9351"/>
                </a:cubicBezTo>
                <a:cubicBezTo>
                  <a:pt x="9879" y="9349"/>
                  <a:pt x="9990" y="9370"/>
                  <a:pt x="10096" y="9451"/>
                </a:cubicBezTo>
                <a:cubicBezTo>
                  <a:pt x="10209" y="9537"/>
                  <a:pt x="10285" y="9623"/>
                  <a:pt x="10368" y="9748"/>
                </a:cubicBezTo>
                <a:cubicBezTo>
                  <a:pt x="10434" y="9847"/>
                  <a:pt x="10479" y="9948"/>
                  <a:pt x="10542" y="10046"/>
                </a:cubicBezTo>
                <a:cubicBezTo>
                  <a:pt x="10601" y="10139"/>
                  <a:pt x="10655" y="10240"/>
                  <a:pt x="10691" y="10344"/>
                </a:cubicBezTo>
                <a:cubicBezTo>
                  <a:pt x="10723" y="10436"/>
                  <a:pt x="10720" y="10479"/>
                  <a:pt x="10691" y="10567"/>
                </a:cubicBezTo>
                <a:cubicBezTo>
                  <a:pt x="10651" y="10691"/>
                  <a:pt x="10532" y="10715"/>
                  <a:pt x="10418" y="10765"/>
                </a:cubicBezTo>
                <a:cubicBezTo>
                  <a:pt x="10231" y="10847"/>
                  <a:pt x="10018" y="10902"/>
                  <a:pt x="9823" y="10964"/>
                </a:cubicBezTo>
                <a:cubicBezTo>
                  <a:pt x="9582" y="11041"/>
                  <a:pt x="9362" y="11098"/>
                  <a:pt x="9128" y="11187"/>
                </a:cubicBezTo>
                <a:cubicBezTo>
                  <a:pt x="8896" y="11276"/>
                  <a:pt x="8674" y="11359"/>
                  <a:pt x="8458" y="11485"/>
                </a:cubicBezTo>
                <a:cubicBezTo>
                  <a:pt x="8223" y="11621"/>
                  <a:pt x="8005" y="11792"/>
                  <a:pt x="7789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Ink 9"/>
          <p:cNvSpPr/>
          <p:nvPr/>
        </p:nvSpPr>
        <p:spPr>
          <a:xfrm>
            <a:off x="2946240" y="4510080"/>
            <a:ext cx="1465560" cy="374760"/>
          </a:xfrm>
          <a:custGeom>
            <a:avLst/>
            <a:gdLst/>
            <a:ahLst/>
            <a:rect l="l" t="t" r="r" b="b"/>
            <a:pathLst>
              <a:path w="4069" h="1043">
                <a:moveTo>
                  <a:pt x="8682" y="13146"/>
                </a:moveTo>
                <a:cubicBezTo>
                  <a:pt x="8687" y="13076"/>
                  <a:pt x="8703" y="13016"/>
                  <a:pt x="8706" y="12948"/>
                </a:cubicBezTo>
                <a:cubicBezTo>
                  <a:pt x="8708" y="12893"/>
                  <a:pt x="8715" y="12742"/>
                  <a:pt x="8682" y="12700"/>
                </a:cubicBezTo>
                <a:cubicBezTo>
                  <a:pt x="8634" y="12638"/>
                  <a:pt x="8567" y="12578"/>
                  <a:pt x="8483" y="12626"/>
                </a:cubicBezTo>
                <a:cubicBezTo>
                  <a:pt x="8396" y="12675"/>
                  <a:pt x="8355" y="12772"/>
                  <a:pt x="8310" y="12849"/>
                </a:cubicBezTo>
                <a:cubicBezTo>
                  <a:pt x="8220" y="13005"/>
                  <a:pt x="8172" y="13108"/>
                  <a:pt x="8210" y="13295"/>
                </a:cubicBezTo>
                <a:cubicBezTo>
                  <a:pt x="8234" y="13413"/>
                  <a:pt x="8304" y="13479"/>
                  <a:pt x="8409" y="13519"/>
                </a:cubicBezTo>
                <a:cubicBezTo>
                  <a:pt x="8518" y="13560"/>
                  <a:pt x="8594" y="13583"/>
                  <a:pt x="8706" y="13543"/>
                </a:cubicBezTo>
                <a:cubicBezTo>
                  <a:pt x="8858" y="13489"/>
                  <a:pt x="8866" y="13475"/>
                  <a:pt x="8954" y="13345"/>
                </a:cubicBezTo>
                <a:cubicBezTo>
                  <a:pt x="9086" y="13150"/>
                  <a:pt x="9102" y="13057"/>
                  <a:pt x="9153" y="12824"/>
                </a:cubicBezTo>
                <a:cubicBezTo>
                  <a:pt x="9176" y="12717"/>
                  <a:pt x="9165" y="12658"/>
                  <a:pt x="9153" y="12551"/>
                </a:cubicBezTo>
                <a:cubicBezTo>
                  <a:pt x="9117" y="12611"/>
                  <a:pt x="9128" y="12630"/>
                  <a:pt x="9128" y="12700"/>
                </a:cubicBezTo>
                <a:cubicBezTo>
                  <a:pt x="9128" y="12833"/>
                  <a:pt x="9140" y="12944"/>
                  <a:pt x="9178" y="13072"/>
                </a:cubicBezTo>
                <a:cubicBezTo>
                  <a:pt x="9210" y="13181"/>
                  <a:pt x="9220" y="13284"/>
                  <a:pt x="9252" y="13395"/>
                </a:cubicBezTo>
                <a:cubicBezTo>
                  <a:pt x="9280" y="13312"/>
                  <a:pt x="9292" y="13210"/>
                  <a:pt x="9302" y="13122"/>
                </a:cubicBezTo>
                <a:cubicBezTo>
                  <a:pt x="9314" y="13015"/>
                  <a:pt x="9314" y="12952"/>
                  <a:pt x="9351" y="12849"/>
                </a:cubicBezTo>
                <a:cubicBezTo>
                  <a:pt x="9403" y="12922"/>
                  <a:pt x="9418" y="12985"/>
                  <a:pt x="9451" y="13072"/>
                </a:cubicBezTo>
                <a:cubicBezTo>
                  <a:pt x="9481" y="13150"/>
                  <a:pt x="9522" y="13234"/>
                  <a:pt x="9599" y="13271"/>
                </a:cubicBezTo>
                <a:cubicBezTo>
                  <a:pt x="9697" y="13317"/>
                  <a:pt x="9745" y="13326"/>
                  <a:pt x="9847" y="13295"/>
                </a:cubicBezTo>
                <a:cubicBezTo>
                  <a:pt x="9968" y="13258"/>
                  <a:pt x="9975" y="13204"/>
                  <a:pt x="10021" y="13097"/>
                </a:cubicBezTo>
                <a:cubicBezTo>
                  <a:pt x="10069" y="12985"/>
                  <a:pt x="10062" y="12869"/>
                  <a:pt x="9996" y="12774"/>
                </a:cubicBezTo>
                <a:cubicBezTo>
                  <a:pt x="9988" y="12766"/>
                  <a:pt x="9979" y="12758"/>
                  <a:pt x="9971" y="12750"/>
                </a:cubicBezTo>
                <a:cubicBezTo>
                  <a:pt x="9863" y="12779"/>
                  <a:pt x="9867" y="12725"/>
                  <a:pt x="9798" y="12849"/>
                </a:cubicBezTo>
                <a:cubicBezTo>
                  <a:pt x="9754" y="12928"/>
                  <a:pt x="9758" y="13085"/>
                  <a:pt x="9773" y="13171"/>
                </a:cubicBezTo>
                <a:cubicBezTo>
                  <a:pt x="9790" y="13267"/>
                  <a:pt x="9861" y="13375"/>
                  <a:pt x="9947" y="13419"/>
                </a:cubicBezTo>
                <a:cubicBezTo>
                  <a:pt x="10087" y="13492"/>
                  <a:pt x="10231" y="13407"/>
                  <a:pt x="10319" y="13295"/>
                </a:cubicBezTo>
                <a:cubicBezTo>
                  <a:pt x="10433" y="13149"/>
                  <a:pt x="10436" y="13058"/>
                  <a:pt x="10443" y="12874"/>
                </a:cubicBezTo>
              </a:path>
              <a:path w="4069" h="1043">
                <a:moveTo>
                  <a:pt x="10393" y="12601"/>
                </a:moveTo>
                <a:cubicBezTo>
                  <a:pt x="10393" y="12683"/>
                  <a:pt x="10400" y="12771"/>
                  <a:pt x="10418" y="12849"/>
                </a:cubicBezTo>
                <a:cubicBezTo>
                  <a:pt x="10442" y="12957"/>
                  <a:pt x="10424" y="13063"/>
                  <a:pt x="10443" y="13171"/>
                </a:cubicBezTo>
                <a:cubicBezTo>
                  <a:pt x="10450" y="13209"/>
                  <a:pt x="10460" y="13362"/>
                  <a:pt x="10542" y="13320"/>
                </a:cubicBezTo>
                <a:cubicBezTo>
                  <a:pt x="10559" y="13304"/>
                  <a:pt x="10575" y="13287"/>
                  <a:pt x="10592" y="13271"/>
                </a:cubicBezTo>
              </a:path>
              <a:path w="4069" h="1043">
                <a:moveTo>
                  <a:pt x="10864" y="12849"/>
                </a:moveTo>
                <a:cubicBezTo>
                  <a:pt x="10807" y="12773"/>
                  <a:pt x="10768" y="12694"/>
                  <a:pt x="10666" y="12774"/>
                </a:cubicBezTo>
                <a:cubicBezTo>
                  <a:pt x="10573" y="12847"/>
                  <a:pt x="10679" y="12904"/>
                  <a:pt x="10716" y="12948"/>
                </a:cubicBezTo>
                <a:cubicBezTo>
                  <a:pt x="10775" y="13018"/>
                  <a:pt x="10823" y="13089"/>
                  <a:pt x="10864" y="13171"/>
                </a:cubicBezTo>
                <a:cubicBezTo>
                  <a:pt x="10902" y="13247"/>
                  <a:pt x="10906" y="13269"/>
                  <a:pt x="10889" y="13345"/>
                </a:cubicBezTo>
                <a:cubicBezTo>
                  <a:pt x="10806" y="13364"/>
                  <a:pt x="10744" y="13348"/>
                  <a:pt x="10666" y="13295"/>
                </a:cubicBezTo>
                <a:cubicBezTo>
                  <a:pt x="10637" y="13267"/>
                  <a:pt x="10629" y="13254"/>
                  <a:pt x="10641" y="13221"/>
                </a:cubicBezTo>
              </a:path>
              <a:path w="4069" h="1043">
                <a:moveTo>
                  <a:pt x="11112" y="13122"/>
                </a:moveTo>
                <a:cubicBezTo>
                  <a:pt x="11264" y="13021"/>
                  <a:pt x="11385" y="13003"/>
                  <a:pt x="11385" y="12824"/>
                </a:cubicBezTo>
                <a:cubicBezTo>
                  <a:pt x="11287" y="12774"/>
                  <a:pt x="11294" y="12805"/>
                  <a:pt x="11237" y="12874"/>
                </a:cubicBezTo>
                <a:cubicBezTo>
                  <a:pt x="11175" y="12949"/>
                  <a:pt x="11131" y="13021"/>
                  <a:pt x="11112" y="13122"/>
                </a:cubicBezTo>
                <a:cubicBezTo>
                  <a:pt x="11100" y="13186"/>
                  <a:pt x="11157" y="13288"/>
                  <a:pt x="11212" y="13320"/>
                </a:cubicBezTo>
                <a:cubicBezTo>
                  <a:pt x="11286" y="13364"/>
                  <a:pt x="11453" y="13359"/>
                  <a:pt x="11534" y="13345"/>
                </a:cubicBezTo>
                <a:cubicBezTo>
                  <a:pt x="11706" y="13316"/>
                  <a:pt x="11778" y="13266"/>
                  <a:pt x="11881" y="13146"/>
                </a:cubicBezTo>
                <a:cubicBezTo>
                  <a:pt x="11913" y="13109"/>
                  <a:pt x="11975" y="12980"/>
                  <a:pt x="11931" y="12923"/>
                </a:cubicBezTo>
                <a:cubicBezTo>
                  <a:pt x="11887" y="12866"/>
                  <a:pt x="11772" y="12838"/>
                  <a:pt x="11708" y="12849"/>
                </a:cubicBezTo>
                <a:cubicBezTo>
                  <a:pt x="11646" y="12859"/>
                  <a:pt x="11568" y="12923"/>
                  <a:pt x="11534" y="12973"/>
                </a:cubicBezTo>
                <a:cubicBezTo>
                  <a:pt x="11510" y="13021"/>
                  <a:pt x="11501" y="13035"/>
                  <a:pt x="11509" y="13072"/>
                </a:cubicBezTo>
                <a:cubicBezTo>
                  <a:pt x="11595" y="13121"/>
                  <a:pt x="11588" y="13101"/>
                  <a:pt x="11683" y="13097"/>
                </a:cubicBezTo>
                <a:cubicBezTo>
                  <a:pt x="11802" y="13092"/>
                  <a:pt x="11793" y="13060"/>
                  <a:pt x="11881" y="12998"/>
                </a:cubicBezTo>
                <a:cubicBezTo>
                  <a:pt x="11925" y="12976"/>
                  <a:pt x="11937" y="12973"/>
                  <a:pt x="11956" y="12948"/>
                </a:cubicBezTo>
                <a:cubicBezTo>
                  <a:pt x="11964" y="13062"/>
                  <a:pt x="11987" y="13171"/>
                  <a:pt x="12055" y="13271"/>
                </a:cubicBezTo>
                <a:cubicBezTo>
                  <a:pt x="12074" y="13298"/>
                  <a:pt x="12209" y="13467"/>
                  <a:pt x="12229" y="13469"/>
                </a:cubicBezTo>
                <a:cubicBezTo>
                  <a:pt x="12237" y="13461"/>
                  <a:pt x="12246" y="13452"/>
                  <a:pt x="12254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.  Tan x + 1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00" name="Ink 4"/>
          <p:cNvSpPr/>
          <p:nvPr/>
        </p:nvSpPr>
        <p:spPr>
          <a:xfrm>
            <a:off x="3241800" y="1660680"/>
            <a:ext cx="393480" cy="403200"/>
          </a:xfrm>
          <a:custGeom>
            <a:avLst/>
            <a:gdLst/>
            <a:ahLst/>
            <a:rect l="l" t="t" r="r" b="b"/>
            <a:pathLst>
              <a:path w="1093" h="1117">
                <a:moveTo>
                  <a:pt x="9550" y="4911"/>
                </a:moveTo>
                <a:cubicBezTo>
                  <a:pt x="9505" y="4965"/>
                  <a:pt x="9459" y="4979"/>
                  <a:pt x="9376" y="4961"/>
                </a:cubicBezTo>
                <a:cubicBezTo>
                  <a:pt x="9281" y="4940"/>
                  <a:pt x="9202" y="4936"/>
                  <a:pt x="9103" y="4936"/>
                </a:cubicBezTo>
                <a:cubicBezTo>
                  <a:pt x="9046" y="4936"/>
                  <a:pt x="9027" y="4946"/>
                  <a:pt x="9004" y="4911"/>
                </a:cubicBezTo>
              </a:path>
              <a:path w="1093" h="1117">
                <a:moveTo>
                  <a:pt x="9996" y="4614"/>
                </a:moveTo>
                <a:cubicBezTo>
                  <a:pt x="10003" y="4693"/>
                  <a:pt x="10021" y="4756"/>
                  <a:pt x="10021" y="4837"/>
                </a:cubicBezTo>
                <a:cubicBezTo>
                  <a:pt x="10021" y="5031"/>
                  <a:pt x="10025" y="5216"/>
                  <a:pt x="10046" y="5407"/>
                </a:cubicBezTo>
                <a:cubicBezTo>
                  <a:pt x="10053" y="5475"/>
                  <a:pt x="10053" y="5565"/>
                  <a:pt x="10071" y="5631"/>
                </a:cubicBezTo>
                <a:cubicBezTo>
                  <a:pt x="10095" y="5679"/>
                  <a:pt x="10104" y="5693"/>
                  <a:pt x="10096" y="57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Ink 5"/>
          <p:cNvSpPr/>
          <p:nvPr/>
        </p:nvSpPr>
        <p:spPr>
          <a:xfrm>
            <a:off x="3884760" y="1687680"/>
            <a:ext cx="357120" cy="376200"/>
          </a:xfrm>
          <a:custGeom>
            <a:avLst/>
            <a:gdLst/>
            <a:ahLst/>
            <a:rect l="l" t="t" r="r" b="b"/>
            <a:pathLst>
              <a:path w="993" h="1043">
                <a:moveTo>
                  <a:pt x="11187" y="5234"/>
                </a:moveTo>
                <a:cubicBezTo>
                  <a:pt x="11204" y="5242"/>
                  <a:pt x="11220" y="5251"/>
                  <a:pt x="11237" y="5259"/>
                </a:cubicBezTo>
                <a:cubicBezTo>
                  <a:pt x="11110" y="5259"/>
                  <a:pt x="10956" y="5286"/>
                  <a:pt x="10840" y="5234"/>
                </a:cubicBezTo>
                <a:cubicBezTo>
                  <a:pt x="10823" y="5226"/>
                  <a:pt x="10807" y="5217"/>
                  <a:pt x="10790" y="5209"/>
                </a:cubicBezTo>
              </a:path>
              <a:path w="993" h="1043">
                <a:moveTo>
                  <a:pt x="11733" y="4688"/>
                </a:moveTo>
                <a:cubicBezTo>
                  <a:pt x="11777" y="4807"/>
                  <a:pt x="11782" y="4885"/>
                  <a:pt x="11782" y="5011"/>
                </a:cubicBezTo>
                <a:cubicBezTo>
                  <a:pt x="11782" y="5085"/>
                  <a:pt x="11761" y="5139"/>
                  <a:pt x="11757" y="5209"/>
                </a:cubicBezTo>
                <a:cubicBezTo>
                  <a:pt x="11750" y="5338"/>
                  <a:pt x="11753" y="5458"/>
                  <a:pt x="11733" y="5581"/>
                </a:cubicBezTo>
                <a:cubicBezTo>
                  <a:pt x="11723" y="5641"/>
                  <a:pt x="11712" y="5673"/>
                  <a:pt x="11683" y="57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Ink 6"/>
          <p:cNvSpPr/>
          <p:nvPr/>
        </p:nvSpPr>
        <p:spPr>
          <a:xfrm>
            <a:off x="3152880" y="2303640"/>
            <a:ext cx="2071440" cy="617400"/>
          </a:xfrm>
          <a:custGeom>
            <a:avLst/>
            <a:gdLst/>
            <a:ahLst/>
            <a:rect l="l" t="t" r="r" b="b"/>
            <a:pathLst>
              <a:path w="5756" h="1712">
                <a:moveTo>
                  <a:pt x="9500" y="6474"/>
                </a:moveTo>
                <a:cubicBezTo>
                  <a:pt x="9477" y="6535"/>
                  <a:pt x="9473" y="6593"/>
                  <a:pt x="9451" y="6648"/>
                </a:cubicBezTo>
                <a:cubicBezTo>
                  <a:pt x="9418" y="6730"/>
                  <a:pt x="9414" y="6837"/>
                  <a:pt x="9401" y="6921"/>
                </a:cubicBezTo>
                <a:cubicBezTo>
                  <a:pt x="9391" y="6983"/>
                  <a:pt x="9362" y="7030"/>
                  <a:pt x="9351" y="7094"/>
                </a:cubicBezTo>
                <a:cubicBezTo>
                  <a:pt x="9339" y="7163"/>
                  <a:pt x="9315" y="7226"/>
                  <a:pt x="9302" y="7293"/>
                </a:cubicBezTo>
                <a:cubicBezTo>
                  <a:pt x="9280" y="7408"/>
                  <a:pt x="9277" y="7502"/>
                  <a:pt x="9277" y="7615"/>
                </a:cubicBezTo>
                <a:cubicBezTo>
                  <a:pt x="9277" y="7623"/>
                  <a:pt x="9277" y="7632"/>
                  <a:pt x="9277" y="7640"/>
                </a:cubicBezTo>
              </a:path>
              <a:path w="5756" h="1712">
                <a:moveTo>
                  <a:pt x="10046" y="6524"/>
                </a:moveTo>
                <a:cubicBezTo>
                  <a:pt x="9989" y="6499"/>
                  <a:pt x="9909" y="6480"/>
                  <a:pt x="9847" y="6474"/>
                </a:cubicBezTo>
                <a:cubicBezTo>
                  <a:pt x="9508" y="6441"/>
                  <a:pt x="9171" y="6400"/>
                  <a:pt x="8830" y="6400"/>
                </a:cubicBezTo>
                <a:cubicBezTo>
                  <a:pt x="8789" y="6400"/>
                  <a:pt x="8781" y="6400"/>
                  <a:pt x="8756" y="6400"/>
                </a:cubicBezTo>
              </a:path>
              <a:path w="5756" h="1712">
                <a:moveTo>
                  <a:pt x="10393" y="7640"/>
                </a:moveTo>
                <a:cubicBezTo>
                  <a:pt x="10335" y="7669"/>
                  <a:pt x="10320" y="7606"/>
                  <a:pt x="10294" y="7541"/>
                </a:cubicBezTo>
                <a:cubicBezTo>
                  <a:pt x="10266" y="7470"/>
                  <a:pt x="10241" y="7403"/>
                  <a:pt x="10195" y="7342"/>
                </a:cubicBezTo>
                <a:cubicBezTo>
                  <a:pt x="10158" y="7293"/>
                  <a:pt x="10131" y="7243"/>
                  <a:pt x="10096" y="7193"/>
                </a:cubicBezTo>
                <a:cubicBezTo>
                  <a:pt x="10069" y="7154"/>
                  <a:pt x="10009" y="7127"/>
                  <a:pt x="9971" y="7119"/>
                </a:cubicBezTo>
                <a:cubicBezTo>
                  <a:pt x="9902" y="7105"/>
                  <a:pt x="9851" y="7129"/>
                  <a:pt x="9798" y="7169"/>
                </a:cubicBezTo>
                <a:cubicBezTo>
                  <a:pt x="9740" y="7212"/>
                  <a:pt x="9748" y="7249"/>
                  <a:pt x="9748" y="7317"/>
                </a:cubicBezTo>
                <a:cubicBezTo>
                  <a:pt x="9748" y="7413"/>
                  <a:pt x="9755" y="7456"/>
                  <a:pt x="9798" y="7541"/>
                </a:cubicBezTo>
                <a:cubicBezTo>
                  <a:pt x="9835" y="7613"/>
                  <a:pt x="9837" y="7661"/>
                  <a:pt x="9922" y="7665"/>
                </a:cubicBezTo>
                <a:cubicBezTo>
                  <a:pt x="9998" y="7668"/>
                  <a:pt x="10040" y="7641"/>
                  <a:pt x="10096" y="7590"/>
                </a:cubicBezTo>
                <a:cubicBezTo>
                  <a:pt x="10136" y="7553"/>
                  <a:pt x="10180" y="7531"/>
                  <a:pt x="10220" y="7491"/>
                </a:cubicBezTo>
              </a:path>
              <a:path w="5756" h="1712">
                <a:moveTo>
                  <a:pt x="10567" y="7689"/>
                </a:moveTo>
                <a:cubicBezTo>
                  <a:pt x="10595" y="7644"/>
                  <a:pt x="10614" y="7597"/>
                  <a:pt x="10616" y="7541"/>
                </a:cubicBezTo>
                <a:cubicBezTo>
                  <a:pt x="10619" y="7447"/>
                  <a:pt x="10570" y="7362"/>
                  <a:pt x="10592" y="7268"/>
                </a:cubicBezTo>
                <a:cubicBezTo>
                  <a:pt x="10606" y="7206"/>
                  <a:pt x="10621" y="7128"/>
                  <a:pt x="10641" y="7069"/>
                </a:cubicBezTo>
                <a:cubicBezTo>
                  <a:pt x="10669" y="6985"/>
                  <a:pt x="10711" y="6974"/>
                  <a:pt x="10790" y="6970"/>
                </a:cubicBezTo>
                <a:cubicBezTo>
                  <a:pt x="10872" y="6966"/>
                  <a:pt x="10903" y="7002"/>
                  <a:pt x="10939" y="7069"/>
                </a:cubicBezTo>
                <a:cubicBezTo>
                  <a:pt x="10974" y="7134"/>
                  <a:pt x="11005" y="7202"/>
                  <a:pt x="11038" y="7268"/>
                </a:cubicBezTo>
                <a:cubicBezTo>
                  <a:pt x="11065" y="7320"/>
                  <a:pt x="11099" y="7408"/>
                  <a:pt x="11112" y="7466"/>
                </a:cubicBezTo>
                <a:cubicBezTo>
                  <a:pt x="11130" y="7547"/>
                  <a:pt x="11171" y="7632"/>
                  <a:pt x="11187" y="7714"/>
                </a:cubicBezTo>
                <a:cubicBezTo>
                  <a:pt x="11187" y="7731"/>
                  <a:pt x="11187" y="7747"/>
                  <a:pt x="11187" y="7764"/>
                </a:cubicBezTo>
              </a:path>
              <a:path w="5756" h="1712">
                <a:moveTo>
                  <a:pt x="12080" y="7987"/>
                </a:moveTo>
                <a:cubicBezTo>
                  <a:pt x="12070" y="7915"/>
                  <a:pt x="12033" y="7907"/>
                  <a:pt x="12005" y="7838"/>
                </a:cubicBezTo>
                <a:cubicBezTo>
                  <a:pt x="11975" y="7765"/>
                  <a:pt x="11931" y="7680"/>
                  <a:pt x="11881" y="7615"/>
                </a:cubicBezTo>
                <a:cubicBezTo>
                  <a:pt x="11822" y="7538"/>
                  <a:pt x="11791" y="7442"/>
                  <a:pt x="11733" y="7367"/>
                </a:cubicBezTo>
                <a:cubicBezTo>
                  <a:pt x="11680" y="7299"/>
                  <a:pt x="11634" y="7265"/>
                  <a:pt x="11584" y="7193"/>
                </a:cubicBezTo>
                <a:cubicBezTo>
                  <a:pt x="11555" y="7151"/>
                  <a:pt x="11479" y="7119"/>
                  <a:pt x="11435" y="7094"/>
                </a:cubicBezTo>
              </a:path>
              <a:path w="5756" h="1712">
                <a:moveTo>
                  <a:pt x="11534" y="7913"/>
                </a:moveTo>
                <a:cubicBezTo>
                  <a:pt x="11590" y="7905"/>
                  <a:pt x="11624" y="7891"/>
                  <a:pt x="11658" y="7838"/>
                </a:cubicBezTo>
                <a:cubicBezTo>
                  <a:pt x="11701" y="7772"/>
                  <a:pt x="11738" y="7706"/>
                  <a:pt x="11782" y="7640"/>
                </a:cubicBezTo>
                <a:cubicBezTo>
                  <a:pt x="11822" y="7580"/>
                  <a:pt x="11870" y="7529"/>
                  <a:pt x="11906" y="7466"/>
                </a:cubicBezTo>
                <a:cubicBezTo>
                  <a:pt x="11935" y="7415"/>
                  <a:pt x="11965" y="7361"/>
                  <a:pt x="12005" y="7317"/>
                </a:cubicBezTo>
                <a:cubicBezTo>
                  <a:pt x="12028" y="7295"/>
                  <a:pt x="12036" y="7290"/>
                  <a:pt x="12030" y="7268"/>
                </a:cubicBezTo>
              </a:path>
              <a:path w="5756" h="1712">
                <a:moveTo>
                  <a:pt x="12477" y="7516"/>
                </a:moveTo>
                <a:cubicBezTo>
                  <a:pt x="12559" y="7516"/>
                  <a:pt x="12621" y="7502"/>
                  <a:pt x="12700" y="7491"/>
                </a:cubicBezTo>
                <a:cubicBezTo>
                  <a:pt x="12802" y="7476"/>
                  <a:pt x="12918" y="7491"/>
                  <a:pt x="13022" y="7491"/>
                </a:cubicBezTo>
              </a:path>
              <a:path w="5756" h="1712">
                <a:moveTo>
                  <a:pt x="12650" y="7218"/>
                </a:moveTo>
                <a:cubicBezTo>
                  <a:pt x="12717" y="7210"/>
                  <a:pt x="12805" y="7168"/>
                  <a:pt x="12874" y="7193"/>
                </a:cubicBezTo>
                <a:cubicBezTo>
                  <a:pt x="12927" y="7212"/>
                  <a:pt x="12981" y="7218"/>
                  <a:pt x="13047" y="7218"/>
                </a:cubicBezTo>
              </a:path>
              <a:path w="5756" h="1712">
                <a:moveTo>
                  <a:pt x="13593" y="7466"/>
                </a:moveTo>
                <a:cubicBezTo>
                  <a:pt x="13647" y="7458"/>
                  <a:pt x="13695" y="7424"/>
                  <a:pt x="13742" y="7417"/>
                </a:cubicBezTo>
                <a:cubicBezTo>
                  <a:pt x="13830" y="7404"/>
                  <a:pt x="13924" y="7441"/>
                  <a:pt x="14015" y="7441"/>
                </a:cubicBezTo>
                <a:cubicBezTo>
                  <a:pt x="14056" y="7441"/>
                  <a:pt x="14064" y="7441"/>
                  <a:pt x="14089" y="7441"/>
                </a:cubicBezTo>
              </a:path>
              <a:path w="5756" h="1712">
                <a:moveTo>
                  <a:pt x="14486" y="6648"/>
                </a:moveTo>
                <a:cubicBezTo>
                  <a:pt x="14517" y="6730"/>
                  <a:pt x="14500" y="6750"/>
                  <a:pt x="14486" y="6821"/>
                </a:cubicBezTo>
                <a:cubicBezTo>
                  <a:pt x="14437" y="7065"/>
                  <a:pt x="14496" y="7343"/>
                  <a:pt x="14461" y="7590"/>
                </a:cubicBezTo>
                <a:cubicBezTo>
                  <a:pt x="14445" y="7702"/>
                  <a:pt x="14474" y="7806"/>
                  <a:pt x="14486" y="7913"/>
                </a:cubicBezTo>
                <a:cubicBezTo>
                  <a:pt x="14495" y="7989"/>
                  <a:pt x="14487" y="8039"/>
                  <a:pt x="14511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Ink 7"/>
          <p:cNvSpPr/>
          <p:nvPr/>
        </p:nvSpPr>
        <p:spPr>
          <a:xfrm>
            <a:off x="3625920" y="3178080"/>
            <a:ext cx="1276200" cy="930240"/>
          </a:xfrm>
          <a:custGeom>
            <a:avLst/>
            <a:gdLst/>
            <a:ahLst/>
            <a:rect l="l" t="t" r="r" b="b"/>
            <a:pathLst>
              <a:path w="3548" h="2581">
                <a:moveTo>
                  <a:pt x="10071" y="8830"/>
                </a:moveTo>
                <a:cubicBezTo>
                  <a:pt x="10143" y="8830"/>
                  <a:pt x="10210" y="8844"/>
                  <a:pt x="10269" y="8855"/>
                </a:cubicBezTo>
                <a:cubicBezTo>
                  <a:pt x="10327" y="8866"/>
                  <a:pt x="10388" y="8871"/>
                  <a:pt x="10443" y="8905"/>
                </a:cubicBezTo>
                <a:cubicBezTo>
                  <a:pt x="10488" y="8933"/>
                  <a:pt x="10529" y="8966"/>
                  <a:pt x="10567" y="9004"/>
                </a:cubicBezTo>
                <a:cubicBezTo>
                  <a:pt x="10613" y="9050"/>
                  <a:pt x="10621" y="9089"/>
                  <a:pt x="10592" y="9153"/>
                </a:cubicBezTo>
                <a:cubicBezTo>
                  <a:pt x="10573" y="9193"/>
                  <a:pt x="10502" y="9231"/>
                  <a:pt x="10468" y="9252"/>
                </a:cubicBezTo>
                <a:cubicBezTo>
                  <a:pt x="10413" y="9285"/>
                  <a:pt x="10323" y="9316"/>
                  <a:pt x="10269" y="9327"/>
                </a:cubicBezTo>
                <a:cubicBezTo>
                  <a:pt x="10253" y="9327"/>
                  <a:pt x="10236" y="9327"/>
                  <a:pt x="10220" y="9327"/>
                </a:cubicBezTo>
                <a:cubicBezTo>
                  <a:pt x="10290" y="9284"/>
                  <a:pt x="10318" y="9314"/>
                  <a:pt x="10393" y="9327"/>
                </a:cubicBezTo>
                <a:cubicBezTo>
                  <a:pt x="10470" y="9340"/>
                  <a:pt x="10545" y="9344"/>
                  <a:pt x="10616" y="9376"/>
                </a:cubicBezTo>
                <a:cubicBezTo>
                  <a:pt x="10662" y="9397"/>
                  <a:pt x="10729" y="9426"/>
                  <a:pt x="10765" y="9451"/>
                </a:cubicBezTo>
                <a:cubicBezTo>
                  <a:pt x="10818" y="9487"/>
                  <a:pt x="10799" y="9585"/>
                  <a:pt x="10765" y="9624"/>
                </a:cubicBezTo>
                <a:cubicBezTo>
                  <a:pt x="10703" y="9697"/>
                  <a:pt x="10627" y="9779"/>
                  <a:pt x="10542" y="9823"/>
                </a:cubicBezTo>
                <a:cubicBezTo>
                  <a:pt x="10475" y="9858"/>
                  <a:pt x="10439" y="9878"/>
                  <a:pt x="10368" y="9897"/>
                </a:cubicBezTo>
                <a:cubicBezTo>
                  <a:pt x="10293" y="9917"/>
                  <a:pt x="10251" y="9942"/>
                  <a:pt x="10269" y="9872"/>
                </a:cubicBezTo>
              </a:path>
              <a:path w="3548" h="2581">
                <a:moveTo>
                  <a:pt x="11137" y="9798"/>
                </a:moveTo>
                <a:cubicBezTo>
                  <a:pt x="11179" y="9729"/>
                  <a:pt x="11141" y="9680"/>
                  <a:pt x="11137" y="9599"/>
                </a:cubicBezTo>
                <a:cubicBezTo>
                  <a:pt x="11132" y="9511"/>
                  <a:pt x="11119" y="9434"/>
                  <a:pt x="11112" y="9351"/>
                </a:cubicBezTo>
                <a:cubicBezTo>
                  <a:pt x="11109" y="9310"/>
                  <a:pt x="11112" y="9268"/>
                  <a:pt x="11112" y="9227"/>
                </a:cubicBezTo>
              </a:path>
              <a:path w="3548" h="2581">
                <a:moveTo>
                  <a:pt x="11435" y="9798"/>
                </a:moveTo>
                <a:cubicBezTo>
                  <a:pt x="11435" y="9591"/>
                  <a:pt x="11435" y="9385"/>
                  <a:pt x="11435" y="9178"/>
                </a:cubicBezTo>
              </a:path>
              <a:path w="3548" h="2581">
                <a:moveTo>
                  <a:pt x="10914" y="9079"/>
                </a:moveTo>
                <a:cubicBezTo>
                  <a:pt x="10955" y="9037"/>
                  <a:pt x="10996" y="8995"/>
                  <a:pt x="11038" y="8954"/>
                </a:cubicBezTo>
                <a:cubicBezTo>
                  <a:pt x="11095" y="8898"/>
                  <a:pt x="11126" y="8886"/>
                  <a:pt x="11187" y="8855"/>
                </a:cubicBezTo>
                <a:cubicBezTo>
                  <a:pt x="11195" y="8847"/>
                  <a:pt x="11204" y="8838"/>
                  <a:pt x="11212" y="8830"/>
                </a:cubicBezTo>
                <a:cubicBezTo>
                  <a:pt x="11294" y="8880"/>
                  <a:pt x="11271" y="8868"/>
                  <a:pt x="11311" y="8954"/>
                </a:cubicBezTo>
                <a:cubicBezTo>
                  <a:pt x="11328" y="8991"/>
                  <a:pt x="11340" y="9019"/>
                  <a:pt x="11361" y="9054"/>
                </a:cubicBezTo>
                <a:cubicBezTo>
                  <a:pt x="11402" y="9012"/>
                  <a:pt x="11439" y="8988"/>
                  <a:pt x="11485" y="8954"/>
                </a:cubicBezTo>
                <a:cubicBezTo>
                  <a:pt x="11547" y="8907"/>
                  <a:pt x="11584" y="8885"/>
                  <a:pt x="11658" y="8930"/>
                </a:cubicBezTo>
                <a:cubicBezTo>
                  <a:pt x="11681" y="8952"/>
                  <a:pt x="11686" y="8960"/>
                  <a:pt x="11708" y="8954"/>
                </a:cubicBezTo>
              </a:path>
              <a:path w="3548" h="2581">
                <a:moveTo>
                  <a:pt x="12080" y="9128"/>
                </a:moveTo>
                <a:cubicBezTo>
                  <a:pt x="12040" y="9198"/>
                  <a:pt x="12013" y="9260"/>
                  <a:pt x="11981" y="9327"/>
                </a:cubicBezTo>
                <a:cubicBezTo>
                  <a:pt x="11961" y="9369"/>
                  <a:pt x="11896" y="9409"/>
                  <a:pt x="11881" y="9451"/>
                </a:cubicBezTo>
                <a:cubicBezTo>
                  <a:pt x="11858" y="9512"/>
                  <a:pt x="11840" y="9560"/>
                  <a:pt x="11807" y="9624"/>
                </a:cubicBezTo>
                <a:cubicBezTo>
                  <a:pt x="11759" y="9715"/>
                  <a:pt x="11723" y="9804"/>
                  <a:pt x="11683" y="9897"/>
                </a:cubicBezTo>
                <a:cubicBezTo>
                  <a:pt x="11647" y="9981"/>
                  <a:pt x="11594" y="10047"/>
                  <a:pt x="11559" y="10120"/>
                </a:cubicBezTo>
                <a:cubicBezTo>
                  <a:pt x="11516" y="10209"/>
                  <a:pt x="11483" y="10283"/>
                  <a:pt x="11435" y="10368"/>
                </a:cubicBezTo>
                <a:cubicBezTo>
                  <a:pt x="11402" y="10427"/>
                  <a:pt x="11375" y="10488"/>
                  <a:pt x="11336" y="10542"/>
                </a:cubicBezTo>
                <a:cubicBezTo>
                  <a:pt x="11300" y="10592"/>
                  <a:pt x="11287" y="10658"/>
                  <a:pt x="11286" y="10666"/>
                </a:cubicBezTo>
              </a:path>
              <a:path w="3548" h="2581">
                <a:moveTo>
                  <a:pt x="12105" y="9872"/>
                </a:moveTo>
                <a:cubicBezTo>
                  <a:pt x="12137" y="9927"/>
                  <a:pt x="12129" y="9979"/>
                  <a:pt x="12129" y="10046"/>
                </a:cubicBezTo>
                <a:cubicBezTo>
                  <a:pt x="12129" y="10124"/>
                  <a:pt x="12089" y="10492"/>
                  <a:pt x="12154" y="10517"/>
                </a:cubicBezTo>
                <a:cubicBezTo>
                  <a:pt x="12216" y="10541"/>
                  <a:pt x="12305" y="10501"/>
                  <a:pt x="12353" y="10492"/>
                </a:cubicBezTo>
                <a:cubicBezTo>
                  <a:pt x="12432" y="10477"/>
                  <a:pt x="12521" y="10452"/>
                  <a:pt x="12601" y="10443"/>
                </a:cubicBezTo>
                <a:cubicBezTo>
                  <a:pt x="12656" y="10437"/>
                  <a:pt x="12718" y="10443"/>
                  <a:pt x="12774" y="10443"/>
                </a:cubicBezTo>
              </a:path>
              <a:path w="3548" h="2581">
                <a:moveTo>
                  <a:pt x="12502" y="9872"/>
                </a:moveTo>
                <a:cubicBezTo>
                  <a:pt x="12502" y="9953"/>
                  <a:pt x="12517" y="10021"/>
                  <a:pt x="12526" y="10096"/>
                </a:cubicBezTo>
                <a:cubicBezTo>
                  <a:pt x="12547" y="10266"/>
                  <a:pt x="12520" y="10449"/>
                  <a:pt x="12502" y="10616"/>
                </a:cubicBezTo>
                <a:cubicBezTo>
                  <a:pt x="12494" y="10691"/>
                  <a:pt x="12517" y="10747"/>
                  <a:pt x="12526" y="10815"/>
                </a:cubicBezTo>
                <a:cubicBezTo>
                  <a:pt x="12535" y="10886"/>
                  <a:pt x="12526" y="10966"/>
                  <a:pt x="12526" y="11038"/>
                </a:cubicBezTo>
              </a:path>
              <a:path w="3548" h="2581">
                <a:moveTo>
                  <a:pt x="13345" y="10195"/>
                </a:moveTo>
                <a:cubicBezTo>
                  <a:pt x="13375" y="10247"/>
                  <a:pt x="13415" y="10293"/>
                  <a:pt x="13444" y="10344"/>
                </a:cubicBezTo>
                <a:cubicBezTo>
                  <a:pt x="13489" y="10424"/>
                  <a:pt x="13527" y="10510"/>
                  <a:pt x="13568" y="10592"/>
                </a:cubicBezTo>
                <a:cubicBezTo>
                  <a:pt x="13596" y="10647"/>
                  <a:pt x="13615" y="10707"/>
                  <a:pt x="13618" y="10765"/>
                </a:cubicBezTo>
                <a:cubicBezTo>
                  <a:pt x="13625" y="10884"/>
                  <a:pt x="13640" y="11051"/>
                  <a:pt x="13593" y="11162"/>
                </a:cubicBezTo>
                <a:cubicBezTo>
                  <a:pt x="13573" y="11208"/>
                  <a:pt x="13520" y="11293"/>
                  <a:pt x="13494" y="11336"/>
                </a:cubicBezTo>
                <a:cubicBezTo>
                  <a:pt x="13463" y="11388"/>
                  <a:pt x="13422" y="11402"/>
                  <a:pt x="13370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Ink 8"/>
          <p:cNvSpPr/>
          <p:nvPr/>
        </p:nvSpPr>
        <p:spPr>
          <a:xfrm>
            <a:off x="5126040" y="3125880"/>
            <a:ext cx="874800" cy="946080"/>
          </a:xfrm>
          <a:custGeom>
            <a:avLst/>
            <a:gdLst/>
            <a:ahLst/>
            <a:rect l="l" t="t" r="r" b="b"/>
            <a:pathLst>
              <a:path w="2432" h="2630">
                <a:moveTo>
                  <a:pt x="14238" y="8706"/>
                </a:moveTo>
                <a:cubicBezTo>
                  <a:pt x="14302" y="8697"/>
                  <a:pt x="14341" y="8682"/>
                  <a:pt x="14412" y="8682"/>
                </a:cubicBezTo>
                <a:cubicBezTo>
                  <a:pt x="14493" y="8682"/>
                  <a:pt x="14539" y="8702"/>
                  <a:pt x="14610" y="8706"/>
                </a:cubicBezTo>
                <a:cubicBezTo>
                  <a:pt x="14649" y="8708"/>
                  <a:pt x="14719" y="8731"/>
                  <a:pt x="14734" y="8781"/>
                </a:cubicBezTo>
                <a:cubicBezTo>
                  <a:pt x="14743" y="8810"/>
                  <a:pt x="14720" y="8949"/>
                  <a:pt x="14709" y="8979"/>
                </a:cubicBezTo>
                <a:cubicBezTo>
                  <a:pt x="14690" y="9031"/>
                  <a:pt x="14663" y="9067"/>
                  <a:pt x="14660" y="9128"/>
                </a:cubicBezTo>
                <a:cubicBezTo>
                  <a:pt x="14656" y="9193"/>
                  <a:pt x="14621" y="9236"/>
                  <a:pt x="14610" y="9302"/>
                </a:cubicBezTo>
                <a:cubicBezTo>
                  <a:pt x="14600" y="9359"/>
                  <a:pt x="14567" y="9428"/>
                  <a:pt x="14560" y="9475"/>
                </a:cubicBezTo>
                <a:cubicBezTo>
                  <a:pt x="14551" y="9537"/>
                  <a:pt x="14559" y="9641"/>
                  <a:pt x="14536" y="9699"/>
                </a:cubicBezTo>
                <a:cubicBezTo>
                  <a:pt x="14515" y="9754"/>
                  <a:pt x="14491" y="9810"/>
                  <a:pt x="14486" y="9872"/>
                </a:cubicBezTo>
                <a:cubicBezTo>
                  <a:pt x="14486" y="9880"/>
                  <a:pt x="14486" y="9889"/>
                  <a:pt x="14486" y="9897"/>
                </a:cubicBezTo>
              </a:path>
              <a:path w="2432" h="2630">
                <a:moveTo>
                  <a:pt x="15131" y="9203"/>
                </a:moveTo>
                <a:cubicBezTo>
                  <a:pt x="15131" y="9283"/>
                  <a:pt x="15152" y="9324"/>
                  <a:pt x="15156" y="9401"/>
                </a:cubicBezTo>
                <a:cubicBezTo>
                  <a:pt x="15161" y="9492"/>
                  <a:pt x="15131" y="9581"/>
                  <a:pt x="15131" y="9674"/>
                </a:cubicBezTo>
                <a:cubicBezTo>
                  <a:pt x="15131" y="9757"/>
                  <a:pt x="15131" y="9839"/>
                  <a:pt x="15131" y="9922"/>
                </a:cubicBezTo>
              </a:path>
              <a:path w="2432" h="2630">
                <a:moveTo>
                  <a:pt x="15379" y="9004"/>
                </a:moveTo>
                <a:cubicBezTo>
                  <a:pt x="15413" y="9046"/>
                  <a:pt x="15444" y="9106"/>
                  <a:pt x="15453" y="9153"/>
                </a:cubicBezTo>
                <a:cubicBezTo>
                  <a:pt x="15466" y="9221"/>
                  <a:pt x="15478" y="9279"/>
                  <a:pt x="15478" y="9351"/>
                </a:cubicBezTo>
                <a:cubicBezTo>
                  <a:pt x="15478" y="9427"/>
                  <a:pt x="15503" y="9494"/>
                  <a:pt x="15503" y="9575"/>
                </a:cubicBezTo>
                <a:cubicBezTo>
                  <a:pt x="15503" y="9645"/>
                  <a:pt x="15464" y="9736"/>
                  <a:pt x="15478" y="9798"/>
                </a:cubicBezTo>
                <a:cubicBezTo>
                  <a:pt x="15498" y="9838"/>
                  <a:pt x="15507" y="9844"/>
                  <a:pt x="15503" y="9872"/>
                </a:cubicBezTo>
              </a:path>
              <a:path w="2432" h="2630">
                <a:moveTo>
                  <a:pt x="15007" y="8905"/>
                </a:moveTo>
                <a:lnTo>
                  <a:pt x="15007" y="8905"/>
                </a:lnTo>
              </a:path>
              <a:path w="2432" h="2630">
                <a:moveTo>
                  <a:pt x="15007" y="8905"/>
                </a:moveTo>
                <a:cubicBezTo>
                  <a:pt x="15015" y="8888"/>
                  <a:pt x="15024" y="8872"/>
                  <a:pt x="15032" y="8855"/>
                </a:cubicBezTo>
              </a:path>
              <a:path w="2432" h="2630">
                <a:moveTo>
                  <a:pt x="15032" y="8855"/>
                </a:moveTo>
                <a:cubicBezTo>
                  <a:pt x="15065" y="8822"/>
                  <a:pt x="15098" y="8789"/>
                  <a:pt x="15131" y="8756"/>
                </a:cubicBezTo>
                <a:cubicBezTo>
                  <a:pt x="15184" y="8703"/>
                  <a:pt x="15213" y="8739"/>
                  <a:pt x="15255" y="8781"/>
                </a:cubicBezTo>
                <a:cubicBezTo>
                  <a:pt x="15300" y="8826"/>
                  <a:pt x="15348" y="8834"/>
                  <a:pt x="15404" y="8806"/>
                </a:cubicBezTo>
                <a:cubicBezTo>
                  <a:pt x="15442" y="8787"/>
                  <a:pt x="15455" y="8781"/>
                  <a:pt x="15503" y="8781"/>
                </a:cubicBezTo>
              </a:path>
              <a:path w="2432" h="2630">
                <a:moveTo>
                  <a:pt x="15999" y="9376"/>
                </a:moveTo>
                <a:cubicBezTo>
                  <a:pt x="15971" y="9425"/>
                  <a:pt x="15956" y="9480"/>
                  <a:pt x="15925" y="9525"/>
                </a:cubicBezTo>
                <a:cubicBezTo>
                  <a:pt x="15874" y="9599"/>
                  <a:pt x="15865" y="9642"/>
                  <a:pt x="15825" y="9723"/>
                </a:cubicBezTo>
                <a:cubicBezTo>
                  <a:pt x="15799" y="9775"/>
                  <a:pt x="15760" y="9848"/>
                  <a:pt x="15726" y="9897"/>
                </a:cubicBezTo>
                <a:cubicBezTo>
                  <a:pt x="15687" y="9952"/>
                  <a:pt x="15643" y="10018"/>
                  <a:pt x="15602" y="10071"/>
                </a:cubicBezTo>
                <a:cubicBezTo>
                  <a:pt x="15523" y="10172"/>
                  <a:pt x="15490" y="10242"/>
                  <a:pt x="15429" y="10368"/>
                </a:cubicBezTo>
                <a:cubicBezTo>
                  <a:pt x="15402" y="10425"/>
                  <a:pt x="15344" y="10511"/>
                  <a:pt x="15329" y="10567"/>
                </a:cubicBezTo>
                <a:cubicBezTo>
                  <a:pt x="15329" y="10608"/>
                  <a:pt x="15329" y="10616"/>
                  <a:pt x="15329" y="10641"/>
                </a:cubicBezTo>
              </a:path>
              <a:path w="2432" h="2630">
                <a:moveTo>
                  <a:pt x="16073" y="10046"/>
                </a:moveTo>
                <a:cubicBezTo>
                  <a:pt x="16099" y="10116"/>
                  <a:pt x="16098" y="10168"/>
                  <a:pt x="16098" y="10244"/>
                </a:cubicBezTo>
                <a:cubicBezTo>
                  <a:pt x="16098" y="10303"/>
                  <a:pt x="16057" y="10392"/>
                  <a:pt x="16073" y="10443"/>
                </a:cubicBezTo>
                <a:cubicBezTo>
                  <a:pt x="16089" y="10493"/>
                  <a:pt x="16100" y="10555"/>
                  <a:pt x="16173" y="10542"/>
                </a:cubicBezTo>
                <a:cubicBezTo>
                  <a:pt x="16254" y="10527"/>
                  <a:pt x="16313" y="10517"/>
                  <a:pt x="16396" y="10517"/>
                </a:cubicBezTo>
                <a:cubicBezTo>
                  <a:pt x="16448" y="10517"/>
                  <a:pt x="16529" y="10478"/>
                  <a:pt x="16570" y="10492"/>
                </a:cubicBezTo>
                <a:cubicBezTo>
                  <a:pt x="16605" y="10504"/>
                  <a:pt x="16622" y="10517"/>
                  <a:pt x="16669" y="10517"/>
                </a:cubicBezTo>
              </a:path>
              <a:path w="2432" h="2630">
                <a:moveTo>
                  <a:pt x="16470" y="9947"/>
                </a:moveTo>
                <a:cubicBezTo>
                  <a:pt x="16470" y="10084"/>
                  <a:pt x="16476" y="10211"/>
                  <a:pt x="16495" y="10344"/>
                </a:cubicBezTo>
                <a:cubicBezTo>
                  <a:pt x="16530" y="10584"/>
                  <a:pt x="16492" y="10859"/>
                  <a:pt x="16520" y="11088"/>
                </a:cubicBezTo>
                <a:cubicBezTo>
                  <a:pt x="16531" y="11181"/>
                  <a:pt x="16532" y="11225"/>
                  <a:pt x="16570" y="113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Ink 9"/>
          <p:cNvSpPr/>
          <p:nvPr/>
        </p:nvSpPr>
        <p:spPr>
          <a:xfrm>
            <a:off x="6643800" y="3348000"/>
            <a:ext cx="876240" cy="1189080"/>
          </a:xfrm>
          <a:custGeom>
            <a:avLst/>
            <a:gdLst/>
            <a:ahLst/>
            <a:rect l="l" t="t" r="r" b="b"/>
            <a:pathLst>
              <a:path w="2432" h="3300">
                <a:moveTo>
                  <a:pt x="18579" y="9550"/>
                </a:moveTo>
                <a:cubicBezTo>
                  <a:pt x="18579" y="9621"/>
                  <a:pt x="18600" y="9659"/>
                  <a:pt x="18604" y="9723"/>
                </a:cubicBezTo>
                <a:cubicBezTo>
                  <a:pt x="18608" y="9784"/>
                  <a:pt x="18627" y="9839"/>
                  <a:pt x="18653" y="9897"/>
                </a:cubicBezTo>
                <a:cubicBezTo>
                  <a:pt x="18678" y="9954"/>
                  <a:pt x="18714" y="10035"/>
                  <a:pt x="18728" y="10096"/>
                </a:cubicBezTo>
                <a:cubicBezTo>
                  <a:pt x="18753" y="10207"/>
                  <a:pt x="18758" y="10306"/>
                  <a:pt x="18777" y="10418"/>
                </a:cubicBezTo>
                <a:cubicBezTo>
                  <a:pt x="18792" y="10502"/>
                  <a:pt x="18838" y="10585"/>
                  <a:pt x="18852" y="10666"/>
                </a:cubicBezTo>
                <a:cubicBezTo>
                  <a:pt x="18866" y="10746"/>
                  <a:pt x="18891" y="10836"/>
                  <a:pt x="18901" y="10914"/>
                </a:cubicBezTo>
                <a:cubicBezTo>
                  <a:pt x="18911" y="10990"/>
                  <a:pt x="18908" y="11024"/>
                  <a:pt x="18951" y="11088"/>
                </a:cubicBezTo>
              </a:path>
              <a:path w="2432" h="3300">
                <a:moveTo>
                  <a:pt x="19124" y="9302"/>
                </a:moveTo>
                <a:cubicBezTo>
                  <a:pt x="19067" y="9360"/>
                  <a:pt x="19029" y="9346"/>
                  <a:pt x="18951" y="9376"/>
                </a:cubicBezTo>
                <a:cubicBezTo>
                  <a:pt x="18885" y="9401"/>
                  <a:pt x="18847" y="9435"/>
                  <a:pt x="18777" y="9451"/>
                </a:cubicBezTo>
                <a:cubicBezTo>
                  <a:pt x="18715" y="9465"/>
                  <a:pt x="18681" y="9480"/>
                  <a:pt x="18628" y="9525"/>
                </a:cubicBezTo>
                <a:cubicBezTo>
                  <a:pt x="18578" y="9568"/>
                  <a:pt x="18515" y="9604"/>
                  <a:pt x="18455" y="9624"/>
                </a:cubicBezTo>
              </a:path>
              <a:path w="2432" h="3300">
                <a:moveTo>
                  <a:pt x="19174" y="9897"/>
                </a:moveTo>
                <a:cubicBezTo>
                  <a:pt x="19162" y="9982"/>
                  <a:pt x="19125" y="9979"/>
                  <a:pt x="19050" y="10021"/>
                </a:cubicBezTo>
                <a:cubicBezTo>
                  <a:pt x="18985" y="10058"/>
                  <a:pt x="18915" y="10082"/>
                  <a:pt x="18852" y="10120"/>
                </a:cubicBezTo>
                <a:cubicBezTo>
                  <a:pt x="18783" y="10161"/>
                  <a:pt x="18744" y="10189"/>
                  <a:pt x="18728" y="10269"/>
                </a:cubicBezTo>
              </a:path>
              <a:path w="2432" h="3300">
                <a:moveTo>
                  <a:pt x="19348" y="10840"/>
                </a:moveTo>
                <a:cubicBezTo>
                  <a:pt x="19287" y="10875"/>
                  <a:pt x="19214" y="10866"/>
                  <a:pt x="19149" y="10889"/>
                </a:cubicBezTo>
                <a:cubicBezTo>
                  <a:pt x="19090" y="10910"/>
                  <a:pt x="19022" y="10947"/>
                  <a:pt x="18976" y="10988"/>
                </a:cubicBezTo>
                <a:cubicBezTo>
                  <a:pt x="18945" y="11016"/>
                  <a:pt x="18939" y="11029"/>
                  <a:pt x="18901" y="11038"/>
                </a:cubicBezTo>
              </a:path>
              <a:path w="2432" h="3300">
                <a:moveTo>
                  <a:pt x="19571" y="10716"/>
                </a:moveTo>
                <a:cubicBezTo>
                  <a:pt x="19564" y="10627"/>
                  <a:pt x="19535" y="10551"/>
                  <a:pt x="19521" y="10468"/>
                </a:cubicBezTo>
                <a:cubicBezTo>
                  <a:pt x="19508" y="10390"/>
                  <a:pt x="19493" y="10319"/>
                  <a:pt x="19472" y="10244"/>
                </a:cubicBezTo>
                <a:cubicBezTo>
                  <a:pt x="19446" y="10152"/>
                  <a:pt x="19402" y="10066"/>
                  <a:pt x="19397" y="9971"/>
                </a:cubicBezTo>
                <a:cubicBezTo>
                  <a:pt x="19393" y="9891"/>
                  <a:pt x="19440" y="9888"/>
                  <a:pt x="19496" y="9847"/>
                </a:cubicBezTo>
                <a:cubicBezTo>
                  <a:pt x="19534" y="9819"/>
                  <a:pt x="19620" y="9783"/>
                  <a:pt x="19670" y="9773"/>
                </a:cubicBezTo>
                <a:cubicBezTo>
                  <a:pt x="19778" y="9751"/>
                  <a:pt x="19817" y="9746"/>
                  <a:pt x="19893" y="9798"/>
                </a:cubicBezTo>
              </a:path>
              <a:path w="2432" h="3300">
                <a:moveTo>
                  <a:pt x="20191" y="10567"/>
                </a:moveTo>
                <a:cubicBezTo>
                  <a:pt x="20147" y="10494"/>
                  <a:pt x="20166" y="10427"/>
                  <a:pt x="20141" y="10344"/>
                </a:cubicBezTo>
                <a:cubicBezTo>
                  <a:pt x="20121" y="10281"/>
                  <a:pt x="20117" y="10221"/>
                  <a:pt x="20117" y="10145"/>
                </a:cubicBezTo>
                <a:cubicBezTo>
                  <a:pt x="20117" y="10129"/>
                  <a:pt x="20117" y="10112"/>
                  <a:pt x="20117" y="10096"/>
                </a:cubicBezTo>
              </a:path>
              <a:path w="2432" h="3300">
                <a:moveTo>
                  <a:pt x="20117" y="9550"/>
                </a:moveTo>
                <a:cubicBezTo>
                  <a:pt x="20117" y="9521"/>
                  <a:pt x="20089" y="9343"/>
                  <a:pt x="20092" y="9327"/>
                </a:cubicBezTo>
                <a:cubicBezTo>
                  <a:pt x="20100" y="9319"/>
                  <a:pt x="20109" y="9310"/>
                  <a:pt x="20117" y="9302"/>
                </a:cubicBezTo>
              </a:path>
              <a:path w="2432" h="3300">
                <a:moveTo>
                  <a:pt x="20563" y="9401"/>
                </a:moveTo>
                <a:cubicBezTo>
                  <a:pt x="20532" y="9426"/>
                  <a:pt x="20432" y="9448"/>
                  <a:pt x="20414" y="9475"/>
                </a:cubicBezTo>
                <a:cubicBezTo>
                  <a:pt x="20377" y="9531"/>
                  <a:pt x="20342" y="9657"/>
                  <a:pt x="20365" y="9723"/>
                </a:cubicBezTo>
                <a:cubicBezTo>
                  <a:pt x="20392" y="9802"/>
                  <a:pt x="20445" y="9877"/>
                  <a:pt x="20489" y="9947"/>
                </a:cubicBezTo>
                <a:cubicBezTo>
                  <a:pt x="20540" y="10029"/>
                  <a:pt x="20539" y="10009"/>
                  <a:pt x="20613" y="10046"/>
                </a:cubicBezTo>
                <a:cubicBezTo>
                  <a:pt x="20663" y="10071"/>
                  <a:pt x="20725" y="10048"/>
                  <a:pt x="20786" y="10021"/>
                </a:cubicBezTo>
                <a:cubicBezTo>
                  <a:pt x="20836" y="9996"/>
                  <a:pt x="20853" y="9988"/>
                  <a:pt x="20886" y="9971"/>
                </a:cubicBezTo>
              </a:path>
              <a:path w="2432" h="3300">
                <a:moveTo>
                  <a:pt x="20042" y="9773"/>
                </a:moveTo>
                <a:cubicBezTo>
                  <a:pt x="20050" y="9829"/>
                  <a:pt x="20082" y="9872"/>
                  <a:pt x="20092" y="9922"/>
                </a:cubicBezTo>
                <a:cubicBezTo>
                  <a:pt x="20104" y="9982"/>
                  <a:pt x="20131" y="10033"/>
                  <a:pt x="20141" y="10096"/>
                </a:cubicBezTo>
                <a:cubicBezTo>
                  <a:pt x="20156" y="10186"/>
                  <a:pt x="20150" y="10288"/>
                  <a:pt x="20166" y="10368"/>
                </a:cubicBezTo>
                <a:cubicBezTo>
                  <a:pt x="20166" y="10385"/>
                  <a:pt x="20166" y="10401"/>
                  <a:pt x="20166" y="10418"/>
                </a:cubicBezTo>
              </a:path>
              <a:path w="2432" h="3300">
                <a:moveTo>
                  <a:pt x="20290" y="12477"/>
                </a:moveTo>
                <a:cubicBezTo>
                  <a:pt x="20334" y="12445"/>
                  <a:pt x="20374" y="12416"/>
                  <a:pt x="20414" y="12378"/>
                </a:cubicBezTo>
                <a:cubicBezTo>
                  <a:pt x="20477" y="12319"/>
                  <a:pt x="20494" y="12259"/>
                  <a:pt x="20513" y="12179"/>
                </a:cubicBezTo>
                <a:cubicBezTo>
                  <a:pt x="20525" y="12126"/>
                  <a:pt x="20543" y="12040"/>
                  <a:pt x="20563" y="11981"/>
                </a:cubicBezTo>
                <a:cubicBezTo>
                  <a:pt x="20587" y="11910"/>
                  <a:pt x="20588" y="11859"/>
                  <a:pt x="20588" y="11782"/>
                </a:cubicBezTo>
                <a:cubicBezTo>
                  <a:pt x="20588" y="11679"/>
                  <a:pt x="20547" y="11554"/>
                  <a:pt x="20513" y="11460"/>
                </a:cubicBezTo>
                <a:cubicBezTo>
                  <a:pt x="20487" y="11388"/>
                  <a:pt x="20418" y="11338"/>
                  <a:pt x="20365" y="11286"/>
                </a:cubicBezTo>
                <a:cubicBezTo>
                  <a:pt x="20289" y="11211"/>
                  <a:pt x="20236" y="11159"/>
                  <a:pt x="20141" y="11112"/>
                </a:cubicBezTo>
                <a:cubicBezTo>
                  <a:pt x="20078" y="11081"/>
                  <a:pt x="20010" y="11049"/>
                  <a:pt x="19943" y="11038"/>
                </a:cubicBezTo>
                <a:cubicBezTo>
                  <a:pt x="19860" y="11024"/>
                  <a:pt x="19793" y="11053"/>
                  <a:pt x="19720" y="11063"/>
                </a:cubicBezTo>
                <a:cubicBezTo>
                  <a:pt x="19616" y="11077"/>
                  <a:pt x="19581" y="11085"/>
                  <a:pt x="19496" y="11137"/>
                </a:cubicBezTo>
                <a:cubicBezTo>
                  <a:pt x="19432" y="11176"/>
                  <a:pt x="19370" y="11207"/>
                  <a:pt x="19323" y="11261"/>
                </a:cubicBezTo>
                <a:cubicBezTo>
                  <a:pt x="19237" y="11358"/>
                  <a:pt x="19210" y="11452"/>
                  <a:pt x="19174" y="11559"/>
                </a:cubicBezTo>
                <a:cubicBezTo>
                  <a:pt x="19139" y="11662"/>
                  <a:pt x="19067" y="11773"/>
                  <a:pt x="19050" y="11881"/>
                </a:cubicBezTo>
                <a:cubicBezTo>
                  <a:pt x="19041" y="11941"/>
                  <a:pt x="19013" y="12074"/>
                  <a:pt x="19025" y="12129"/>
                </a:cubicBezTo>
                <a:cubicBezTo>
                  <a:pt x="19040" y="12198"/>
                  <a:pt x="19068" y="12262"/>
                  <a:pt x="19100" y="12328"/>
                </a:cubicBezTo>
                <a:cubicBezTo>
                  <a:pt x="19117" y="12363"/>
                  <a:pt x="19179" y="12510"/>
                  <a:pt x="19199" y="12526"/>
                </a:cubicBezTo>
                <a:cubicBezTo>
                  <a:pt x="19214" y="12538"/>
                  <a:pt x="19347" y="12597"/>
                  <a:pt x="19372" y="12601"/>
                </a:cubicBezTo>
                <a:cubicBezTo>
                  <a:pt x="19501" y="12624"/>
                  <a:pt x="19648" y="12596"/>
                  <a:pt x="19769" y="12576"/>
                </a:cubicBezTo>
                <a:cubicBezTo>
                  <a:pt x="19853" y="12562"/>
                  <a:pt x="19936" y="12572"/>
                  <a:pt x="20017" y="12551"/>
                </a:cubicBezTo>
                <a:cubicBezTo>
                  <a:pt x="20072" y="12537"/>
                  <a:pt x="20163" y="12527"/>
                  <a:pt x="20216" y="12502"/>
                </a:cubicBezTo>
                <a:cubicBezTo>
                  <a:pt x="20265" y="12479"/>
                  <a:pt x="20313" y="12446"/>
                  <a:pt x="20365" y="12427"/>
                </a:cubicBezTo>
              </a:path>
              <a:path w="2432" h="3300">
                <a:moveTo>
                  <a:pt x="20092" y="11782"/>
                </a:moveTo>
                <a:cubicBezTo>
                  <a:pt x="20062" y="11831"/>
                  <a:pt x="20061" y="11861"/>
                  <a:pt x="20017" y="11906"/>
                </a:cubicBezTo>
                <a:cubicBezTo>
                  <a:pt x="19987" y="11937"/>
                  <a:pt x="19964" y="12017"/>
                  <a:pt x="19918" y="12030"/>
                </a:cubicBezTo>
                <a:cubicBezTo>
                  <a:pt x="19870" y="12044"/>
                  <a:pt x="19787" y="12074"/>
                  <a:pt x="19745" y="12080"/>
                </a:cubicBezTo>
                <a:cubicBezTo>
                  <a:pt x="19670" y="12091"/>
                  <a:pt x="19556" y="12091"/>
                  <a:pt x="19496" y="12055"/>
                </a:cubicBezTo>
              </a:path>
              <a:path w="2432" h="3300">
                <a:moveTo>
                  <a:pt x="19794" y="11509"/>
                </a:moveTo>
                <a:cubicBezTo>
                  <a:pt x="19769" y="11485"/>
                  <a:pt x="19745" y="11460"/>
                  <a:pt x="19720" y="11435"/>
                </a:cubicBezTo>
              </a:path>
              <a:path w="2432" h="3300">
                <a:moveTo>
                  <a:pt x="19546" y="11658"/>
                </a:moveTo>
                <a:cubicBezTo>
                  <a:pt x="19546" y="11642"/>
                  <a:pt x="19546" y="11625"/>
                  <a:pt x="19546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 Cs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x – 2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08" name="Ink 4"/>
          <p:cNvSpPr/>
          <p:nvPr/>
        </p:nvSpPr>
        <p:spPr>
          <a:xfrm>
            <a:off x="3340080" y="1562040"/>
            <a:ext cx="482760" cy="339840"/>
          </a:xfrm>
          <a:custGeom>
            <a:avLst/>
            <a:gdLst/>
            <a:ahLst/>
            <a:rect l="l" t="t" r="r" b="b"/>
            <a:pathLst>
              <a:path w="1340" h="943">
                <a:moveTo>
                  <a:pt x="9575" y="4465"/>
                </a:moveTo>
                <a:cubicBezTo>
                  <a:pt x="9600" y="4541"/>
                  <a:pt x="9599" y="4607"/>
                  <a:pt x="9599" y="4688"/>
                </a:cubicBezTo>
                <a:cubicBezTo>
                  <a:pt x="9599" y="4767"/>
                  <a:pt x="9603" y="4884"/>
                  <a:pt x="9624" y="4961"/>
                </a:cubicBezTo>
                <a:cubicBezTo>
                  <a:pt x="9643" y="5030"/>
                  <a:pt x="9665" y="5088"/>
                  <a:pt x="9674" y="5159"/>
                </a:cubicBezTo>
              </a:path>
              <a:path w="1340" h="943">
                <a:moveTo>
                  <a:pt x="9277" y="4787"/>
                </a:moveTo>
                <a:cubicBezTo>
                  <a:pt x="9381" y="4787"/>
                  <a:pt x="9475" y="4766"/>
                  <a:pt x="9575" y="4762"/>
                </a:cubicBezTo>
                <a:cubicBezTo>
                  <a:pt x="9690" y="4757"/>
                  <a:pt x="9807" y="4762"/>
                  <a:pt x="9922" y="4762"/>
                </a:cubicBezTo>
              </a:path>
              <a:path w="1340" h="943">
                <a:moveTo>
                  <a:pt x="10096" y="4539"/>
                </a:moveTo>
                <a:cubicBezTo>
                  <a:pt x="10139" y="4462"/>
                  <a:pt x="10158" y="4452"/>
                  <a:pt x="10220" y="4415"/>
                </a:cubicBezTo>
                <a:cubicBezTo>
                  <a:pt x="10280" y="4379"/>
                  <a:pt x="10288" y="4345"/>
                  <a:pt x="10368" y="4341"/>
                </a:cubicBezTo>
                <a:cubicBezTo>
                  <a:pt x="10488" y="4336"/>
                  <a:pt x="10531" y="4397"/>
                  <a:pt x="10567" y="4514"/>
                </a:cubicBezTo>
                <a:cubicBezTo>
                  <a:pt x="10592" y="4594"/>
                  <a:pt x="10568" y="4713"/>
                  <a:pt x="10542" y="4787"/>
                </a:cubicBezTo>
                <a:cubicBezTo>
                  <a:pt x="10507" y="4886"/>
                  <a:pt x="10475" y="4916"/>
                  <a:pt x="10418" y="4986"/>
                </a:cubicBezTo>
                <a:cubicBezTo>
                  <a:pt x="10362" y="5055"/>
                  <a:pt x="10340" y="5072"/>
                  <a:pt x="10269" y="5110"/>
                </a:cubicBezTo>
                <a:cubicBezTo>
                  <a:pt x="10212" y="5141"/>
                  <a:pt x="10146" y="5154"/>
                  <a:pt x="10096" y="5110"/>
                </a:cubicBezTo>
                <a:cubicBezTo>
                  <a:pt x="10038" y="5059"/>
                  <a:pt x="10022" y="4997"/>
                  <a:pt x="10071" y="4936"/>
                </a:cubicBezTo>
                <a:cubicBezTo>
                  <a:pt x="10121" y="4874"/>
                  <a:pt x="10174" y="4871"/>
                  <a:pt x="10244" y="4911"/>
                </a:cubicBezTo>
                <a:cubicBezTo>
                  <a:pt x="10268" y="4925"/>
                  <a:pt x="10353" y="4993"/>
                  <a:pt x="10368" y="5011"/>
                </a:cubicBezTo>
                <a:cubicBezTo>
                  <a:pt x="10414" y="5064"/>
                  <a:pt x="10445" y="5131"/>
                  <a:pt x="10492" y="5184"/>
                </a:cubicBezTo>
                <a:cubicBezTo>
                  <a:pt x="10539" y="5236"/>
                  <a:pt x="10542" y="5268"/>
                  <a:pt x="10616" y="52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Ink 5"/>
          <p:cNvSpPr/>
          <p:nvPr/>
        </p:nvSpPr>
        <p:spPr>
          <a:xfrm>
            <a:off x="4214880" y="1571760"/>
            <a:ext cx="438120" cy="303120"/>
          </a:xfrm>
          <a:custGeom>
            <a:avLst/>
            <a:gdLst/>
            <a:ahLst/>
            <a:rect l="l" t="t" r="r" b="b"/>
            <a:pathLst>
              <a:path w="1216" h="844">
                <a:moveTo>
                  <a:pt x="11956" y="4564"/>
                </a:moveTo>
                <a:cubicBezTo>
                  <a:pt x="11956" y="4703"/>
                  <a:pt x="11964" y="4825"/>
                  <a:pt x="11981" y="4961"/>
                </a:cubicBezTo>
                <a:cubicBezTo>
                  <a:pt x="11981" y="5020"/>
                  <a:pt x="11984" y="5046"/>
                  <a:pt x="12005" y="5085"/>
                </a:cubicBezTo>
              </a:path>
              <a:path w="1216" h="844">
                <a:moveTo>
                  <a:pt x="11708" y="4762"/>
                </a:moveTo>
                <a:cubicBezTo>
                  <a:pt x="11844" y="4762"/>
                  <a:pt x="11974" y="4772"/>
                  <a:pt x="12105" y="4738"/>
                </a:cubicBezTo>
              </a:path>
              <a:path w="1216" h="844">
                <a:moveTo>
                  <a:pt x="12427" y="4539"/>
                </a:moveTo>
                <a:cubicBezTo>
                  <a:pt x="12474" y="4481"/>
                  <a:pt x="12493" y="4385"/>
                  <a:pt x="12576" y="4366"/>
                </a:cubicBezTo>
                <a:cubicBezTo>
                  <a:pt x="12667" y="4345"/>
                  <a:pt x="12710" y="4363"/>
                  <a:pt x="12750" y="4440"/>
                </a:cubicBezTo>
                <a:cubicBezTo>
                  <a:pt x="12794" y="4525"/>
                  <a:pt x="12836" y="4617"/>
                  <a:pt x="12849" y="4713"/>
                </a:cubicBezTo>
                <a:cubicBezTo>
                  <a:pt x="12864" y="4824"/>
                  <a:pt x="12812" y="4957"/>
                  <a:pt x="12774" y="5060"/>
                </a:cubicBezTo>
                <a:cubicBezTo>
                  <a:pt x="12752" y="5120"/>
                  <a:pt x="12720" y="5192"/>
                  <a:pt x="12650" y="5209"/>
                </a:cubicBezTo>
                <a:cubicBezTo>
                  <a:pt x="12605" y="5220"/>
                  <a:pt x="12528" y="5172"/>
                  <a:pt x="12502" y="5135"/>
                </a:cubicBezTo>
                <a:cubicBezTo>
                  <a:pt x="12472" y="5093"/>
                  <a:pt x="12458" y="5005"/>
                  <a:pt x="12526" y="4986"/>
                </a:cubicBezTo>
                <a:cubicBezTo>
                  <a:pt x="12594" y="4967"/>
                  <a:pt x="12650" y="5030"/>
                  <a:pt x="12700" y="5060"/>
                </a:cubicBezTo>
                <a:cubicBezTo>
                  <a:pt x="12764" y="5099"/>
                  <a:pt x="12815" y="5127"/>
                  <a:pt x="12874" y="5159"/>
                </a:cubicBezTo>
                <a:cubicBezTo>
                  <a:pt x="12890" y="5167"/>
                  <a:pt x="12907" y="5176"/>
                  <a:pt x="12923" y="51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Ink 6"/>
          <p:cNvSpPr/>
          <p:nvPr/>
        </p:nvSpPr>
        <p:spPr>
          <a:xfrm>
            <a:off x="1785960" y="2089080"/>
            <a:ext cx="2635200" cy="492120"/>
          </a:xfrm>
          <a:custGeom>
            <a:avLst/>
            <a:gdLst/>
            <a:ahLst/>
            <a:rect l="l" t="t" r="r" b="b"/>
            <a:pathLst>
              <a:path w="7318" h="1366">
                <a:moveTo>
                  <a:pt x="6449" y="6300"/>
                </a:moveTo>
                <a:cubicBezTo>
                  <a:pt x="6471" y="6337"/>
                  <a:pt x="6477" y="6363"/>
                  <a:pt x="6499" y="6400"/>
                </a:cubicBezTo>
                <a:cubicBezTo>
                  <a:pt x="6490" y="6329"/>
                  <a:pt x="6473" y="6281"/>
                  <a:pt x="6424" y="6226"/>
                </a:cubicBezTo>
                <a:cubicBezTo>
                  <a:pt x="6365" y="6160"/>
                  <a:pt x="6345" y="6188"/>
                  <a:pt x="6276" y="6201"/>
                </a:cubicBezTo>
                <a:cubicBezTo>
                  <a:pt x="6197" y="6216"/>
                  <a:pt x="6147" y="6297"/>
                  <a:pt x="6102" y="6375"/>
                </a:cubicBezTo>
                <a:cubicBezTo>
                  <a:pt x="6063" y="6441"/>
                  <a:pt x="6031" y="6523"/>
                  <a:pt x="6028" y="6598"/>
                </a:cubicBezTo>
                <a:cubicBezTo>
                  <a:pt x="6024" y="6692"/>
                  <a:pt x="6036" y="6738"/>
                  <a:pt x="6077" y="6821"/>
                </a:cubicBezTo>
                <a:cubicBezTo>
                  <a:pt x="6140" y="6947"/>
                  <a:pt x="6218" y="6965"/>
                  <a:pt x="6350" y="6970"/>
                </a:cubicBezTo>
                <a:cubicBezTo>
                  <a:pt x="6459" y="6974"/>
                  <a:pt x="6481" y="6936"/>
                  <a:pt x="6573" y="6871"/>
                </a:cubicBezTo>
              </a:path>
              <a:path w="7318" h="1366">
                <a:moveTo>
                  <a:pt x="7169" y="6375"/>
                </a:moveTo>
                <a:cubicBezTo>
                  <a:pt x="7163" y="6335"/>
                  <a:pt x="7147" y="6266"/>
                  <a:pt x="7094" y="6251"/>
                </a:cubicBezTo>
                <a:cubicBezTo>
                  <a:pt x="7038" y="6235"/>
                  <a:pt x="6944" y="6247"/>
                  <a:pt x="6896" y="6276"/>
                </a:cubicBezTo>
                <a:cubicBezTo>
                  <a:pt x="6852" y="6303"/>
                  <a:pt x="6809" y="6320"/>
                  <a:pt x="6772" y="6350"/>
                </a:cubicBezTo>
                <a:cubicBezTo>
                  <a:pt x="6764" y="6358"/>
                  <a:pt x="6755" y="6367"/>
                  <a:pt x="6747" y="6375"/>
                </a:cubicBezTo>
                <a:cubicBezTo>
                  <a:pt x="6804" y="6432"/>
                  <a:pt x="6874" y="6460"/>
                  <a:pt x="6945" y="6499"/>
                </a:cubicBezTo>
                <a:cubicBezTo>
                  <a:pt x="7015" y="6538"/>
                  <a:pt x="7061" y="6566"/>
                  <a:pt x="7119" y="6623"/>
                </a:cubicBezTo>
                <a:cubicBezTo>
                  <a:pt x="7155" y="6658"/>
                  <a:pt x="7238" y="6737"/>
                  <a:pt x="7218" y="6796"/>
                </a:cubicBezTo>
                <a:cubicBezTo>
                  <a:pt x="7203" y="6840"/>
                  <a:pt x="7145" y="6912"/>
                  <a:pt x="7094" y="6921"/>
                </a:cubicBezTo>
                <a:cubicBezTo>
                  <a:pt x="7015" y="6936"/>
                  <a:pt x="6918" y="6928"/>
                  <a:pt x="6846" y="6896"/>
                </a:cubicBezTo>
                <a:cubicBezTo>
                  <a:pt x="6776" y="6865"/>
                  <a:pt x="6781" y="6864"/>
                  <a:pt x="6772" y="6796"/>
                </a:cubicBezTo>
              </a:path>
              <a:path w="7318" h="1366">
                <a:moveTo>
                  <a:pt x="7665" y="6350"/>
                </a:moveTo>
                <a:cubicBezTo>
                  <a:pt x="7719" y="6406"/>
                  <a:pt x="7657" y="6297"/>
                  <a:pt x="7640" y="6276"/>
                </a:cubicBezTo>
                <a:cubicBezTo>
                  <a:pt x="7599" y="6225"/>
                  <a:pt x="7525" y="6252"/>
                  <a:pt x="7491" y="6300"/>
                </a:cubicBezTo>
                <a:cubicBezTo>
                  <a:pt x="7448" y="6360"/>
                  <a:pt x="7422" y="6434"/>
                  <a:pt x="7392" y="6499"/>
                </a:cubicBezTo>
                <a:cubicBezTo>
                  <a:pt x="7364" y="6560"/>
                  <a:pt x="7329" y="6678"/>
                  <a:pt x="7342" y="6747"/>
                </a:cubicBezTo>
                <a:cubicBezTo>
                  <a:pt x="7357" y="6827"/>
                  <a:pt x="7384" y="6884"/>
                  <a:pt x="7441" y="6945"/>
                </a:cubicBezTo>
                <a:cubicBezTo>
                  <a:pt x="7497" y="7005"/>
                  <a:pt x="7553" y="7010"/>
                  <a:pt x="7640" y="6995"/>
                </a:cubicBezTo>
                <a:cubicBezTo>
                  <a:pt x="7700" y="6975"/>
                  <a:pt x="7715" y="6976"/>
                  <a:pt x="7739" y="6945"/>
                </a:cubicBezTo>
              </a:path>
              <a:path w="7318" h="1366">
                <a:moveTo>
                  <a:pt x="7888" y="5928"/>
                </a:moveTo>
                <a:cubicBezTo>
                  <a:pt x="7934" y="5863"/>
                  <a:pt x="7976" y="5773"/>
                  <a:pt x="8062" y="5829"/>
                </a:cubicBezTo>
                <a:cubicBezTo>
                  <a:pt x="8136" y="5877"/>
                  <a:pt x="8132" y="5927"/>
                  <a:pt x="8111" y="6003"/>
                </a:cubicBezTo>
                <a:cubicBezTo>
                  <a:pt x="8101" y="6039"/>
                  <a:pt x="8055" y="6161"/>
                  <a:pt x="8012" y="6176"/>
                </a:cubicBezTo>
                <a:cubicBezTo>
                  <a:pt x="7931" y="6204"/>
                  <a:pt x="7901" y="6102"/>
                  <a:pt x="7888" y="6052"/>
                </a:cubicBezTo>
                <a:cubicBezTo>
                  <a:pt x="7958" y="6060"/>
                  <a:pt x="8025" y="6080"/>
                  <a:pt x="8086" y="6102"/>
                </a:cubicBezTo>
                <a:cubicBezTo>
                  <a:pt x="8133" y="6119"/>
                  <a:pt x="8172" y="6146"/>
                  <a:pt x="8210" y="6176"/>
                </a:cubicBezTo>
              </a:path>
              <a:path w="7318" h="1366">
                <a:moveTo>
                  <a:pt x="8434" y="6499"/>
                </a:moveTo>
                <a:cubicBezTo>
                  <a:pt x="8467" y="6627"/>
                  <a:pt x="8489" y="6680"/>
                  <a:pt x="8582" y="6772"/>
                </a:cubicBezTo>
                <a:cubicBezTo>
                  <a:pt x="8642" y="6831"/>
                  <a:pt x="8710" y="6901"/>
                  <a:pt x="8781" y="6945"/>
                </a:cubicBezTo>
                <a:cubicBezTo>
                  <a:pt x="8843" y="6984"/>
                  <a:pt x="8932" y="7031"/>
                  <a:pt x="9004" y="7045"/>
                </a:cubicBezTo>
              </a:path>
              <a:path w="7318" h="1366">
                <a:moveTo>
                  <a:pt x="8781" y="6474"/>
                </a:moveTo>
                <a:cubicBezTo>
                  <a:pt x="8670" y="6619"/>
                  <a:pt x="8516" y="6788"/>
                  <a:pt x="8409" y="6945"/>
                </a:cubicBezTo>
                <a:cubicBezTo>
                  <a:pt x="8383" y="6983"/>
                  <a:pt x="8344" y="7029"/>
                  <a:pt x="8334" y="7069"/>
                </a:cubicBezTo>
              </a:path>
              <a:path w="7318" h="1366">
                <a:moveTo>
                  <a:pt x="9823" y="6598"/>
                </a:moveTo>
                <a:cubicBezTo>
                  <a:pt x="10030" y="6598"/>
                  <a:pt x="10236" y="6598"/>
                  <a:pt x="10443" y="6598"/>
                </a:cubicBezTo>
              </a:path>
              <a:path w="7318" h="1366">
                <a:moveTo>
                  <a:pt x="9897" y="6747"/>
                </a:moveTo>
                <a:cubicBezTo>
                  <a:pt x="9991" y="6773"/>
                  <a:pt x="10098" y="6792"/>
                  <a:pt x="10195" y="6796"/>
                </a:cubicBezTo>
                <a:cubicBezTo>
                  <a:pt x="10274" y="6799"/>
                  <a:pt x="10323" y="6817"/>
                  <a:pt x="10393" y="6821"/>
                </a:cubicBezTo>
                <a:cubicBezTo>
                  <a:pt x="10410" y="6821"/>
                  <a:pt x="10426" y="6821"/>
                  <a:pt x="10443" y="6821"/>
                </a:cubicBezTo>
              </a:path>
              <a:path w="7318" h="1366">
                <a:moveTo>
                  <a:pt x="11112" y="6226"/>
                </a:moveTo>
                <a:cubicBezTo>
                  <a:pt x="11085" y="6254"/>
                  <a:pt x="11077" y="6268"/>
                  <a:pt x="11088" y="6300"/>
                </a:cubicBezTo>
                <a:cubicBezTo>
                  <a:pt x="11114" y="6233"/>
                  <a:pt x="11138" y="6181"/>
                  <a:pt x="11187" y="6127"/>
                </a:cubicBezTo>
                <a:cubicBezTo>
                  <a:pt x="11242" y="6066"/>
                  <a:pt x="11250" y="6056"/>
                  <a:pt x="11336" y="6052"/>
                </a:cubicBezTo>
                <a:cubicBezTo>
                  <a:pt x="11435" y="6047"/>
                  <a:pt x="11485" y="6070"/>
                  <a:pt x="11559" y="6152"/>
                </a:cubicBezTo>
                <a:cubicBezTo>
                  <a:pt x="11624" y="6224"/>
                  <a:pt x="11609" y="6337"/>
                  <a:pt x="11609" y="6424"/>
                </a:cubicBezTo>
                <a:cubicBezTo>
                  <a:pt x="11609" y="6511"/>
                  <a:pt x="11589" y="6614"/>
                  <a:pt x="11559" y="6697"/>
                </a:cubicBezTo>
                <a:cubicBezTo>
                  <a:pt x="11526" y="6788"/>
                  <a:pt x="11497" y="6873"/>
                  <a:pt x="11435" y="6945"/>
                </a:cubicBezTo>
                <a:cubicBezTo>
                  <a:pt x="11389" y="6998"/>
                  <a:pt x="11352" y="7096"/>
                  <a:pt x="11261" y="7069"/>
                </a:cubicBezTo>
                <a:cubicBezTo>
                  <a:pt x="11198" y="7050"/>
                  <a:pt x="11212" y="6968"/>
                  <a:pt x="11212" y="6921"/>
                </a:cubicBezTo>
                <a:cubicBezTo>
                  <a:pt x="11212" y="6857"/>
                  <a:pt x="11215" y="6831"/>
                  <a:pt x="11237" y="6772"/>
                </a:cubicBezTo>
                <a:cubicBezTo>
                  <a:pt x="11310" y="6813"/>
                  <a:pt x="11349" y="6860"/>
                  <a:pt x="11410" y="6921"/>
                </a:cubicBezTo>
                <a:cubicBezTo>
                  <a:pt x="11461" y="6971"/>
                  <a:pt x="11495" y="6966"/>
                  <a:pt x="11559" y="6995"/>
                </a:cubicBezTo>
                <a:cubicBezTo>
                  <a:pt x="11647" y="7034"/>
                  <a:pt x="11737" y="7056"/>
                  <a:pt x="11832" y="7069"/>
                </a:cubicBezTo>
                <a:cubicBezTo>
                  <a:pt x="11923" y="7081"/>
                  <a:pt x="11998" y="7058"/>
                  <a:pt x="12080" y="7045"/>
                </a:cubicBezTo>
                <a:cubicBezTo>
                  <a:pt x="12114" y="7039"/>
                  <a:pt x="12241" y="7052"/>
                  <a:pt x="12254" y="6995"/>
                </a:cubicBezTo>
                <a:cubicBezTo>
                  <a:pt x="12246" y="6987"/>
                  <a:pt x="12237" y="6978"/>
                  <a:pt x="12229" y="6970"/>
                </a:cubicBezTo>
              </a:path>
              <a:path w="7318" h="1366">
                <a:moveTo>
                  <a:pt x="4961" y="6449"/>
                </a:moveTo>
                <a:cubicBezTo>
                  <a:pt x="5024" y="6469"/>
                  <a:pt x="5102" y="6475"/>
                  <a:pt x="5159" y="6524"/>
                </a:cubicBezTo>
                <a:cubicBezTo>
                  <a:pt x="5212" y="6570"/>
                  <a:pt x="5276" y="6684"/>
                  <a:pt x="5308" y="6747"/>
                </a:cubicBezTo>
                <a:cubicBezTo>
                  <a:pt x="5368" y="6867"/>
                  <a:pt x="5397" y="7013"/>
                  <a:pt x="5407" y="7144"/>
                </a:cubicBezTo>
                <a:cubicBezTo>
                  <a:pt x="5387" y="7083"/>
                  <a:pt x="5367" y="7017"/>
                  <a:pt x="5358" y="6945"/>
                </a:cubicBezTo>
                <a:cubicBezTo>
                  <a:pt x="5333" y="6735"/>
                  <a:pt x="5333" y="6454"/>
                  <a:pt x="5383" y="6251"/>
                </a:cubicBezTo>
                <a:cubicBezTo>
                  <a:pt x="5403" y="6169"/>
                  <a:pt x="5411" y="6080"/>
                  <a:pt x="5457" y="6003"/>
                </a:cubicBezTo>
                <a:cubicBezTo>
                  <a:pt x="5492" y="5944"/>
                  <a:pt x="5532" y="5950"/>
                  <a:pt x="5581" y="5928"/>
                </a:cubicBezTo>
                <a:cubicBezTo>
                  <a:pt x="5635" y="5904"/>
                  <a:pt x="5717" y="5887"/>
                  <a:pt x="5779" y="5879"/>
                </a:cubicBezTo>
                <a:cubicBezTo>
                  <a:pt x="6090" y="5842"/>
                  <a:pt x="6437" y="5861"/>
                  <a:pt x="6747" y="5854"/>
                </a:cubicBezTo>
                <a:cubicBezTo>
                  <a:pt x="7178" y="5845"/>
                  <a:pt x="7609" y="5866"/>
                  <a:pt x="8037" y="5829"/>
                </a:cubicBezTo>
                <a:cubicBezTo>
                  <a:pt x="8151" y="5819"/>
                  <a:pt x="8270" y="5829"/>
                  <a:pt x="8384" y="5829"/>
                </a:cubicBezTo>
              </a:path>
              <a:path w="7318" h="1366">
                <a:moveTo>
                  <a:pt x="10864" y="6548"/>
                </a:moveTo>
                <a:cubicBezTo>
                  <a:pt x="10847" y="6686"/>
                  <a:pt x="10840" y="6808"/>
                  <a:pt x="10840" y="6945"/>
                </a:cubicBezTo>
                <a:cubicBezTo>
                  <a:pt x="10840" y="7020"/>
                  <a:pt x="10840" y="7094"/>
                  <a:pt x="10840" y="7169"/>
                </a:cubicBezTo>
                <a:cubicBezTo>
                  <a:pt x="10833" y="7089"/>
                  <a:pt x="10815" y="7027"/>
                  <a:pt x="10815" y="6945"/>
                </a:cubicBezTo>
                <a:cubicBezTo>
                  <a:pt x="10815" y="6833"/>
                  <a:pt x="10836" y="6732"/>
                  <a:pt x="10840" y="6623"/>
                </a:cubicBezTo>
                <a:cubicBezTo>
                  <a:pt x="10844" y="6520"/>
                  <a:pt x="10846" y="6425"/>
                  <a:pt x="10864" y="6325"/>
                </a:cubicBezTo>
                <a:cubicBezTo>
                  <a:pt x="10878" y="6248"/>
                  <a:pt x="10902" y="6136"/>
                  <a:pt x="10964" y="6077"/>
                </a:cubicBezTo>
                <a:cubicBezTo>
                  <a:pt x="11052" y="5994"/>
                  <a:pt x="11242" y="5986"/>
                  <a:pt x="11336" y="5978"/>
                </a:cubicBezTo>
                <a:cubicBezTo>
                  <a:pt x="11467" y="5967"/>
                  <a:pt x="11599" y="5936"/>
                  <a:pt x="11733" y="5953"/>
                </a:cubicBezTo>
                <a:cubicBezTo>
                  <a:pt x="11859" y="5969"/>
                  <a:pt x="12005" y="5954"/>
                  <a:pt x="12129" y="5978"/>
                </a:cubicBezTo>
                <a:cubicBezTo>
                  <a:pt x="12188" y="5989"/>
                  <a:pt x="12194" y="6003"/>
                  <a:pt x="12254" y="6003"/>
                </a:cubicBezTo>
              </a:path>
              <a:path w="7318" h="1366">
                <a:moveTo>
                  <a:pt x="10567" y="5854"/>
                </a:moveTo>
                <a:cubicBezTo>
                  <a:pt x="10567" y="5976"/>
                  <a:pt x="10574" y="6086"/>
                  <a:pt x="10592" y="6201"/>
                </a:cubicBezTo>
                <a:cubicBezTo>
                  <a:pt x="10592" y="6253"/>
                  <a:pt x="10591" y="6271"/>
                  <a:pt x="10567" y="6300"/>
                </a:cubicBezTo>
              </a:path>
              <a:path w="7318" h="1366">
                <a:moveTo>
                  <a:pt x="10294" y="6102"/>
                </a:moveTo>
                <a:cubicBezTo>
                  <a:pt x="10418" y="6102"/>
                  <a:pt x="10542" y="6102"/>
                  <a:pt x="10666" y="6102"/>
                </a:cubicBezTo>
              </a:path>
              <a:path w="7318" h="1366">
                <a:moveTo>
                  <a:pt x="10443" y="6449"/>
                </a:moveTo>
                <a:cubicBezTo>
                  <a:pt x="10532" y="6455"/>
                  <a:pt x="10618" y="6455"/>
                  <a:pt x="10691" y="64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Ink 7"/>
          <p:cNvSpPr/>
          <p:nvPr/>
        </p:nvSpPr>
        <p:spPr>
          <a:xfrm>
            <a:off x="2411280" y="2847960"/>
            <a:ext cx="2295720" cy="822240"/>
          </a:xfrm>
          <a:custGeom>
            <a:avLst/>
            <a:gdLst/>
            <a:ahLst/>
            <a:rect l="l" t="t" r="r" b="b"/>
            <a:pathLst>
              <a:path w="6376" h="2283">
                <a:moveTo>
                  <a:pt x="7218" y="8186"/>
                </a:moveTo>
                <a:cubicBezTo>
                  <a:pt x="7218" y="8227"/>
                  <a:pt x="7218" y="8269"/>
                  <a:pt x="7218" y="8310"/>
                </a:cubicBezTo>
                <a:cubicBezTo>
                  <a:pt x="7209" y="8248"/>
                  <a:pt x="7189" y="8211"/>
                  <a:pt x="7144" y="8161"/>
                </a:cubicBezTo>
                <a:cubicBezTo>
                  <a:pt x="7084" y="8095"/>
                  <a:pt x="7060" y="8081"/>
                  <a:pt x="6970" y="8111"/>
                </a:cubicBezTo>
                <a:cubicBezTo>
                  <a:pt x="6920" y="8128"/>
                  <a:pt x="6851" y="8164"/>
                  <a:pt x="6821" y="8210"/>
                </a:cubicBezTo>
                <a:cubicBezTo>
                  <a:pt x="6784" y="8267"/>
                  <a:pt x="6708" y="8307"/>
                  <a:pt x="6697" y="8384"/>
                </a:cubicBezTo>
                <a:cubicBezTo>
                  <a:pt x="6685" y="8464"/>
                  <a:pt x="6690" y="8560"/>
                  <a:pt x="6722" y="8632"/>
                </a:cubicBezTo>
                <a:cubicBezTo>
                  <a:pt x="6756" y="8707"/>
                  <a:pt x="6809" y="8733"/>
                  <a:pt x="6871" y="8781"/>
                </a:cubicBezTo>
                <a:cubicBezTo>
                  <a:pt x="6919" y="8818"/>
                  <a:pt x="7053" y="8840"/>
                  <a:pt x="7119" y="8830"/>
                </a:cubicBezTo>
                <a:cubicBezTo>
                  <a:pt x="7144" y="8822"/>
                  <a:pt x="7168" y="8814"/>
                  <a:pt x="7193" y="8806"/>
                </a:cubicBezTo>
              </a:path>
              <a:path w="6376" h="2283">
                <a:moveTo>
                  <a:pt x="7813" y="8285"/>
                </a:moveTo>
                <a:cubicBezTo>
                  <a:pt x="7776" y="8247"/>
                  <a:pt x="7706" y="8206"/>
                  <a:pt x="7665" y="8210"/>
                </a:cubicBezTo>
                <a:cubicBezTo>
                  <a:pt x="7605" y="8216"/>
                  <a:pt x="7514" y="8234"/>
                  <a:pt x="7466" y="8260"/>
                </a:cubicBezTo>
                <a:cubicBezTo>
                  <a:pt x="7423" y="8282"/>
                  <a:pt x="7411" y="8286"/>
                  <a:pt x="7392" y="8310"/>
                </a:cubicBezTo>
                <a:cubicBezTo>
                  <a:pt x="7464" y="8350"/>
                  <a:pt x="7515" y="8352"/>
                  <a:pt x="7590" y="8384"/>
                </a:cubicBezTo>
                <a:cubicBezTo>
                  <a:pt x="7674" y="8419"/>
                  <a:pt x="7759" y="8484"/>
                  <a:pt x="7813" y="8558"/>
                </a:cubicBezTo>
                <a:cubicBezTo>
                  <a:pt x="7844" y="8601"/>
                  <a:pt x="7905" y="8702"/>
                  <a:pt x="7888" y="8756"/>
                </a:cubicBezTo>
                <a:cubicBezTo>
                  <a:pt x="7861" y="8842"/>
                  <a:pt x="7696" y="8837"/>
                  <a:pt x="7640" y="8830"/>
                </a:cubicBezTo>
                <a:cubicBezTo>
                  <a:pt x="7566" y="8821"/>
                  <a:pt x="7516" y="8806"/>
                  <a:pt x="7466" y="8756"/>
                </a:cubicBezTo>
                <a:cubicBezTo>
                  <a:pt x="7438" y="8728"/>
                  <a:pt x="7429" y="8715"/>
                  <a:pt x="7441" y="8682"/>
                </a:cubicBezTo>
              </a:path>
              <a:path w="6376" h="2283">
                <a:moveTo>
                  <a:pt x="8359" y="8334"/>
                </a:moveTo>
                <a:cubicBezTo>
                  <a:pt x="8390" y="8283"/>
                  <a:pt x="8395" y="8223"/>
                  <a:pt x="8310" y="8210"/>
                </a:cubicBezTo>
                <a:cubicBezTo>
                  <a:pt x="8216" y="8196"/>
                  <a:pt x="8120" y="8234"/>
                  <a:pt x="8062" y="8310"/>
                </a:cubicBezTo>
                <a:cubicBezTo>
                  <a:pt x="8004" y="8386"/>
                  <a:pt x="7966" y="8491"/>
                  <a:pt x="7962" y="8582"/>
                </a:cubicBezTo>
                <a:cubicBezTo>
                  <a:pt x="7959" y="8649"/>
                  <a:pt x="7994" y="8732"/>
                  <a:pt x="8037" y="8781"/>
                </a:cubicBezTo>
                <a:cubicBezTo>
                  <a:pt x="8102" y="8855"/>
                  <a:pt x="8198" y="8867"/>
                  <a:pt x="8285" y="8905"/>
                </a:cubicBezTo>
                <a:cubicBezTo>
                  <a:pt x="8390" y="8950"/>
                  <a:pt x="8431" y="8906"/>
                  <a:pt x="8533" y="8855"/>
                </a:cubicBezTo>
              </a:path>
              <a:path w="6376" h="2283">
                <a:moveTo>
                  <a:pt x="8756" y="8434"/>
                </a:moveTo>
                <a:cubicBezTo>
                  <a:pt x="8881" y="8578"/>
                  <a:pt x="8934" y="8636"/>
                  <a:pt x="9079" y="8731"/>
                </a:cubicBezTo>
                <a:cubicBezTo>
                  <a:pt x="9190" y="8804"/>
                  <a:pt x="9323" y="8819"/>
                  <a:pt x="9451" y="8830"/>
                </a:cubicBezTo>
              </a:path>
              <a:path w="6376" h="2283">
                <a:moveTo>
                  <a:pt x="9252" y="8235"/>
                </a:moveTo>
                <a:cubicBezTo>
                  <a:pt x="9060" y="8439"/>
                  <a:pt x="8911" y="8609"/>
                  <a:pt x="8781" y="8855"/>
                </a:cubicBezTo>
                <a:cubicBezTo>
                  <a:pt x="8712" y="8985"/>
                  <a:pt x="8639" y="9104"/>
                  <a:pt x="8558" y="9227"/>
                </a:cubicBezTo>
              </a:path>
              <a:path w="6376" h="2283">
                <a:moveTo>
                  <a:pt x="9773" y="8409"/>
                </a:moveTo>
                <a:cubicBezTo>
                  <a:pt x="9889" y="8409"/>
                  <a:pt x="10004" y="8409"/>
                  <a:pt x="10120" y="8409"/>
                </a:cubicBezTo>
              </a:path>
              <a:path w="6376" h="2283">
                <a:moveTo>
                  <a:pt x="9823" y="8558"/>
                </a:moveTo>
                <a:cubicBezTo>
                  <a:pt x="9881" y="8579"/>
                  <a:pt x="9957" y="8599"/>
                  <a:pt x="10021" y="8582"/>
                </a:cubicBezTo>
                <a:cubicBezTo>
                  <a:pt x="10038" y="8574"/>
                  <a:pt x="10054" y="8566"/>
                  <a:pt x="10071" y="8558"/>
                </a:cubicBezTo>
              </a:path>
              <a:path w="6376" h="2283">
                <a:moveTo>
                  <a:pt x="10864" y="7913"/>
                </a:moveTo>
                <a:cubicBezTo>
                  <a:pt x="10855" y="8027"/>
                  <a:pt x="10832" y="8170"/>
                  <a:pt x="10864" y="8285"/>
                </a:cubicBezTo>
                <a:cubicBezTo>
                  <a:pt x="10878" y="8335"/>
                  <a:pt x="10889" y="8355"/>
                  <a:pt x="10889" y="8409"/>
                </a:cubicBezTo>
              </a:path>
              <a:path w="6376" h="2283">
                <a:moveTo>
                  <a:pt x="10492" y="8186"/>
                </a:moveTo>
                <a:cubicBezTo>
                  <a:pt x="10606" y="8176"/>
                  <a:pt x="10676" y="8182"/>
                  <a:pt x="10790" y="8186"/>
                </a:cubicBezTo>
                <a:cubicBezTo>
                  <a:pt x="10883" y="8189"/>
                  <a:pt x="11030" y="8219"/>
                  <a:pt x="11112" y="8210"/>
                </a:cubicBezTo>
                <a:cubicBezTo>
                  <a:pt x="11129" y="8202"/>
                  <a:pt x="11145" y="8194"/>
                  <a:pt x="11162" y="8186"/>
                </a:cubicBezTo>
              </a:path>
              <a:path w="6376" h="2283">
                <a:moveTo>
                  <a:pt x="10616" y="8607"/>
                </a:moveTo>
                <a:cubicBezTo>
                  <a:pt x="10720" y="8628"/>
                  <a:pt x="10808" y="8632"/>
                  <a:pt x="10914" y="8632"/>
                </a:cubicBezTo>
                <a:cubicBezTo>
                  <a:pt x="10990" y="8632"/>
                  <a:pt x="11020" y="8633"/>
                  <a:pt x="11088" y="8607"/>
                </a:cubicBezTo>
              </a:path>
              <a:path w="6376" h="2283">
                <a:moveTo>
                  <a:pt x="11609" y="8508"/>
                </a:moveTo>
                <a:cubicBezTo>
                  <a:pt x="11609" y="8666"/>
                  <a:pt x="11609" y="8806"/>
                  <a:pt x="11633" y="8954"/>
                </a:cubicBezTo>
                <a:cubicBezTo>
                  <a:pt x="11633" y="9006"/>
                  <a:pt x="11634" y="9024"/>
                  <a:pt x="11658" y="9054"/>
                </a:cubicBezTo>
                <a:cubicBezTo>
                  <a:pt x="11650" y="8977"/>
                  <a:pt x="11633" y="8935"/>
                  <a:pt x="11633" y="8855"/>
                </a:cubicBezTo>
                <a:cubicBezTo>
                  <a:pt x="11633" y="8773"/>
                  <a:pt x="11620" y="8711"/>
                  <a:pt x="11609" y="8632"/>
                </a:cubicBezTo>
                <a:cubicBezTo>
                  <a:pt x="11594" y="8526"/>
                  <a:pt x="11588" y="8417"/>
                  <a:pt x="11584" y="8310"/>
                </a:cubicBezTo>
                <a:cubicBezTo>
                  <a:pt x="11582" y="8262"/>
                  <a:pt x="11574" y="8158"/>
                  <a:pt x="11559" y="8111"/>
                </a:cubicBezTo>
                <a:cubicBezTo>
                  <a:pt x="11541" y="8055"/>
                  <a:pt x="11574" y="8029"/>
                  <a:pt x="11658" y="8012"/>
                </a:cubicBezTo>
                <a:cubicBezTo>
                  <a:pt x="11732" y="7997"/>
                  <a:pt x="11808" y="8006"/>
                  <a:pt x="11881" y="7987"/>
                </a:cubicBezTo>
                <a:cubicBezTo>
                  <a:pt x="11990" y="7958"/>
                  <a:pt x="12090" y="7962"/>
                  <a:pt x="12204" y="7962"/>
                </a:cubicBezTo>
                <a:cubicBezTo>
                  <a:pt x="12298" y="7962"/>
                  <a:pt x="12381" y="7938"/>
                  <a:pt x="12477" y="7938"/>
                </a:cubicBezTo>
                <a:cubicBezTo>
                  <a:pt x="12538" y="7938"/>
                  <a:pt x="12541" y="7928"/>
                  <a:pt x="12601" y="7913"/>
                </a:cubicBezTo>
              </a:path>
              <a:path w="6376" h="2283">
                <a:moveTo>
                  <a:pt x="12005" y="8310"/>
                </a:moveTo>
                <a:cubicBezTo>
                  <a:pt x="12051" y="8264"/>
                  <a:pt x="12085" y="8271"/>
                  <a:pt x="12129" y="8235"/>
                </a:cubicBezTo>
                <a:cubicBezTo>
                  <a:pt x="12181" y="8193"/>
                  <a:pt x="12255" y="8146"/>
                  <a:pt x="12328" y="8161"/>
                </a:cubicBezTo>
                <a:cubicBezTo>
                  <a:pt x="12422" y="8181"/>
                  <a:pt x="12424" y="8309"/>
                  <a:pt x="12427" y="8384"/>
                </a:cubicBezTo>
                <a:cubicBezTo>
                  <a:pt x="12431" y="8482"/>
                  <a:pt x="12413" y="8567"/>
                  <a:pt x="12402" y="8657"/>
                </a:cubicBezTo>
                <a:cubicBezTo>
                  <a:pt x="12389" y="8763"/>
                  <a:pt x="12353" y="8831"/>
                  <a:pt x="12303" y="8930"/>
                </a:cubicBezTo>
                <a:cubicBezTo>
                  <a:pt x="12271" y="8993"/>
                  <a:pt x="12219" y="8995"/>
                  <a:pt x="12154" y="9004"/>
                </a:cubicBezTo>
                <a:cubicBezTo>
                  <a:pt x="12128" y="8935"/>
                  <a:pt x="12122" y="8904"/>
                  <a:pt x="12129" y="8855"/>
                </a:cubicBezTo>
                <a:cubicBezTo>
                  <a:pt x="12138" y="8791"/>
                  <a:pt x="12162" y="8759"/>
                  <a:pt x="12204" y="8706"/>
                </a:cubicBezTo>
                <a:cubicBezTo>
                  <a:pt x="12261" y="8735"/>
                  <a:pt x="12323" y="8781"/>
                  <a:pt x="12378" y="8806"/>
                </a:cubicBezTo>
                <a:cubicBezTo>
                  <a:pt x="12451" y="8839"/>
                  <a:pt x="12527" y="8874"/>
                  <a:pt x="12601" y="8905"/>
                </a:cubicBezTo>
                <a:cubicBezTo>
                  <a:pt x="12655" y="8928"/>
                  <a:pt x="12830" y="9000"/>
                  <a:pt x="12898" y="8979"/>
                </a:cubicBezTo>
                <a:cubicBezTo>
                  <a:pt x="12946" y="8964"/>
                  <a:pt x="13004" y="8943"/>
                  <a:pt x="13047" y="8905"/>
                </a:cubicBezTo>
                <a:cubicBezTo>
                  <a:pt x="13070" y="8882"/>
                  <a:pt x="13081" y="8874"/>
                  <a:pt x="13047" y="8880"/>
                </a:cubicBezTo>
              </a:path>
              <a:path w="6376" h="2283">
                <a:moveTo>
                  <a:pt x="11410" y="9178"/>
                </a:moveTo>
                <a:cubicBezTo>
                  <a:pt x="11465" y="9145"/>
                  <a:pt x="11516" y="9153"/>
                  <a:pt x="11584" y="9153"/>
                </a:cubicBezTo>
                <a:cubicBezTo>
                  <a:pt x="11705" y="9153"/>
                  <a:pt x="11812" y="9169"/>
                  <a:pt x="11931" y="9178"/>
                </a:cubicBezTo>
                <a:cubicBezTo>
                  <a:pt x="12165" y="9197"/>
                  <a:pt x="12595" y="9083"/>
                  <a:pt x="12799" y="9153"/>
                </a:cubicBezTo>
                <a:cubicBezTo>
                  <a:pt x="12777" y="9175"/>
                  <a:pt x="12772" y="9184"/>
                  <a:pt x="12750" y="9178"/>
                </a:cubicBezTo>
              </a:path>
              <a:path w="6376" h="2283">
                <a:moveTo>
                  <a:pt x="12278" y="9351"/>
                </a:moveTo>
                <a:cubicBezTo>
                  <a:pt x="12302" y="9432"/>
                  <a:pt x="12303" y="9489"/>
                  <a:pt x="12303" y="9575"/>
                </a:cubicBezTo>
                <a:cubicBezTo>
                  <a:pt x="12303" y="9693"/>
                  <a:pt x="12285" y="9765"/>
                  <a:pt x="12303" y="9872"/>
                </a:cubicBezTo>
                <a:cubicBezTo>
                  <a:pt x="12321" y="9979"/>
                  <a:pt x="12273" y="10103"/>
                  <a:pt x="12328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Ink 8"/>
          <p:cNvSpPr/>
          <p:nvPr/>
        </p:nvSpPr>
        <p:spPr>
          <a:xfrm>
            <a:off x="2714760" y="3616200"/>
            <a:ext cx="2054160" cy="714600"/>
          </a:xfrm>
          <a:custGeom>
            <a:avLst/>
            <a:gdLst/>
            <a:ahLst/>
            <a:rect l="l" t="t" r="r" b="b"/>
            <a:pathLst>
              <a:path w="5706" h="1985">
                <a:moveTo>
                  <a:pt x="7987" y="10269"/>
                </a:moveTo>
                <a:cubicBezTo>
                  <a:pt x="8018" y="10330"/>
                  <a:pt x="7898" y="10238"/>
                  <a:pt x="7838" y="10244"/>
                </a:cubicBezTo>
                <a:cubicBezTo>
                  <a:pt x="7791" y="10249"/>
                  <a:pt x="7688" y="10255"/>
                  <a:pt x="7640" y="10269"/>
                </a:cubicBezTo>
                <a:cubicBezTo>
                  <a:pt x="7555" y="10293"/>
                  <a:pt x="7558" y="10333"/>
                  <a:pt x="7590" y="10393"/>
                </a:cubicBezTo>
                <a:cubicBezTo>
                  <a:pt x="7632" y="10471"/>
                  <a:pt x="7723" y="10504"/>
                  <a:pt x="7789" y="10567"/>
                </a:cubicBezTo>
                <a:cubicBezTo>
                  <a:pt x="7868" y="10642"/>
                  <a:pt x="7950" y="10726"/>
                  <a:pt x="8012" y="10815"/>
                </a:cubicBezTo>
                <a:cubicBezTo>
                  <a:pt x="8036" y="10863"/>
                  <a:pt x="8045" y="10877"/>
                  <a:pt x="8037" y="10914"/>
                </a:cubicBezTo>
                <a:cubicBezTo>
                  <a:pt x="7901" y="10903"/>
                  <a:pt x="7809" y="10870"/>
                  <a:pt x="7689" y="10815"/>
                </a:cubicBezTo>
                <a:cubicBezTo>
                  <a:pt x="7600" y="10774"/>
                  <a:pt x="7554" y="10774"/>
                  <a:pt x="7565" y="10691"/>
                </a:cubicBezTo>
              </a:path>
              <a:path w="5706" h="1985">
                <a:moveTo>
                  <a:pt x="8359" y="10542"/>
                </a:moveTo>
                <a:cubicBezTo>
                  <a:pt x="8405" y="10702"/>
                  <a:pt x="8407" y="10742"/>
                  <a:pt x="8384" y="10889"/>
                </a:cubicBezTo>
                <a:cubicBezTo>
                  <a:pt x="8384" y="10931"/>
                  <a:pt x="8384" y="10956"/>
                  <a:pt x="8384" y="10914"/>
                </a:cubicBezTo>
              </a:path>
              <a:path w="5706" h="1985">
                <a:moveTo>
                  <a:pt x="8384" y="10071"/>
                </a:moveTo>
                <a:cubicBezTo>
                  <a:pt x="8409" y="10046"/>
                  <a:pt x="8417" y="10038"/>
                  <a:pt x="8434" y="10071"/>
                </a:cubicBezTo>
              </a:path>
              <a:path w="5706" h="1985">
                <a:moveTo>
                  <a:pt x="8607" y="10716"/>
                </a:moveTo>
                <a:cubicBezTo>
                  <a:pt x="8627" y="10815"/>
                  <a:pt x="8635" y="10830"/>
                  <a:pt x="8632" y="10889"/>
                </a:cubicBezTo>
                <a:cubicBezTo>
                  <a:pt x="8604" y="10798"/>
                  <a:pt x="8607" y="10713"/>
                  <a:pt x="8607" y="10616"/>
                </a:cubicBezTo>
                <a:cubicBezTo>
                  <a:pt x="8607" y="10566"/>
                  <a:pt x="8614" y="10462"/>
                  <a:pt x="8682" y="10443"/>
                </a:cubicBezTo>
                <a:cubicBezTo>
                  <a:pt x="8775" y="10416"/>
                  <a:pt x="8784" y="10461"/>
                  <a:pt x="8830" y="10517"/>
                </a:cubicBezTo>
                <a:cubicBezTo>
                  <a:pt x="8890" y="10590"/>
                  <a:pt x="8936" y="10655"/>
                  <a:pt x="8979" y="10740"/>
                </a:cubicBezTo>
                <a:cubicBezTo>
                  <a:pt x="9009" y="10801"/>
                  <a:pt x="9034" y="10863"/>
                  <a:pt x="9079" y="10914"/>
                </a:cubicBezTo>
                <a:cubicBezTo>
                  <a:pt x="9101" y="10937"/>
                  <a:pt x="9106" y="10945"/>
                  <a:pt x="9128" y="10939"/>
                </a:cubicBezTo>
              </a:path>
              <a:path w="5706" h="1985">
                <a:moveTo>
                  <a:pt x="9327" y="10368"/>
                </a:moveTo>
                <a:cubicBezTo>
                  <a:pt x="9418" y="10513"/>
                  <a:pt x="9499" y="10634"/>
                  <a:pt x="9599" y="10765"/>
                </a:cubicBezTo>
                <a:cubicBezTo>
                  <a:pt x="9664" y="10849"/>
                  <a:pt x="9709" y="10949"/>
                  <a:pt x="9798" y="11013"/>
                </a:cubicBezTo>
                <a:cubicBezTo>
                  <a:pt x="9841" y="11035"/>
                  <a:pt x="9853" y="11039"/>
                  <a:pt x="9872" y="11063"/>
                </a:cubicBezTo>
              </a:path>
              <a:path w="5706" h="1985">
                <a:moveTo>
                  <a:pt x="9798" y="10319"/>
                </a:moveTo>
                <a:cubicBezTo>
                  <a:pt x="9721" y="10427"/>
                  <a:pt x="9573" y="10586"/>
                  <a:pt x="9525" y="10716"/>
                </a:cubicBezTo>
                <a:cubicBezTo>
                  <a:pt x="9491" y="10807"/>
                  <a:pt x="9456" y="10876"/>
                  <a:pt x="9426" y="10964"/>
                </a:cubicBezTo>
                <a:cubicBezTo>
                  <a:pt x="9404" y="11007"/>
                  <a:pt x="9391" y="11019"/>
                  <a:pt x="9426" y="11038"/>
                </a:cubicBezTo>
              </a:path>
              <a:path w="5706" h="1985">
                <a:moveTo>
                  <a:pt x="9971" y="10542"/>
                </a:moveTo>
                <a:cubicBezTo>
                  <a:pt x="10089" y="10536"/>
                  <a:pt x="10163" y="10524"/>
                  <a:pt x="10269" y="10542"/>
                </a:cubicBezTo>
              </a:path>
              <a:path w="5706" h="1985">
                <a:moveTo>
                  <a:pt x="9971" y="10864"/>
                </a:moveTo>
                <a:cubicBezTo>
                  <a:pt x="10094" y="10885"/>
                  <a:pt x="10178" y="10903"/>
                  <a:pt x="10294" y="10864"/>
                </a:cubicBezTo>
              </a:path>
              <a:path w="5706" h="1985">
                <a:moveTo>
                  <a:pt x="10815" y="10195"/>
                </a:moveTo>
                <a:cubicBezTo>
                  <a:pt x="10836" y="10327"/>
                  <a:pt x="10846" y="10465"/>
                  <a:pt x="10864" y="10592"/>
                </a:cubicBezTo>
                <a:cubicBezTo>
                  <a:pt x="10869" y="10632"/>
                  <a:pt x="10864" y="10676"/>
                  <a:pt x="10864" y="10716"/>
                </a:cubicBezTo>
              </a:path>
              <a:path w="5706" h="1985">
                <a:moveTo>
                  <a:pt x="10666" y="10468"/>
                </a:moveTo>
                <a:cubicBezTo>
                  <a:pt x="10793" y="10456"/>
                  <a:pt x="10913" y="10488"/>
                  <a:pt x="11038" y="10468"/>
                </a:cubicBezTo>
                <a:cubicBezTo>
                  <a:pt x="11071" y="10460"/>
                  <a:pt x="11104" y="10451"/>
                  <a:pt x="11137" y="10443"/>
                </a:cubicBezTo>
              </a:path>
              <a:path w="5706" h="1985">
                <a:moveTo>
                  <a:pt x="10815" y="10889"/>
                </a:moveTo>
                <a:cubicBezTo>
                  <a:pt x="10957" y="10901"/>
                  <a:pt x="11050" y="10889"/>
                  <a:pt x="11187" y="10889"/>
                </a:cubicBezTo>
              </a:path>
              <a:path w="5706" h="1985">
                <a:moveTo>
                  <a:pt x="11708" y="10492"/>
                </a:moveTo>
                <a:cubicBezTo>
                  <a:pt x="11708" y="10578"/>
                  <a:pt x="11739" y="10613"/>
                  <a:pt x="11757" y="10691"/>
                </a:cubicBezTo>
                <a:cubicBezTo>
                  <a:pt x="11782" y="10796"/>
                  <a:pt x="11770" y="10892"/>
                  <a:pt x="11807" y="10988"/>
                </a:cubicBezTo>
                <a:cubicBezTo>
                  <a:pt x="11798" y="10920"/>
                  <a:pt x="11764" y="10855"/>
                  <a:pt x="11757" y="10790"/>
                </a:cubicBezTo>
                <a:cubicBezTo>
                  <a:pt x="11747" y="10694"/>
                  <a:pt x="11743" y="10609"/>
                  <a:pt x="11708" y="10517"/>
                </a:cubicBezTo>
                <a:cubicBezTo>
                  <a:pt x="11679" y="10441"/>
                  <a:pt x="11664" y="10370"/>
                  <a:pt x="11708" y="10294"/>
                </a:cubicBezTo>
                <a:cubicBezTo>
                  <a:pt x="11777" y="10173"/>
                  <a:pt x="11846" y="10193"/>
                  <a:pt x="11956" y="10170"/>
                </a:cubicBezTo>
                <a:cubicBezTo>
                  <a:pt x="12057" y="10149"/>
                  <a:pt x="12128" y="10144"/>
                  <a:pt x="12229" y="10170"/>
                </a:cubicBezTo>
                <a:cubicBezTo>
                  <a:pt x="12298" y="10187"/>
                  <a:pt x="12309" y="10201"/>
                  <a:pt x="12353" y="10244"/>
                </a:cubicBezTo>
              </a:path>
              <a:path w="5706" h="1985">
                <a:moveTo>
                  <a:pt x="12080" y="10517"/>
                </a:moveTo>
                <a:cubicBezTo>
                  <a:pt x="12111" y="10494"/>
                  <a:pt x="12177" y="10378"/>
                  <a:pt x="12204" y="10368"/>
                </a:cubicBezTo>
                <a:cubicBezTo>
                  <a:pt x="12300" y="10332"/>
                  <a:pt x="12385" y="10435"/>
                  <a:pt x="12402" y="10517"/>
                </a:cubicBezTo>
                <a:cubicBezTo>
                  <a:pt x="12430" y="10651"/>
                  <a:pt x="12440" y="10792"/>
                  <a:pt x="12328" y="10889"/>
                </a:cubicBezTo>
                <a:cubicBezTo>
                  <a:pt x="12244" y="10962"/>
                  <a:pt x="12159" y="10988"/>
                  <a:pt x="12055" y="10939"/>
                </a:cubicBezTo>
                <a:cubicBezTo>
                  <a:pt x="11986" y="10906"/>
                  <a:pt x="11996" y="10811"/>
                  <a:pt x="12030" y="10765"/>
                </a:cubicBezTo>
                <a:cubicBezTo>
                  <a:pt x="12038" y="10757"/>
                  <a:pt x="12047" y="10748"/>
                  <a:pt x="12055" y="10740"/>
                </a:cubicBezTo>
                <a:cubicBezTo>
                  <a:pt x="12147" y="10752"/>
                  <a:pt x="12174" y="10790"/>
                  <a:pt x="12254" y="10840"/>
                </a:cubicBezTo>
                <a:cubicBezTo>
                  <a:pt x="12341" y="10894"/>
                  <a:pt x="12447" y="11007"/>
                  <a:pt x="12551" y="11013"/>
                </a:cubicBezTo>
                <a:cubicBezTo>
                  <a:pt x="12592" y="11013"/>
                  <a:pt x="12634" y="11013"/>
                  <a:pt x="12675" y="11013"/>
                </a:cubicBezTo>
              </a:path>
              <a:path w="5706" h="1985">
                <a:moveTo>
                  <a:pt x="13122" y="11013"/>
                </a:moveTo>
                <a:cubicBezTo>
                  <a:pt x="12954" y="11062"/>
                  <a:pt x="12800" y="11102"/>
                  <a:pt x="12626" y="11112"/>
                </a:cubicBezTo>
                <a:cubicBezTo>
                  <a:pt x="12340" y="11129"/>
                  <a:pt x="12035" y="11071"/>
                  <a:pt x="11757" y="11137"/>
                </a:cubicBezTo>
                <a:cubicBezTo>
                  <a:pt x="11667" y="11158"/>
                  <a:pt x="11604" y="11156"/>
                  <a:pt x="11534" y="11212"/>
                </a:cubicBezTo>
              </a:path>
              <a:path w="5706" h="1985">
                <a:moveTo>
                  <a:pt x="12328" y="11435"/>
                </a:moveTo>
                <a:cubicBezTo>
                  <a:pt x="12383" y="11367"/>
                  <a:pt x="12407" y="11319"/>
                  <a:pt x="12502" y="11311"/>
                </a:cubicBezTo>
                <a:cubicBezTo>
                  <a:pt x="12591" y="11303"/>
                  <a:pt x="12702" y="11355"/>
                  <a:pt x="12750" y="11435"/>
                </a:cubicBezTo>
                <a:cubicBezTo>
                  <a:pt x="12814" y="11541"/>
                  <a:pt x="12803" y="11669"/>
                  <a:pt x="12774" y="11782"/>
                </a:cubicBezTo>
                <a:cubicBezTo>
                  <a:pt x="12748" y="11882"/>
                  <a:pt x="12650" y="11969"/>
                  <a:pt x="12551" y="12005"/>
                </a:cubicBezTo>
                <a:cubicBezTo>
                  <a:pt x="12476" y="12032"/>
                  <a:pt x="12414" y="12035"/>
                  <a:pt x="12353" y="11981"/>
                </a:cubicBezTo>
                <a:cubicBezTo>
                  <a:pt x="12308" y="11941"/>
                  <a:pt x="12308" y="11807"/>
                  <a:pt x="12378" y="11782"/>
                </a:cubicBezTo>
                <a:cubicBezTo>
                  <a:pt x="12454" y="11754"/>
                  <a:pt x="12609" y="11803"/>
                  <a:pt x="12675" y="11832"/>
                </a:cubicBezTo>
                <a:cubicBezTo>
                  <a:pt x="12859" y="11914"/>
                  <a:pt x="12990" y="11990"/>
                  <a:pt x="13196" y="12030"/>
                </a:cubicBezTo>
                <a:cubicBezTo>
                  <a:pt x="13213" y="12030"/>
                  <a:pt x="13229" y="12030"/>
                  <a:pt x="13246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Ink 9"/>
          <p:cNvSpPr/>
          <p:nvPr/>
        </p:nvSpPr>
        <p:spPr>
          <a:xfrm>
            <a:off x="2509920" y="4367160"/>
            <a:ext cx="3527280" cy="919080"/>
          </a:xfrm>
          <a:custGeom>
            <a:avLst/>
            <a:gdLst/>
            <a:ahLst/>
            <a:rect l="l" t="t" r="r" b="b"/>
            <a:pathLst>
              <a:path w="9799" h="2556">
                <a:moveTo>
                  <a:pt x="7020" y="12254"/>
                </a:moveTo>
                <a:cubicBezTo>
                  <a:pt x="7020" y="12373"/>
                  <a:pt x="7031" y="12487"/>
                  <a:pt x="7069" y="12601"/>
                </a:cubicBezTo>
                <a:cubicBezTo>
                  <a:pt x="7127" y="12774"/>
                  <a:pt x="7211" y="12948"/>
                  <a:pt x="7317" y="13097"/>
                </a:cubicBezTo>
                <a:cubicBezTo>
                  <a:pt x="7441" y="13272"/>
                  <a:pt x="7501" y="13341"/>
                  <a:pt x="7714" y="13370"/>
                </a:cubicBezTo>
              </a:path>
              <a:path w="9799" h="2556">
                <a:moveTo>
                  <a:pt x="7714" y="12129"/>
                </a:moveTo>
                <a:cubicBezTo>
                  <a:pt x="7567" y="12258"/>
                  <a:pt x="7461" y="12395"/>
                  <a:pt x="7342" y="12551"/>
                </a:cubicBezTo>
                <a:cubicBezTo>
                  <a:pt x="7228" y="12700"/>
                  <a:pt x="7130" y="12880"/>
                  <a:pt x="7045" y="13047"/>
                </a:cubicBezTo>
                <a:cubicBezTo>
                  <a:pt x="7012" y="13111"/>
                  <a:pt x="6974" y="13193"/>
                  <a:pt x="6995" y="13246"/>
                </a:cubicBezTo>
              </a:path>
              <a:path w="9799" h="2556">
                <a:moveTo>
                  <a:pt x="7764" y="12626"/>
                </a:moveTo>
                <a:cubicBezTo>
                  <a:pt x="8022" y="12614"/>
                  <a:pt x="8058" y="12589"/>
                  <a:pt x="8260" y="12650"/>
                </a:cubicBezTo>
              </a:path>
              <a:path w="9799" h="2556">
                <a:moveTo>
                  <a:pt x="7863" y="12923"/>
                </a:moveTo>
                <a:cubicBezTo>
                  <a:pt x="8057" y="12959"/>
                  <a:pt x="8129" y="12961"/>
                  <a:pt x="8334" y="12948"/>
                </a:cubicBezTo>
              </a:path>
              <a:path w="9799" h="2556">
                <a:moveTo>
                  <a:pt x="8558" y="12427"/>
                </a:moveTo>
                <a:cubicBezTo>
                  <a:pt x="8630" y="12390"/>
                  <a:pt x="8719" y="12402"/>
                  <a:pt x="8806" y="12402"/>
                </a:cubicBezTo>
                <a:cubicBezTo>
                  <a:pt x="8880" y="12402"/>
                  <a:pt x="8955" y="12402"/>
                  <a:pt x="9029" y="12402"/>
                </a:cubicBezTo>
              </a:path>
              <a:path w="9799" h="2556">
                <a:moveTo>
                  <a:pt x="8905" y="12477"/>
                </a:moveTo>
                <a:cubicBezTo>
                  <a:pt x="8905" y="12608"/>
                  <a:pt x="8909" y="12726"/>
                  <a:pt x="8930" y="12849"/>
                </a:cubicBezTo>
                <a:cubicBezTo>
                  <a:pt x="8941" y="12913"/>
                  <a:pt x="8895" y="12943"/>
                  <a:pt x="8954" y="12923"/>
                </a:cubicBezTo>
              </a:path>
              <a:path w="9799" h="2556">
                <a:moveTo>
                  <a:pt x="9029" y="12452"/>
                </a:moveTo>
                <a:cubicBezTo>
                  <a:pt x="9061" y="12602"/>
                  <a:pt x="9101" y="12749"/>
                  <a:pt x="9128" y="12898"/>
                </a:cubicBezTo>
                <a:cubicBezTo>
                  <a:pt x="9128" y="12943"/>
                  <a:pt x="9125" y="12956"/>
                  <a:pt x="9153" y="12973"/>
                </a:cubicBezTo>
              </a:path>
              <a:path w="9799" h="2556">
                <a:moveTo>
                  <a:pt x="9500" y="12378"/>
                </a:moveTo>
                <a:cubicBezTo>
                  <a:pt x="9445" y="12561"/>
                  <a:pt x="9384" y="12734"/>
                  <a:pt x="9351" y="12923"/>
                </a:cubicBezTo>
                <a:cubicBezTo>
                  <a:pt x="9318" y="13107"/>
                  <a:pt x="9265" y="13284"/>
                  <a:pt x="9227" y="13469"/>
                </a:cubicBezTo>
                <a:cubicBezTo>
                  <a:pt x="9210" y="13552"/>
                  <a:pt x="9122" y="13713"/>
                  <a:pt x="9128" y="13791"/>
                </a:cubicBezTo>
                <a:cubicBezTo>
                  <a:pt x="9136" y="13799"/>
                  <a:pt x="9145" y="13808"/>
                  <a:pt x="9153" y="13816"/>
                </a:cubicBezTo>
              </a:path>
              <a:path w="9799" h="2556">
                <a:moveTo>
                  <a:pt x="9525" y="13097"/>
                </a:moveTo>
                <a:cubicBezTo>
                  <a:pt x="9499" y="13149"/>
                  <a:pt x="9478" y="13210"/>
                  <a:pt x="9475" y="13271"/>
                </a:cubicBezTo>
                <a:cubicBezTo>
                  <a:pt x="9472" y="13333"/>
                  <a:pt x="9494" y="13404"/>
                  <a:pt x="9550" y="13444"/>
                </a:cubicBezTo>
                <a:cubicBezTo>
                  <a:pt x="9638" y="13507"/>
                  <a:pt x="9777" y="13521"/>
                  <a:pt x="9872" y="13469"/>
                </a:cubicBezTo>
                <a:cubicBezTo>
                  <a:pt x="9889" y="13452"/>
                  <a:pt x="9905" y="13436"/>
                  <a:pt x="9922" y="13419"/>
                </a:cubicBezTo>
              </a:path>
              <a:path w="9799" h="2556">
                <a:moveTo>
                  <a:pt x="9872" y="12998"/>
                </a:moveTo>
                <a:cubicBezTo>
                  <a:pt x="9849" y="13134"/>
                  <a:pt x="9847" y="13256"/>
                  <a:pt x="9847" y="13395"/>
                </a:cubicBezTo>
                <a:cubicBezTo>
                  <a:pt x="9847" y="13578"/>
                  <a:pt x="9778" y="13958"/>
                  <a:pt x="9872" y="14114"/>
                </a:cubicBezTo>
              </a:path>
              <a:path w="9799" h="2556">
                <a:moveTo>
                  <a:pt x="10319" y="13146"/>
                </a:moveTo>
                <a:cubicBezTo>
                  <a:pt x="10330" y="13273"/>
                  <a:pt x="10368" y="13368"/>
                  <a:pt x="10393" y="13494"/>
                </a:cubicBezTo>
                <a:cubicBezTo>
                  <a:pt x="10406" y="13559"/>
                  <a:pt x="10418" y="13624"/>
                  <a:pt x="10418" y="13692"/>
                </a:cubicBezTo>
              </a:path>
              <a:path w="9799" h="2556">
                <a:moveTo>
                  <a:pt x="10418" y="12378"/>
                </a:moveTo>
                <a:cubicBezTo>
                  <a:pt x="10480" y="12279"/>
                  <a:pt x="10507" y="12188"/>
                  <a:pt x="10641" y="12204"/>
                </a:cubicBezTo>
                <a:cubicBezTo>
                  <a:pt x="10710" y="12212"/>
                  <a:pt x="10866" y="12246"/>
                  <a:pt x="10840" y="12353"/>
                </a:cubicBezTo>
                <a:cubicBezTo>
                  <a:pt x="10819" y="12442"/>
                  <a:pt x="10740" y="12444"/>
                  <a:pt x="10666" y="12452"/>
                </a:cubicBezTo>
                <a:cubicBezTo>
                  <a:pt x="10743" y="12520"/>
                  <a:pt x="10845" y="12550"/>
                  <a:pt x="10889" y="12650"/>
                </a:cubicBezTo>
                <a:cubicBezTo>
                  <a:pt x="10914" y="12707"/>
                  <a:pt x="10965" y="12808"/>
                  <a:pt x="10939" y="12874"/>
                </a:cubicBezTo>
                <a:cubicBezTo>
                  <a:pt x="10913" y="12940"/>
                  <a:pt x="10789" y="12936"/>
                  <a:pt x="10740" y="12923"/>
                </a:cubicBezTo>
                <a:cubicBezTo>
                  <a:pt x="10641" y="12897"/>
                  <a:pt x="10656" y="12846"/>
                  <a:pt x="10666" y="12774"/>
                </a:cubicBezTo>
              </a:path>
              <a:path w="9799" h="2556">
                <a:moveTo>
                  <a:pt x="11013" y="12477"/>
                </a:moveTo>
                <a:cubicBezTo>
                  <a:pt x="11219" y="12408"/>
                  <a:pt x="11246" y="12399"/>
                  <a:pt x="11435" y="12427"/>
                </a:cubicBezTo>
                <a:cubicBezTo>
                  <a:pt x="11487" y="12427"/>
                  <a:pt x="11505" y="12426"/>
                  <a:pt x="11534" y="12402"/>
                </a:cubicBezTo>
              </a:path>
              <a:path w="9799" h="2556">
                <a:moveTo>
                  <a:pt x="11237" y="12526"/>
                </a:moveTo>
                <a:cubicBezTo>
                  <a:pt x="11237" y="12708"/>
                  <a:pt x="11237" y="12850"/>
                  <a:pt x="11261" y="13022"/>
                </a:cubicBezTo>
              </a:path>
              <a:path w="9799" h="2556">
                <a:moveTo>
                  <a:pt x="11410" y="12427"/>
                </a:moveTo>
                <a:cubicBezTo>
                  <a:pt x="11401" y="12529"/>
                  <a:pt x="11385" y="12620"/>
                  <a:pt x="11385" y="12725"/>
                </a:cubicBezTo>
                <a:cubicBezTo>
                  <a:pt x="11385" y="12803"/>
                  <a:pt x="11386" y="12852"/>
                  <a:pt x="11410" y="12923"/>
                </a:cubicBezTo>
              </a:path>
              <a:path w="9799" h="2556">
                <a:moveTo>
                  <a:pt x="11832" y="12328"/>
                </a:moveTo>
                <a:cubicBezTo>
                  <a:pt x="11789" y="12466"/>
                  <a:pt x="11738" y="12591"/>
                  <a:pt x="11683" y="12725"/>
                </a:cubicBezTo>
                <a:cubicBezTo>
                  <a:pt x="11613" y="12896"/>
                  <a:pt x="11579" y="13091"/>
                  <a:pt x="11534" y="13271"/>
                </a:cubicBezTo>
                <a:cubicBezTo>
                  <a:pt x="11497" y="13419"/>
                  <a:pt x="11467" y="13581"/>
                  <a:pt x="11410" y="13717"/>
                </a:cubicBezTo>
                <a:cubicBezTo>
                  <a:pt x="11390" y="13758"/>
                  <a:pt x="11371" y="13774"/>
                  <a:pt x="11410" y="13767"/>
                </a:cubicBezTo>
              </a:path>
              <a:path w="9799" h="2556">
                <a:moveTo>
                  <a:pt x="11658" y="13221"/>
                </a:moveTo>
                <a:cubicBezTo>
                  <a:pt x="11672" y="13342"/>
                  <a:pt x="11726" y="13425"/>
                  <a:pt x="11807" y="13519"/>
                </a:cubicBezTo>
                <a:cubicBezTo>
                  <a:pt x="11872" y="13595"/>
                  <a:pt x="11939" y="13673"/>
                  <a:pt x="12030" y="13618"/>
                </a:cubicBezTo>
              </a:path>
              <a:path w="9799" h="2556">
                <a:moveTo>
                  <a:pt x="12030" y="13022"/>
                </a:moveTo>
                <a:cubicBezTo>
                  <a:pt x="12001" y="13202"/>
                  <a:pt x="11981" y="13360"/>
                  <a:pt x="11981" y="13543"/>
                </a:cubicBezTo>
                <a:cubicBezTo>
                  <a:pt x="11981" y="13704"/>
                  <a:pt x="12015" y="13857"/>
                  <a:pt x="12030" y="14015"/>
                </a:cubicBezTo>
                <a:cubicBezTo>
                  <a:pt x="12037" y="14087"/>
                  <a:pt x="12025" y="14128"/>
                  <a:pt x="12055" y="14188"/>
                </a:cubicBezTo>
              </a:path>
              <a:path w="9799" h="2556">
                <a:moveTo>
                  <a:pt x="12427" y="13295"/>
                </a:moveTo>
                <a:cubicBezTo>
                  <a:pt x="12444" y="13474"/>
                  <a:pt x="12457" y="13621"/>
                  <a:pt x="12502" y="13791"/>
                </a:cubicBezTo>
                <a:cubicBezTo>
                  <a:pt x="12522" y="13874"/>
                  <a:pt x="12530" y="13889"/>
                  <a:pt x="12526" y="13940"/>
                </a:cubicBezTo>
              </a:path>
              <a:path w="9799" h="2556">
                <a:moveTo>
                  <a:pt x="12799" y="12502"/>
                </a:moveTo>
                <a:cubicBezTo>
                  <a:pt x="12938" y="12451"/>
                  <a:pt x="13058" y="12434"/>
                  <a:pt x="13196" y="12402"/>
                </a:cubicBezTo>
              </a:path>
              <a:path w="9799" h="2556">
                <a:moveTo>
                  <a:pt x="12824" y="12353"/>
                </a:moveTo>
                <a:cubicBezTo>
                  <a:pt x="12760" y="12460"/>
                  <a:pt x="12697" y="12509"/>
                  <a:pt x="12824" y="12576"/>
                </a:cubicBezTo>
                <a:cubicBezTo>
                  <a:pt x="12884" y="12608"/>
                  <a:pt x="12956" y="12624"/>
                  <a:pt x="13022" y="12650"/>
                </a:cubicBezTo>
                <a:cubicBezTo>
                  <a:pt x="13098" y="12679"/>
                  <a:pt x="13209" y="12715"/>
                  <a:pt x="13246" y="12799"/>
                </a:cubicBezTo>
                <a:cubicBezTo>
                  <a:pt x="13272" y="12858"/>
                  <a:pt x="13230" y="12974"/>
                  <a:pt x="13196" y="13022"/>
                </a:cubicBezTo>
                <a:cubicBezTo>
                  <a:pt x="13150" y="13087"/>
                  <a:pt x="13098" y="13118"/>
                  <a:pt x="13022" y="13122"/>
                </a:cubicBezTo>
                <a:cubicBezTo>
                  <a:pt x="12939" y="13127"/>
                  <a:pt x="12889" y="13048"/>
                  <a:pt x="12874" y="12973"/>
                </a:cubicBezTo>
                <a:cubicBezTo>
                  <a:pt x="12874" y="12956"/>
                  <a:pt x="12874" y="12940"/>
                  <a:pt x="12874" y="12923"/>
                </a:cubicBezTo>
              </a:path>
              <a:path w="9799" h="2556">
                <a:moveTo>
                  <a:pt x="13320" y="12551"/>
                </a:moveTo>
                <a:cubicBezTo>
                  <a:pt x="13467" y="12556"/>
                  <a:pt x="13597" y="12576"/>
                  <a:pt x="13742" y="12576"/>
                </a:cubicBezTo>
                <a:cubicBezTo>
                  <a:pt x="13758" y="12576"/>
                  <a:pt x="13775" y="12576"/>
                  <a:pt x="13791" y="12576"/>
                </a:cubicBezTo>
              </a:path>
              <a:path w="9799" h="2556">
                <a:moveTo>
                  <a:pt x="13469" y="12601"/>
                </a:moveTo>
                <a:cubicBezTo>
                  <a:pt x="13446" y="12784"/>
                  <a:pt x="13446" y="12839"/>
                  <a:pt x="13469" y="13022"/>
                </a:cubicBezTo>
              </a:path>
              <a:path w="9799" h="2556">
                <a:moveTo>
                  <a:pt x="13692" y="12477"/>
                </a:moveTo>
                <a:cubicBezTo>
                  <a:pt x="13662" y="12634"/>
                  <a:pt x="13674" y="12766"/>
                  <a:pt x="13692" y="12923"/>
                </a:cubicBezTo>
                <a:cubicBezTo>
                  <a:pt x="13692" y="12965"/>
                  <a:pt x="13692" y="12973"/>
                  <a:pt x="13692" y="12998"/>
                </a:cubicBezTo>
              </a:path>
              <a:path w="9799" h="2556">
                <a:moveTo>
                  <a:pt x="14089" y="12378"/>
                </a:moveTo>
                <a:cubicBezTo>
                  <a:pt x="14019" y="12543"/>
                  <a:pt x="13949" y="12704"/>
                  <a:pt x="13891" y="12874"/>
                </a:cubicBezTo>
                <a:cubicBezTo>
                  <a:pt x="13820" y="13083"/>
                  <a:pt x="13723" y="13278"/>
                  <a:pt x="13667" y="13494"/>
                </a:cubicBezTo>
                <a:cubicBezTo>
                  <a:pt x="13638" y="13606"/>
                  <a:pt x="13449" y="13971"/>
                  <a:pt x="13543" y="14064"/>
                </a:cubicBezTo>
                <a:cubicBezTo>
                  <a:pt x="13548" y="14069"/>
                  <a:pt x="13664" y="13968"/>
                  <a:pt x="13667" y="13965"/>
                </a:cubicBezTo>
              </a:path>
              <a:path w="9799" h="2556">
                <a:moveTo>
                  <a:pt x="13965" y="13345"/>
                </a:moveTo>
                <a:cubicBezTo>
                  <a:pt x="13896" y="13447"/>
                  <a:pt x="13930" y="13504"/>
                  <a:pt x="13990" y="13618"/>
                </a:cubicBezTo>
                <a:cubicBezTo>
                  <a:pt x="14058" y="13747"/>
                  <a:pt x="14122" y="13848"/>
                  <a:pt x="14263" y="13816"/>
                </a:cubicBezTo>
              </a:path>
              <a:path w="9799" h="2556">
                <a:moveTo>
                  <a:pt x="14312" y="13146"/>
                </a:moveTo>
                <a:cubicBezTo>
                  <a:pt x="14227" y="13375"/>
                  <a:pt x="14151" y="13568"/>
                  <a:pt x="14163" y="13816"/>
                </a:cubicBezTo>
                <a:cubicBezTo>
                  <a:pt x="14171" y="13980"/>
                  <a:pt x="14157" y="14269"/>
                  <a:pt x="14213" y="14436"/>
                </a:cubicBezTo>
                <a:cubicBezTo>
                  <a:pt x="14243" y="14466"/>
                  <a:pt x="14257" y="14471"/>
                  <a:pt x="14288" y="14436"/>
                </a:cubicBezTo>
              </a:path>
              <a:path w="9799" h="2556">
                <a:moveTo>
                  <a:pt x="14709" y="13395"/>
                </a:moveTo>
                <a:cubicBezTo>
                  <a:pt x="14736" y="13586"/>
                  <a:pt x="14766" y="13776"/>
                  <a:pt x="14808" y="13965"/>
                </a:cubicBezTo>
                <a:cubicBezTo>
                  <a:pt x="14832" y="14060"/>
                  <a:pt x="14837" y="14091"/>
                  <a:pt x="14908" y="14114"/>
                </a:cubicBezTo>
              </a:path>
              <a:path w="9799" h="2556">
                <a:moveTo>
                  <a:pt x="14932" y="12502"/>
                </a:moveTo>
                <a:cubicBezTo>
                  <a:pt x="14995" y="12452"/>
                  <a:pt x="15070" y="12411"/>
                  <a:pt x="15156" y="12427"/>
                </a:cubicBezTo>
                <a:cubicBezTo>
                  <a:pt x="15237" y="12442"/>
                  <a:pt x="15317" y="12468"/>
                  <a:pt x="15404" y="12477"/>
                </a:cubicBezTo>
                <a:cubicBezTo>
                  <a:pt x="15331" y="12564"/>
                  <a:pt x="15314" y="12643"/>
                  <a:pt x="15280" y="12750"/>
                </a:cubicBezTo>
                <a:cubicBezTo>
                  <a:pt x="15241" y="12870"/>
                  <a:pt x="15260" y="12999"/>
                  <a:pt x="15280" y="13122"/>
                </a:cubicBezTo>
                <a:cubicBezTo>
                  <a:pt x="15295" y="13213"/>
                  <a:pt x="15291" y="13282"/>
                  <a:pt x="15354" y="13345"/>
                </a:cubicBezTo>
              </a:path>
              <a:path w="9799" h="2556">
                <a:moveTo>
                  <a:pt x="15652" y="12502"/>
                </a:moveTo>
                <a:cubicBezTo>
                  <a:pt x="15825" y="12477"/>
                  <a:pt x="15866" y="12503"/>
                  <a:pt x="16024" y="12526"/>
                </a:cubicBezTo>
                <a:cubicBezTo>
                  <a:pt x="16097" y="12526"/>
                  <a:pt x="16120" y="12527"/>
                  <a:pt x="16148" y="12477"/>
                </a:cubicBezTo>
              </a:path>
              <a:path w="9799" h="2556">
                <a:moveTo>
                  <a:pt x="15677" y="12675"/>
                </a:moveTo>
                <a:cubicBezTo>
                  <a:pt x="15673" y="12816"/>
                  <a:pt x="15652" y="12938"/>
                  <a:pt x="15652" y="13072"/>
                </a:cubicBezTo>
              </a:path>
              <a:path w="9799" h="2556">
                <a:moveTo>
                  <a:pt x="15900" y="12477"/>
                </a:moveTo>
                <a:cubicBezTo>
                  <a:pt x="15931" y="12681"/>
                  <a:pt x="15956" y="12892"/>
                  <a:pt x="15974" y="13097"/>
                </a:cubicBezTo>
                <a:cubicBezTo>
                  <a:pt x="15982" y="13190"/>
                  <a:pt x="15973" y="13220"/>
                  <a:pt x="16024" y="13295"/>
                </a:cubicBezTo>
              </a:path>
              <a:path w="9799" h="2556">
                <a:moveTo>
                  <a:pt x="16470" y="12402"/>
                </a:moveTo>
                <a:cubicBezTo>
                  <a:pt x="16434" y="12540"/>
                  <a:pt x="16398" y="12694"/>
                  <a:pt x="16346" y="12824"/>
                </a:cubicBezTo>
                <a:cubicBezTo>
                  <a:pt x="16261" y="13038"/>
                  <a:pt x="16179" y="13243"/>
                  <a:pt x="16123" y="13469"/>
                </a:cubicBezTo>
                <a:cubicBezTo>
                  <a:pt x="16075" y="13666"/>
                  <a:pt x="15983" y="13861"/>
                  <a:pt x="15974" y="14064"/>
                </a:cubicBezTo>
                <a:cubicBezTo>
                  <a:pt x="15974" y="14127"/>
                  <a:pt x="15981" y="14133"/>
                  <a:pt x="16024" y="14039"/>
                </a:cubicBezTo>
              </a:path>
              <a:path w="9799" h="2556">
                <a:moveTo>
                  <a:pt x="16371" y="13345"/>
                </a:moveTo>
                <a:cubicBezTo>
                  <a:pt x="16371" y="13633"/>
                  <a:pt x="16366" y="13590"/>
                  <a:pt x="16669" y="13940"/>
                </a:cubicBezTo>
                <a:cubicBezTo>
                  <a:pt x="16725" y="14005"/>
                  <a:pt x="16766" y="13821"/>
                  <a:pt x="16768" y="13816"/>
                </a:cubicBezTo>
              </a:path>
              <a:path w="9799" h="2556">
                <a:moveTo>
                  <a:pt x="16718" y="12948"/>
                </a:moveTo>
                <a:cubicBezTo>
                  <a:pt x="16731" y="13410"/>
                  <a:pt x="16809" y="13874"/>
                  <a:pt x="16743" y="14337"/>
                </a:cubicBezTo>
                <a:cubicBezTo>
                  <a:pt x="16710" y="14453"/>
                  <a:pt x="16677" y="14568"/>
                  <a:pt x="16644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Ink 10"/>
          <p:cNvSpPr/>
          <p:nvPr/>
        </p:nvSpPr>
        <p:spPr>
          <a:xfrm>
            <a:off x="1919160" y="1963800"/>
            <a:ext cx="2938680" cy="73080"/>
          </a:xfrm>
          <a:custGeom>
            <a:avLst/>
            <a:gdLst/>
            <a:ahLst/>
            <a:rect l="l" t="t" r="r" b="b"/>
            <a:pathLst>
              <a:path w="8162" h="199">
                <a:moveTo>
                  <a:pt x="13494" y="5631"/>
                </a:moveTo>
                <a:cubicBezTo>
                  <a:pt x="13398" y="5642"/>
                  <a:pt x="13318" y="5651"/>
                  <a:pt x="13221" y="5655"/>
                </a:cubicBezTo>
                <a:cubicBezTo>
                  <a:pt x="12739" y="5675"/>
                  <a:pt x="12263" y="5631"/>
                  <a:pt x="11782" y="5631"/>
                </a:cubicBezTo>
                <a:cubicBezTo>
                  <a:pt x="11474" y="5631"/>
                  <a:pt x="11170" y="5611"/>
                  <a:pt x="10864" y="5606"/>
                </a:cubicBezTo>
                <a:cubicBezTo>
                  <a:pt x="10581" y="5601"/>
                  <a:pt x="10302" y="5595"/>
                  <a:pt x="10021" y="5581"/>
                </a:cubicBezTo>
                <a:cubicBezTo>
                  <a:pt x="9781" y="5569"/>
                  <a:pt x="9541" y="5578"/>
                  <a:pt x="9302" y="5556"/>
                </a:cubicBezTo>
                <a:cubicBezTo>
                  <a:pt x="8941" y="5523"/>
                  <a:pt x="8573" y="5499"/>
                  <a:pt x="8210" y="5482"/>
                </a:cubicBezTo>
                <a:cubicBezTo>
                  <a:pt x="7971" y="5471"/>
                  <a:pt x="7729" y="5468"/>
                  <a:pt x="7491" y="5457"/>
                </a:cubicBezTo>
                <a:cubicBezTo>
                  <a:pt x="7142" y="5441"/>
                  <a:pt x="6795" y="5470"/>
                  <a:pt x="6449" y="5482"/>
                </a:cubicBezTo>
                <a:cubicBezTo>
                  <a:pt x="6211" y="5490"/>
                  <a:pt x="5989" y="5498"/>
                  <a:pt x="5755" y="5531"/>
                </a:cubicBezTo>
                <a:cubicBezTo>
                  <a:pt x="5655" y="5545"/>
                  <a:pt x="5554" y="5562"/>
                  <a:pt x="5457" y="5581"/>
                </a:cubicBezTo>
                <a:cubicBezTo>
                  <a:pt x="5416" y="5589"/>
                  <a:pt x="5366" y="5599"/>
                  <a:pt x="5333" y="56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4.  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graphicFrame>
        <p:nvGraphicFramePr>
          <p:cNvPr id="316" name="Object 5"/>
          <p:cNvGraphicFramePr/>
          <p:nvPr/>
        </p:nvGraphicFramePr>
        <p:xfrm>
          <a:off x="2133720" y="990720"/>
          <a:ext cx="331452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990720"/>
                    <a:ext cx="33145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5.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 x(Cos x – 1)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20" name="Ink 4"/>
          <p:cNvSpPr/>
          <p:nvPr/>
        </p:nvSpPr>
        <p:spPr>
          <a:xfrm>
            <a:off x="2125800" y="1901880"/>
            <a:ext cx="1446120" cy="268200"/>
          </a:xfrm>
          <a:custGeom>
            <a:avLst/>
            <a:gdLst/>
            <a:ahLst/>
            <a:rect l="l" t="t" r="r" b="b"/>
            <a:pathLst>
              <a:path w="4019" h="746">
                <a:moveTo>
                  <a:pt x="6449" y="5407"/>
                </a:moveTo>
                <a:cubicBezTo>
                  <a:pt x="6449" y="5459"/>
                  <a:pt x="6448" y="5477"/>
                  <a:pt x="6424" y="5507"/>
                </a:cubicBezTo>
                <a:cubicBezTo>
                  <a:pt x="6417" y="5453"/>
                  <a:pt x="6410" y="5401"/>
                  <a:pt x="6375" y="5358"/>
                </a:cubicBezTo>
                <a:cubicBezTo>
                  <a:pt x="6329" y="5301"/>
                  <a:pt x="6296" y="5308"/>
                  <a:pt x="6226" y="5308"/>
                </a:cubicBezTo>
                <a:cubicBezTo>
                  <a:pt x="6117" y="5308"/>
                  <a:pt x="6128" y="5374"/>
                  <a:pt x="6052" y="5432"/>
                </a:cubicBezTo>
                <a:cubicBezTo>
                  <a:pt x="5975" y="5491"/>
                  <a:pt x="5968" y="5550"/>
                  <a:pt x="5928" y="5631"/>
                </a:cubicBezTo>
                <a:cubicBezTo>
                  <a:pt x="5897" y="5694"/>
                  <a:pt x="5890" y="5761"/>
                  <a:pt x="5928" y="5829"/>
                </a:cubicBezTo>
                <a:cubicBezTo>
                  <a:pt x="5979" y="5920"/>
                  <a:pt x="6044" y="5945"/>
                  <a:pt x="6127" y="5978"/>
                </a:cubicBezTo>
                <a:cubicBezTo>
                  <a:pt x="6208" y="6010"/>
                  <a:pt x="6244" y="6006"/>
                  <a:pt x="6325" y="5978"/>
                </a:cubicBezTo>
                <a:cubicBezTo>
                  <a:pt x="6427" y="5942"/>
                  <a:pt x="6472" y="5905"/>
                  <a:pt x="6548" y="5829"/>
                </a:cubicBezTo>
              </a:path>
              <a:path w="4019" h="746">
                <a:moveTo>
                  <a:pt x="6697" y="5407"/>
                </a:moveTo>
                <a:cubicBezTo>
                  <a:pt x="6689" y="5495"/>
                  <a:pt x="6672" y="5564"/>
                  <a:pt x="6672" y="5655"/>
                </a:cubicBezTo>
                <a:cubicBezTo>
                  <a:pt x="6672" y="5730"/>
                  <a:pt x="6656" y="5813"/>
                  <a:pt x="6697" y="5879"/>
                </a:cubicBezTo>
                <a:cubicBezTo>
                  <a:pt x="6729" y="5931"/>
                  <a:pt x="6811" y="5970"/>
                  <a:pt x="6871" y="5953"/>
                </a:cubicBezTo>
                <a:cubicBezTo>
                  <a:pt x="6931" y="5936"/>
                  <a:pt x="6996" y="5860"/>
                  <a:pt x="7020" y="5804"/>
                </a:cubicBezTo>
                <a:cubicBezTo>
                  <a:pt x="7050" y="5736"/>
                  <a:pt x="7090" y="5633"/>
                  <a:pt x="7069" y="5556"/>
                </a:cubicBezTo>
                <a:cubicBezTo>
                  <a:pt x="7052" y="5492"/>
                  <a:pt x="6999" y="5421"/>
                  <a:pt x="6945" y="5383"/>
                </a:cubicBezTo>
                <a:cubicBezTo>
                  <a:pt x="6886" y="5342"/>
                  <a:pt x="6830" y="5335"/>
                  <a:pt x="6772" y="5308"/>
                </a:cubicBezTo>
                <a:cubicBezTo>
                  <a:pt x="6719" y="5283"/>
                  <a:pt x="6690" y="5262"/>
                  <a:pt x="6672" y="5333"/>
                </a:cubicBezTo>
              </a:path>
              <a:path w="4019" h="746">
                <a:moveTo>
                  <a:pt x="7615" y="5308"/>
                </a:moveTo>
                <a:cubicBezTo>
                  <a:pt x="7540" y="5308"/>
                  <a:pt x="7486" y="5321"/>
                  <a:pt x="7417" y="5333"/>
                </a:cubicBezTo>
                <a:cubicBezTo>
                  <a:pt x="7346" y="5345"/>
                  <a:pt x="7320" y="5356"/>
                  <a:pt x="7268" y="5407"/>
                </a:cubicBezTo>
                <a:cubicBezTo>
                  <a:pt x="7260" y="5415"/>
                  <a:pt x="7251" y="5424"/>
                  <a:pt x="7243" y="5432"/>
                </a:cubicBezTo>
                <a:cubicBezTo>
                  <a:pt x="7339" y="5529"/>
                  <a:pt x="7450" y="5567"/>
                  <a:pt x="7565" y="5655"/>
                </a:cubicBezTo>
                <a:cubicBezTo>
                  <a:pt x="7611" y="5691"/>
                  <a:pt x="7751" y="5814"/>
                  <a:pt x="7665" y="5879"/>
                </a:cubicBezTo>
                <a:cubicBezTo>
                  <a:pt x="7631" y="5905"/>
                  <a:pt x="7484" y="5914"/>
                  <a:pt x="7441" y="5904"/>
                </a:cubicBezTo>
                <a:cubicBezTo>
                  <a:pt x="7420" y="5899"/>
                  <a:pt x="7268" y="5877"/>
                  <a:pt x="7268" y="5854"/>
                </a:cubicBezTo>
                <a:cubicBezTo>
                  <a:pt x="7290" y="5810"/>
                  <a:pt x="7293" y="5799"/>
                  <a:pt x="7317" y="5779"/>
                </a:cubicBezTo>
              </a:path>
              <a:path w="4019" h="746">
                <a:moveTo>
                  <a:pt x="7938" y="5407"/>
                </a:moveTo>
                <a:cubicBezTo>
                  <a:pt x="7958" y="5512"/>
                  <a:pt x="7974" y="5584"/>
                  <a:pt x="8012" y="5680"/>
                </a:cubicBezTo>
                <a:cubicBezTo>
                  <a:pt x="8052" y="5783"/>
                  <a:pt x="8108" y="5874"/>
                  <a:pt x="8210" y="5928"/>
                </a:cubicBezTo>
                <a:cubicBezTo>
                  <a:pt x="8284" y="5967"/>
                  <a:pt x="8395" y="6041"/>
                  <a:pt x="8458" y="5953"/>
                </a:cubicBezTo>
                <a:cubicBezTo>
                  <a:pt x="8466" y="5937"/>
                  <a:pt x="8475" y="5920"/>
                  <a:pt x="8483" y="5904"/>
                </a:cubicBezTo>
              </a:path>
              <a:path w="4019" h="746">
                <a:moveTo>
                  <a:pt x="8310" y="5333"/>
                </a:moveTo>
                <a:cubicBezTo>
                  <a:pt x="8230" y="5389"/>
                  <a:pt x="8210" y="5447"/>
                  <a:pt x="8161" y="5531"/>
                </a:cubicBezTo>
                <a:cubicBezTo>
                  <a:pt x="8110" y="5619"/>
                  <a:pt x="8049" y="5724"/>
                  <a:pt x="7987" y="5804"/>
                </a:cubicBezTo>
                <a:cubicBezTo>
                  <a:pt x="7939" y="5865"/>
                  <a:pt x="7894" y="5923"/>
                  <a:pt x="7838" y="5978"/>
                </a:cubicBezTo>
                <a:cubicBezTo>
                  <a:pt x="7815" y="6001"/>
                  <a:pt x="7807" y="6012"/>
                  <a:pt x="7813" y="5978"/>
                </a:cubicBezTo>
              </a:path>
              <a:path w="4019" h="746">
                <a:moveTo>
                  <a:pt x="8607" y="5556"/>
                </a:moveTo>
                <a:cubicBezTo>
                  <a:pt x="8706" y="5550"/>
                  <a:pt x="8783" y="5531"/>
                  <a:pt x="8880" y="5531"/>
                </a:cubicBezTo>
                <a:cubicBezTo>
                  <a:pt x="8905" y="5531"/>
                  <a:pt x="8929" y="5531"/>
                  <a:pt x="8954" y="5531"/>
                </a:cubicBezTo>
              </a:path>
              <a:path w="4019" h="746">
                <a:moveTo>
                  <a:pt x="8607" y="5779"/>
                </a:moveTo>
                <a:cubicBezTo>
                  <a:pt x="8741" y="5760"/>
                  <a:pt x="8852" y="5748"/>
                  <a:pt x="8979" y="5705"/>
                </a:cubicBezTo>
              </a:path>
              <a:path w="4019" h="746">
                <a:moveTo>
                  <a:pt x="9550" y="5308"/>
                </a:moveTo>
                <a:cubicBezTo>
                  <a:pt x="9513" y="5373"/>
                  <a:pt x="9467" y="5450"/>
                  <a:pt x="9426" y="5507"/>
                </a:cubicBezTo>
                <a:cubicBezTo>
                  <a:pt x="9379" y="5573"/>
                  <a:pt x="9320" y="5665"/>
                  <a:pt x="9327" y="5755"/>
                </a:cubicBezTo>
                <a:cubicBezTo>
                  <a:pt x="9334" y="5852"/>
                  <a:pt x="9376" y="5967"/>
                  <a:pt x="9475" y="6003"/>
                </a:cubicBezTo>
                <a:cubicBezTo>
                  <a:pt x="9543" y="6028"/>
                  <a:pt x="9630" y="6025"/>
                  <a:pt x="9699" y="6003"/>
                </a:cubicBezTo>
                <a:cubicBezTo>
                  <a:pt x="9758" y="5984"/>
                  <a:pt x="9876" y="5915"/>
                  <a:pt x="9897" y="5854"/>
                </a:cubicBezTo>
                <a:cubicBezTo>
                  <a:pt x="9917" y="5798"/>
                  <a:pt x="9936" y="5670"/>
                  <a:pt x="9922" y="5606"/>
                </a:cubicBezTo>
                <a:cubicBezTo>
                  <a:pt x="9904" y="5522"/>
                  <a:pt x="9897" y="5439"/>
                  <a:pt x="9823" y="5383"/>
                </a:cubicBezTo>
                <a:cubicBezTo>
                  <a:pt x="9779" y="5349"/>
                  <a:pt x="9671" y="5295"/>
                  <a:pt x="9624" y="5283"/>
                </a:cubicBezTo>
                <a:cubicBezTo>
                  <a:pt x="9580" y="5283"/>
                  <a:pt x="9566" y="5280"/>
                  <a:pt x="9550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Ink 5"/>
          <p:cNvSpPr/>
          <p:nvPr/>
        </p:nvSpPr>
        <p:spPr>
          <a:xfrm>
            <a:off x="3919680" y="1973160"/>
            <a:ext cx="23328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1162" y="5606"/>
                </a:moveTo>
                <a:cubicBezTo>
                  <a:pt x="11069" y="5606"/>
                  <a:pt x="11056" y="5622"/>
                  <a:pt x="10988" y="5680"/>
                </a:cubicBezTo>
                <a:cubicBezTo>
                  <a:pt x="10926" y="5733"/>
                  <a:pt x="10893" y="5774"/>
                  <a:pt x="10889" y="5854"/>
                </a:cubicBezTo>
                <a:cubicBezTo>
                  <a:pt x="10885" y="5921"/>
                  <a:pt x="10928" y="5953"/>
                  <a:pt x="10988" y="5978"/>
                </a:cubicBezTo>
                <a:cubicBezTo>
                  <a:pt x="11081" y="6016"/>
                  <a:pt x="11155" y="5989"/>
                  <a:pt x="11212" y="5904"/>
                </a:cubicBezTo>
                <a:cubicBezTo>
                  <a:pt x="11254" y="5841"/>
                  <a:pt x="11237" y="5752"/>
                  <a:pt x="11237" y="5680"/>
                </a:cubicBezTo>
                <a:cubicBezTo>
                  <a:pt x="11237" y="5599"/>
                  <a:pt x="11208" y="5506"/>
                  <a:pt x="11311" y="5482"/>
                </a:cubicBezTo>
                <a:cubicBezTo>
                  <a:pt x="11361" y="5470"/>
                  <a:pt x="11409" y="5516"/>
                  <a:pt x="11435" y="5556"/>
                </a:cubicBezTo>
                <a:cubicBezTo>
                  <a:pt x="11470" y="5610"/>
                  <a:pt x="11507" y="5669"/>
                  <a:pt x="11509" y="5730"/>
                </a:cubicBezTo>
                <a:cubicBezTo>
                  <a:pt x="11512" y="5808"/>
                  <a:pt x="11424" y="5905"/>
                  <a:pt x="11485" y="5953"/>
                </a:cubicBezTo>
                <a:cubicBezTo>
                  <a:pt x="11501" y="5953"/>
                  <a:pt x="11518" y="5953"/>
                  <a:pt x="11534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Ink 6"/>
          <p:cNvSpPr/>
          <p:nvPr/>
        </p:nvSpPr>
        <p:spPr>
          <a:xfrm>
            <a:off x="4429080" y="1866960"/>
            <a:ext cx="1955880" cy="384120"/>
          </a:xfrm>
          <a:custGeom>
            <a:avLst/>
            <a:gdLst/>
            <a:ahLst/>
            <a:rect l="l" t="t" r="r" b="b"/>
            <a:pathLst>
              <a:path w="5433" h="1068">
                <a:moveTo>
                  <a:pt x="12700" y="5507"/>
                </a:moveTo>
                <a:cubicBezTo>
                  <a:pt x="12731" y="5456"/>
                  <a:pt x="12723" y="5368"/>
                  <a:pt x="12700" y="5308"/>
                </a:cubicBezTo>
                <a:cubicBezTo>
                  <a:pt x="12677" y="5246"/>
                  <a:pt x="12581" y="5292"/>
                  <a:pt x="12551" y="5308"/>
                </a:cubicBezTo>
                <a:cubicBezTo>
                  <a:pt x="12490" y="5341"/>
                  <a:pt x="12389" y="5443"/>
                  <a:pt x="12353" y="5507"/>
                </a:cubicBezTo>
                <a:cubicBezTo>
                  <a:pt x="12310" y="5584"/>
                  <a:pt x="12291" y="5750"/>
                  <a:pt x="12303" y="5829"/>
                </a:cubicBezTo>
                <a:cubicBezTo>
                  <a:pt x="12317" y="5921"/>
                  <a:pt x="12331" y="5977"/>
                  <a:pt x="12427" y="6003"/>
                </a:cubicBezTo>
                <a:cubicBezTo>
                  <a:pt x="12568" y="6042"/>
                  <a:pt x="12645" y="6025"/>
                  <a:pt x="12774" y="5978"/>
                </a:cubicBezTo>
              </a:path>
              <a:path w="5433" h="1068">
                <a:moveTo>
                  <a:pt x="13122" y="5507"/>
                </a:moveTo>
                <a:cubicBezTo>
                  <a:pt x="13074" y="5612"/>
                  <a:pt x="13006" y="5731"/>
                  <a:pt x="13022" y="5854"/>
                </a:cubicBezTo>
                <a:cubicBezTo>
                  <a:pt x="13041" y="6006"/>
                  <a:pt x="13115" y="6003"/>
                  <a:pt x="13246" y="6003"/>
                </a:cubicBezTo>
                <a:cubicBezTo>
                  <a:pt x="13340" y="6003"/>
                  <a:pt x="13380" y="5932"/>
                  <a:pt x="13419" y="5854"/>
                </a:cubicBezTo>
                <a:cubicBezTo>
                  <a:pt x="13462" y="5768"/>
                  <a:pt x="13454" y="5665"/>
                  <a:pt x="13419" y="5581"/>
                </a:cubicBezTo>
                <a:cubicBezTo>
                  <a:pt x="13394" y="5521"/>
                  <a:pt x="13209" y="5503"/>
                  <a:pt x="13271" y="5482"/>
                </a:cubicBezTo>
                <a:cubicBezTo>
                  <a:pt x="13287" y="5482"/>
                  <a:pt x="13304" y="5482"/>
                  <a:pt x="13320" y="5482"/>
                </a:cubicBezTo>
              </a:path>
              <a:path w="5433" h="1068">
                <a:moveTo>
                  <a:pt x="13915" y="5432"/>
                </a:moveTo>
                <a:cubicBezTo>
                  <a:pt x="13834" y="5454"/>
                  <a:pt x="13733" y="5467"/>
                  <a:pt x="13667" y="5507"/>
                </a:cubicBezTo>
                <a:cubicBezTo>
                  <a:pt x="13718" y="5608"/>
                  <a:pt x="13770" y="5641"/>
                  <a:pt x="13866" y="5705"/>
                </a:cubicBezTo>
                <a:cubicBezTo>
                  <a:pt x="13942" y="5756"/>
                  <a:pt x="14070" y="5842"/>
                  <a:pt x="14064" y="5953"/>
                </a:cubicBezTo>
                <a:cubicBezTo>
                  <a:pt x="14059" y="6058"/>
                  <a:pt x="13888" y="6075"/>
                  <a:pt x="13816" y="6052"/>
                </a:cubicBezTo>
                <a:cubicBezTo>
                  <a:pt x="13735" y="6026"/>
                  <a:pt x="13727" y="6008"/>
                  <a:pt x="13767" y="5928"/>
                </a:cubicBezTo>
              </a:path>
              <a:path w="5433" h="1068">
                <a:moveTo>
                  <a:pt x="14312" y="5507"/>
                </a:moveTo>
                <a:cubicBezTo>
                  <a:pt x="14352" y="5620"/>
                  <a:pt x="14386" y="5757"/>
                  <a:pt x="14461" y="5854"/>
                </a:cubicBezTo>
                <a:cubicBezTo>
                  <a:pt x="14512" y="5921"/>
                  <a:pt x="14597" y="6009"/>
                  <a:pt x="14684" y="6028"/>
                </a:cubicBezTo>
                <a:cubicBezTo>
                  <a:pt x="14779" y="6049"/>
                  <a:pt x="14769" y="6025"/>
                  <a:pt x="14808" y="5953"/>
                </a:cubicBezTo>
              </a:path>
              <a:path w="5433" h="1068">
                <a:moveTo>
                  <a:pt x="14635" y="5457"/>
                </a:moveTo>
                <a:cubicBezTo>
                  <a:pt x="14501" y="5629"/>
                  <a:pt x="14365" y="5800"/>
                  <a:pt x="14238" y="5978"/>
                </a:cubicBezTo>
                <a:cubicBezTo>
                  <a:pt x="14206" y="6022"/>
                  <a:pt x="14136" y="6088"/>
                  <a:pt x="14163" y="6102"/>
                </a:cubicBezTo>
              </a:path>
              <a:path w="5433" h="1068">
                <a:moveTo>
                  <a:pt x="14709" y="5730"/>
                </a:moveTo>
                <a:cubicBezTo>
                  <a:pt x="14860" y="5724"/>
                  <a:pt x="15006" y="5721"/>
                  <a:pt x="15156" y="5705"/>
                </a:cubicBezTo>
                <a:cubicBezTo>
                  <a:pt x="15214" y="5697"/>
                  <a:pt x="15271" y="5688"/>
                  <a:pt x="15329" y="5680"/>
                </a:cubicBezTo>
              </a:path>
              <a:path w="5433" h="1068">
                <a:moveTo>
                  <a:pt x="15751" y="5184"/>
                </a:moveTo>
                <a:cubicBezTo>
                  <a:pt x="15729" y="5323"/>
                  <a:pt x="15692" y="5466"/>
                  <a:pt x="15677" y="5606"/>
                </a:cubicBezTo>
                <a:cubicBezTo>
                  <a:pt x="15669" y="5683"/>
                  <a:pt x="15633" y="6051"/>
                  <a:pt x="15701" y="6102"/>
                </a:cubicBezTo>
                <a:cubicBezTo>
                  <a:pt x="15709" y="6102"/>
                  <a:pt x="15718" y="6102"/>
                  <a:pt x="15726" y="6102"/>
                </a:cubicBezTo>
              </a:path>
              <a:path w="5433" h="1068">
                <a:moveTo>
                  <a:pt x="16049" y="5730"/>
                </a:moveTo>
                <a:cubicBezTo>
                  <a:pt x="16230" y="5675"/>
                  <a:pt x="16243" y="5650"/>
                  <a:pt x="16346" y="5655"/>
                </a:cubicBezTo>
              </a:path>
              <a:path w="5433" h="1068">
                <a:moveTo>
                  <a:pt x="16049" y="5904"/>
                </a:moveTo>
                <a:cubicBezTo>
                  <a:pt x="16145" y="5929"/>
                  <a:pt x="16223" y="5926"/>
                  <a:pt x="16321" y="5904"/>
                </a:cubicBezTo>
                <a:cubicBezTo>
                  <a:pt x="16396" y="5879"/>
                  <a:pt x="16420" y="5871"/>
                  <a:pt x="16470" y="5854"/>
                </a:cubicBezTo>
              </a:path>
              <a:path w="5433" h="1068">
                <a:moveTo>
                  <a:pt x="17066" y="5333"/>
                </a:moveTo>
                <a:cubicBezTo>
                  <a:pt x="16998" y="5438"/>
                  <a:pt x="16935" y="5493"/>
                  <a:pt x="16892" y="5606"/>
                </a:cubicBezTo>
                <a:cubicBezTo>
                  <a:pt x="16844" y="5732"/>
                  <a:pt x="16820" y="5867"/>
                  <a:pt x="16842" y="6003"/>
                </a:cubicBezTo>
                <a:cubicBezTo>
                  <a:pt x="16858" y="6102"/>
                  <a:pt x="16939" y="6140"/>
                  <a:pt x="17016" y="6176"/>
                </a:cubicBezTo>
                <a:cubicBezTo>
                  <a:pt x="17124" y="6227"/>
                  <a:pt x="17179" y="6233"/>
                  <a:pt x="17289" y="6226"/>
                </a:cubicBezTo>
                <a:cubicBezTo>
                  <a:pt x="17423" y="6218"/>
                  <a:pt x="17495" y="6186"/>
                  <a:pt x="17587" y="6077"/>
                </a:cubicBezTo>
                <a:cubicBezTo>
                  <a:pt x="17635" y="6020"/>
                  <a:pt x="17745" y="5828"/>
                  <a:pt x="17735" y="5755"/>
                </a:cubicBezTo>
                <a:cubicBezTo>
                  <a:pt x="17721" y="5645"/>
                  <a:pt x="17649" y="5525"/>
                  <a:pt x="17562" y="5457"/>
                </a:cubicBezTo>
                <a:cubicBezTo>
                  <a:pt x="17487" y="5398"/>
                  <a:pt x="17412" y="5327"/>
                  <a:pt x="17314" y="5308"/>
                </a:cubicBezTo>
                <a:cubicBezTo>
                  <a:pt x="17269" y="5308"/>
                  <a:pt x="17256" y="5311"/>
                  <a:pt x="17239" y="52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Ink 7"/>
          <p:cNvSpPr/>
          <p:nvPr/>
        </p:nvSpPr>
        <p:spPr>
          <a:xfrm>
            <a:off x="5224320" y="2411280"/>
            <a:ext cx="347760" cy="250920"/>
          </a:xfrm>
          <a:custGeom>
            <a:avLst/>
            <a:gdLst/>
            <a:ahLst/>
            <a:rect l="l" t="t" r="r" b="b"/>
            <a:pathLst>
              <a:path w="968" h="696">
                <a:moveTo>
                  <a:pt x="14784" y="6697"/>
                </a:moveTo>
                <a:cubicBezTo>
                  <a:pt x="14784" y="6847"/>
                  <a:pt x="14750" y="7031"/>
                  <a:pt x="14808" y="7169"/>
                </a:cubicBezTo>
                <a:cubicBezTo>
                  <a:pt x="14830" y="7222"/>
                  <a:pt x="14838" y="7263"/>
                  <a:pt x="14858" y="7317"/>
                </a:cubicBezTo>
              </a:path>
              <a:path w="968" h="696">
                <a:moveTo>
                  <a:pt x="14511" y="6995"/>
                </a:moveTo>
                <a:cubicBezTo>
                  <a:pt x="14708" y="7015"/>
                  <a:pt x="14842" y="7011"/>
                  <a:pt x="15032" y="6995"/>
                </a:cubicBezTo>
                <a:cubicBezTo>
                  <a:pt x="15065" y="6995"/>
                  <a:pt x="15098" y="6995"/>
                  <a:pt x="15131" y="6995"/>
                </a:cubicBezTo>
              </a:path>
              <a:path w="968" h="696">
                <a:moveTo>
                  <a:pt x="15478" y="6722"/>
                </a:moveTo>
                <a:cubicBezTo>
                  <a:pt x="15472" y="6876"/>
                  <a:pt x="15434" y="7017"/>
                  <a:pt x="15429" y="7169"/>
                </a:cubicBezTo>
                <a:cubicBezTo>
                  <a:pt x="15425" y="7271"/>
                  <a:pt x="15444" y="7290"/>
                  <a:pt x="15478" y="7367"/>
                </a:cubicBezTo>
                <a:cubicBezTo>
                  <a:pt x="15478" y="7375"/>
                  <a:pt x="15478" y="7384"/>
                  <a:pt x="15478" y="73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Ink 8"/>
          <p:cNvSpPr/>
          <p:nvPr/>
        </p:nvSpPr>
        <p:spPr>
          <a:xfrm>
            <a:off x="5875200" y="2482920"/>
            <a:ext cx="169920" cy="20484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16495" y="6896"/>
                </a:moveTo>
                <a:cubicBezTo>
                  <a:pt x="16495" y="7031"/>
                  <a:pt x="16451" y="7272"/>
                  <a:pt x="16520" y="7392"/>
                </a:cubicBezTo>
                <a:cubicBezTo>
                  <a:pt x="16535" y="7418"/>
                  <a:pt x="16573" y="7444"/>
                  <a:pt x="16594" y="7466"/>
                </a:cubicBezTo>
              </a:path>
              <a:path w="473" h="571">
                <a:moveTo>
                  <a:pt x="16321" y="7144"/>
                </a:moveTo>
                <a:cubicBezTo>
                  <a:pt x="16478" y="7144"/>
                  <a:pt x="16636" y="7144"/>
                  <a:pt x="16793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Ink 9"/>
          <p:cNvSpPr/>
          <p:nvPr/>
        </p:nvSpPr>
        <p:spPr>
          <a:xfrm>
            <a:off x="6197760" y="2438280"/>
            <a:ext cx="27000" cy="285840"/>
          </a:xfrm>
          <a:custGeom>
            <a:avLst/>
            <a:gdLst/>
            <a:ahLst/>
            <a:rect l="l" t="t" r="r" b="b"/>
            <a:pathLst>
              <a:path w="76" h="794">
                <a:moveTo>
                  <a:pt x="17289" y="6772"/>
                </a:moveTo>
                <a:cubicBezTo>
                  <a:pt x="17268" y="6916"/>
                  <a:pt x="17195" y="7121"/>
                  <a:pt x="17214" y="7268"/>
                </a:cubicBezTo>
                <a:cubicBezTo>
                  <a:pt x="17228" y="7375"/>
                  <a:pt x="17262" y="7465"/>
                  <a:pt x="17239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Ink 10"/>
          <p:cNvSpPr/>
          <p:nvPr/>
        </p:nvSpPr>
        <p:spPr>
          <a:xfrm>
            <a:off x="1724040" y="2357280"/>
            <a:ext cx="2071800" cy="830520"/>
          </a:xfrm>
          <a:custGeom>
            <a:avLst/>
            <a:gdLst/>
            <a:ahLst/>
            <a:rect l="l" t="t" r="r" b="b"/>
            <a:pathLst>
              <a:path w="5756" h="2308">
                <a:moveTo>
                  <a:pt x="5531" y="7045"/>
                </a:moveTo>
                <a:cubicBezTo>
                  <a:pt x="5522" y="6994"/>
                  <a:pt x="5562" y="6928"/>
                  <a:pt x="5631" y="6896"/>
                </a:cubicBezTo>
                <a:cubicBezTo>
                  <a:pt x="5740" y="6846"/>
                  <a:pt x="5835" y="6821"/>
                  <a:pt x="5953" y="6821"/>
                </a:cubicBezTo>
                <a:cubicBezTo>
                  <a:pt x="6056" y="6821"/>
                  <a:pt x="6131" y="6863"/>
                  <a:pt x="6226" y="6896"/>
                </a:cubicBezTo>
                <a:cubicBezTo>
                  <a:pt x="6303" y="6923"/>
                  <a:pt x="6375" y="6942"/>
                  <a:pt x="6449" y="6970"/>
                </a:cubicBezTo>
              </a:path>
              <a:path w="5756" h="2308">
                <a:moveTo>
                  <a:pt x="5879" y="7119"/>
                </a:moveTo>
                <a:cubicBezTo>
                  <a:pt x="5877" y="7148"/>
                  <a:pt x="5806" y="7467"/>
                  <a:pt x="5953" y="7466"/>
                </a:cubicBezTo>
                <a:cubicBezTo>
                  <a:pt x="5953" y="7458"/>
                  <a:pt x="5953" y="7449"/>
                  <a:pt x="5953" y="7441"/>
                </a:cubicBezTo>
              </a:path>
              <a:path w="5756" h="2308">
                <a:moveTo>
                  <a:pt x="6102" y="6896"/>
                </a:moveTo>
                <a:cubicBezTo>
                  <a:pt x="6094" y="6988"/>
                  <a:pt x="6061" y="7080"/>
                  <a:pt x="6052" y="7169"/>
                </a:cubicBezTo>
                <a:cubicBezTo>
                  <a:pt x="6043" y="7257"/>
                  <a:pt x="6006" y="7360"/>
                  <a:pt x="6052" y="7441"/>
                </a:cubicBezTo>
                <a:cubicBezTo>
                  <a:pt x="6060" y="7449"/>
                  <a:pt x="6069" y="7458"/>
                  <a:pt x="6077" y="7466"/>
                </a:cubicBezTo>
              </a:path>
              <a:path w="5756" h="2308">
                <a:moveTo>
                  <a:pt x="6548" y="6846"/>
                </a:moveTo>
                <a:cubicBezTo>
                  <a:pt x="6474" y="7111"/>
                  <a:pt x="6391" y="7374"/>
                  <a:pt x="6325" y="7640"/>
                </a:cubicBezTo>
                <a:cubicBezTo>
                  <a:pt x="6287" y="7796"/>
                  <a:pt x="6259" y="7957"/>
                  <a:pt x="6226" y="8111"/>
                </a:cubicBezTo>
                <a:cubicBezTo>
                  <a:pt x="6213" y="8173"/>
                  <a:pt x="6198" y="8227"/>
                  <a:pt x="6176" y="8285"/>
                </a:cubicBezTo>
              </a:path>
              <a:path w="5756" h="2308">
                <a:moveTo>
                  <a:pt x="6474" y="7665"/>
                </a:moveTo>
                <a:cubicBezTo>
                  <a:pt x="6534" y="7626"/>
                  <a:pt x="6677" y="7497"/>
                  <a:pt x="6722" y="7640"/>
                </a:cubicBezTo>
                <a:cubicBezTo>
                  <a:pt x="6743" y="7706"/>
                  <a:pt x="6722" y="7805"/>
                  <a:pt x="6697" y="7863"/>
                </a:cubicBezTo>
                <a:cubicBezTo>
                  <a:pt x="6666" y="7936"/>
                  <a:pt x="6593" y="7989"/>
                  <a:pt x="6573" y="8062"/>
                </a:cubicBezTo>
                <a:cubicBezTo>
                  <a:pt x="6542" y="8174"/>
                  <a:pt x="6673" y="8139"/>
                  <a:pt x="6722" y="8136"/>
                </a:cubicBezTo>
                <a:cubicBezTo>
                  <a:pt x="6827" y="8129"/>
                  <a:pt x="6873" y="8102"/>
                  <a:pt x="6970" y="8062"/>
                </a:cubicBezTo>
              </a:path>
              <a:path w="5756" h="2308">
                <a:moveTo>
                  <a:pt x="7392" y="7689"/>
                </a:moveTo>
                <a:cubicBezTo>
                  <a:pt x="7322" y="7856"/>
                  <a:pt x="7293" y="7887"/>
                  <a:pt x="7317" y="8037"/>
                </a:cubicBezTo>
                <a:cubicBezTo>
                  <a:pt x="7317" y="8053"/>
                  <a:pt x="7317" y="8070"/>
                  <a:pt x="7317" y="8086"/>
                </a:cubicBezTo>
              </a:path>
              <a:path w="5756" h="2308">
                <a:moveTo>
                  <a:pt x="7714" y="6970"/>
                </a:moveTo>
                <a:cubicBezTo>
                  <a:pt x="7794" y="6936"/>
                  <a:pt x="7878" y="6884"/>
                  <a:pt x="7962" y="6945"/>
                </a:cubicBezTo>
                <a:cubicBezTo>
                  <a:pt x="8085" y="7033"/>
                  <a:pt x="7953" y="7074"/>
                  <a:pt x="7888" y="7119"/>
                </a:cubicBezTo>
                <a:cubicBezTo>
                  <a:pt x="7861" y="7138"/>
                  <a:pt x="7837" y="7170"/>
                  <a:pt x="7813" y="7193"/>
                </a:cubicBezTo>
                <a:cubicBezTo>
                  <a:pt x="7856" y="7294"/>
                  <a:pt x="7912" y="7244"/>
                  <a:pt x="8012" y="7293"/>
                </a:cubicBezTo>
                <a:cubicBezTo>
                  <a:pt x="8114" y="7343"/>
                  <a:pt x="8031" y="7440"/>
                  <a:pt x="7987" y="7491"/>
                </a:cubicBezTo>
                <a:cubicBezTo>
                  <a:pt x="7930" y="7557"/>
                  <a:pt x="7836" y="7552"/>
                  <a:pt x="7764" y="7516"/>
                </a:cubicBezTo>
                <a:cubicBezTo>
                  <a:pt x="7741" y="7493"/>
                  <a:pt x="7733" y="7489"/>
                  <a:pt x="7739" y="7466"/>
                </a:cubicBezTo>
              </a:path>
              <a:path w="5756" h="2308">
                <a:moveTo>
                  <a:pt x="8359" y="7020"/>
                </a:moveTo>
                <a:cubicBezTo>
                  <a:pt x="8475" y="7020"/>
                  <a:pt x="8590" y="7020"/>
                  <a:pt x="8706" y="7020"/>
                </a:cubicBezTo>
              </a:path>
              <a:path w="5756" h="2308">
                <a:moveTo>
                  <a:pt x="8434" y="7069"/>
                </a:moveTo>
                <a:cubicBezTo>
                  <a:pt x="8429" y="7090"/>
                  <a:pt x="8226" y="7495"/>
                  <a:pt x="8409" y="7541"/>
                </a:cubicBezTo>
              </a:path>
              <a:path w="5756" h="2308">
                <a:moveTo>
                  <a:pt x="8582" y="7069"/>
                </a:moveTo>
                <a:cubicBezTo>
                  <a:pt x="8570" y="7168"/>
                  <a:pt x="8496" y="7436"/>
                  <a:pt x="8533" y="7541"/>
                </a:cubicBezTo>
                <a:cubicBezTo>
                  <a:pt x="8541" y="7557"/>
                  <a:pt x="8550" y="7574"/>
                  <a:pt x="8558" y="7590"/>
                </a:cubicBezTo>
              </a:path>
              <a:path w="5756" h="2308">
                <a:moveTo>
                  <a:pt x="8979" y="6945"/>
                </a:moveTo>
                <a:cubicBezTo>
                  <a:pt x="8891" y="7203"/>
                  <a:pt x="8813" y="7456"/>
                  <a:pt x="8731" y="7714"/>
                </a:cubicBezTo>
                <a:cubicBezTo>
                  <a:pt x="8678" y="7881"/>
                  <a:pt x="8607" y="8061"/>
                  <a:pt x="8582" y="8235"/>
                </a:cubicBezTo>
                <a:cubicBezTo>
                  <a:pt x="8572" y="8304"/>
                  <a:pt x="8526" y="8428"/>
                  <a:pt x="8582" y="8409"/>
                </a:cubicBezTo>
              </a:path>
              <a:path w="5756" h="2308">
                <a:moveTo>
                  <a:pt x="8954" y="7764"/>
                </a:moveTo>
                <a:cubicBezTo>
                  <a:pt x="9030" y="7738"/>
                  <a:pt x="9341" y="7571"/>
                  <a:pt x="9302" y="7813"/>
                </a:cubicBezTo>
                <a:cubicBezTo>
                  <a:pt x="9286" y="7911"/>
                  <a:pt x="9219" y="7993"/>
                  <a:pt x="9153" y="8062"/>
                </a:cubicBezTo>
                <a:cubicBezTo>
                  <a:pt x="9100" y="8118"/>
                  <a:pt x="9025" y="8150"/>
                  <a:pt x="8979" y="8210"/>
                </a:cubicBezTo>
                <a:cubicBezTo>
                  <a:pt x="8921" y="8285"/>
                  <a:pt x="8963" y="8381"/>
                  <a:pt x="9029" y="8434"/>
                </a:cubicBezTo>
                <a:cubicBezTo>
                  <a:pt x="9123" y="8510"/>
                  <a:pt x="9212" y="8525"/>
                  <a:pt x="9327" y="8533"/>
                </a:cubicBezTo>
              </a:path>
              <a:path w="5756" h="2308">
                <a:moveTo>
                  <a:pt x="9674" y="8310"/>
                </a:moveTo>
                <a:cubicBezTo>
                  <a:pt x="9674" y="8431"/>
                  <a:pt x="9647" y="8519"/>
                  <a:pt x="9624" y="8632"/>
                </a:cubicBezTo>
                <a:cubicBezTo>
                  <a:pt x="9624" y="8673"/>
                  <a:pt x="9624" y="8681"/>
                  <a:pt x="9624" y="8706"/>
                </a:cubicBezTo>
              </a:path>
              <a:path w="5756" h="2308">
                <a:moveTo>
                  <a:pt x="10021" y="7541"/>
                </a:moveTo>
                <a:cubicBezTo>
                  <a:pt x="9961" y="7650"/>
                  <a:pt x="9923" y="7725"/>
                  <a:pt x="9897" y="7838"/>
                </a:cubicBezTo>
                <a:cubicBezTo>
                  <a:pt x="9870" y="7956"/>
                  <a:pt x="9880" y="7978"/>
                  <a:pt x="9922" y="8086"/>
                </a:cubicBezTo>
                <a:cubicBezTo>
                  <a:pt x="9968" y="8203"/>
                  <a:pt x="10068" y="8266"/>
                  <a:pt x="10195" y="8285"/>
                </a:cubicBezTo>
                <a:cubicBezTo>
                  <a:pt x="10257" y="8294"/>
                  <a:pt x="10401" y="8292"/>
                  <a:pt x="10443" y="8235"/>
                </a:cubicBezTo>
                <a:cubicBezTo>
                  <a:pt x="10490" y="8172"/>
                  <a:pt x="10533" y="8012"/>
                  <a:pt x="10542" y="7938"/>
                </a:cubicBezTo>
                <a:cubicBezTo>
                  <a:pt x="10565" y="7734"/>
                  <a:pt x="10453" y="7530"/>
                  <a:pt x="10319" y="7392"/>
                </a:cubicBezTo>
                <a:cubicBezTo>
                  <a:pt x="10194" y="7264"/>
                  <a:pt x="10007" y="7293"/>
                  <a:pt x="9847" y="7293"/>
                </a:cubicBezTo>
                <a:cubicBezTo>
                  <a:pt x="9730" y="7293"/>
                  <a:pt x="9696" y="7291"/>
                  <a:pt x="9624" y="7317"/>
                </a:cubicBezTo>
              </a:path>
              <a:path w="5756" h="2308">
                <a:moveTo>
                  <a:pt x="4961" y="6548"/>
                </a:moveTo>
                <a:cubicBezTo>
                  <a:pt x="4875" y="6785"/>
                  <a:pt x="4816" y="6966"/>
                  <a:pt x="4812" y="7218"/>
                </a:cubicBezTo>
                <a:cubicBezTo>
                  <a:pt x="4807" y="7514"/>
                  <a:pt x="4851" y="7818"/>
                  <a:pt x="4887" y="8111"/>
                </a:cubicBezTo>
                <a:cubicBezTo>
                  <a:pt x="4914" y="8336"/>
                  <a:pt x="4931" y="8555"/>
                  <a:pt x="4936" y="8781"/>
                </a:cubicBezTo>
                <a:cubicBezTo>
                  <a:pt x="4936" y="8825"/>
                  <a:pt x="4939" y="8839"/>
                  <a:pt x="4911" y="8855"/>
                </a:cubicBezTo>
                <a:cubicBezTo>
                  <a:pt x="4865" y="8693"/>
                  <a:pt x="4831" y="8527"/>
                  <a:pt x="4812" y="8359"/>
                </a:cubicBezTo>
                <a:cubicBezTo>
                  <a:pt x="4804" y="8268"/>
                  <a:pt x="4795" y="8177"/>
                  <a:pt x="4787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Ink 11"/>
          <p:cNvSpPr/>
          <p:nvPr/>
        </p:nvSpPr>
        <p:spPr>
          <a:xfrm>
            <a:off x="4848120" y="2982960"/>
            <a:ext cx="1349640" cy="339840"/>
          </a:xfrm>
          <a:custGeom>
            <a:avLst/>
            <a:gdLst/>
            <a:ahLst/>
            <a:rect l="l" t="t" r="r" b="b"/>
            <a:pathLst>
              <a:path w="3746" h="943">
                <a:moveTo>
                  <a:pt x="14064" y="8582"/>
                </a:moveTo>
                <a:cubicBezTo>
                  <a:pt x="14012" y="8600"/>
                  <a:pt x="14047" y="8485"/>
                  <a:pt x="14015" y="8409"/>
                </a:cubicBezTo>
                <a:cubicBezTo>
                  <a:pt x="14003" y="8381"/>
                  <a:pt x="13876" y="8270"/>
                  <a:pt x="13841" y="8285"/>
                </a:cubicBezTo>
                <a:cubicBezTo>
                  <a:pt x="13692" y="8350"/>
                  <a:pt x="13555" y="8458"/>
                  <a:pt x="13494" y="8607"/>
                </a:cubicBezTo>
                <a:cubicBezTo>
                  <a:pt x="13467" y="8673"/>
                  <a:pt x="13436" y="8820"/>
                  <a:pt x="13494" y="8880"/>
                </a:cubicBezTo>
                <a:cubicBezTo>
                  <a:pt x="13614" y="9005"/>
                  <a:pt x="13727" y="9040"/>
                  <a:pt x="13891" y="9054"/>
                </a:cubicBezTo>
                <a:cubicBezTo>
                  <a:pt x="14006" y="9064"/>
                  <a:pt x="14062" y="9027"/>
                  <a:pt x="14163" y="8979"/>
                </a:cubicBezTo>
              </a:path>
              <a:path w="3746" h="943">
                <a:moveTo>
                  <a:pt x="14585" y="8558"/>
                </a:moveTo>
                <a:cubicBezTo>
                  <a:pt x="14534" y="8640"/>
                  <a:pt x="14455" y="8706"/>
                  <a:pt x="14436" y="8806"/>
                </a:cubicBezTo>
                <a:cubicBezTo>
                  <a:pt x="14412" y="8933"/>
                  <a:pt x="14434" y="8978"/>
                  <a:pt x="14536" y="9029"/>
                </a:cubicBezTo>
                <a:cubicBezTo>
                  <a:pt x="14607" y="9065"/>
                  <a:pt x="14711" y="9073"/>
                  <a:pt x="14784" y="9029"/>
                </a:cubicBezTo>
                <a:cubicBezTo>
                  <a:pt x="14837" y="8998"/>
                  <a:pt x="14957" y="8870"/>
                  <a:pt x="14957" y="8806"/>
                </a:cubicBezTo>
                <a:cubicBezTo>
                  <a:pt x="14957" y="8682"/>
                  <a:pt x="14925" y="8531"/>
                  <a:pt x="14784" y="8508"/>
                </a:cubicBezTo>
                <a:cubicBezTo>
                  <a:pt x="14681" y="8492"/>
                  <a:pt x="14509" y="8500"/>
                  <a:pt x="14412" y="8533"/>
                </a:cubicBezTo>
                <a:cubicBezTo>
                  <a:pt x="14344" y="8556"/>
                  <a:pt x="14419" y="8578"/>
                  <a:pt x="14436" y="8582"/>
                </a:cubicBezTo>
              </a:path>
              <a:path w="3746" h="943">
                <a:moveTo>
                  <a:pt x="15379" y="8434"/>
                </a:moveTo>
                <a:cubicBezTo>
                  <a:pt x="15293" y="8452"/>
                  <a:pt x="15158" y="8462"/>
                  <a:pt x="15081" y="8508"/>
                </a:cubicBezTo>
                <a:cubicBezTo>
                  <a:pt x="15100" y="8656"/>
                  <a:pt x="15230" y="8657"/>
                  <a:pt x="15329" y="8756"/>
                </a:cubicBezTo>
                <a:cubicBezTo>
                  <a:pt x="15403" y="8829"/>
                  <a:pt x="15456" y="8891"/>
                  <a:pt x="15478" y="8979"/>
                </a:cubicBezTo>
                <a:cubicBezTo>
                  <a:pt x="15410" y="9020"/>
                  <a:pt x="15384" y="9027"/>
                  <a:pt x="15304" y="9004"/>
                </a:cubicBezTo>
                <a:cubicBezTo>
                  <a:pt x="15263" y="8992"/>
                  <a:pt x="15147" y="8961"/>
                  <a:pt x="15131" y="8905"/>
                </a:cubicBezTo>
                <a:cubicBezTo>
                  <a:pt x="15131" y="8888"/>
                  <a:pt x="15131" y="8872"/>
                  <a:pt x="15131" y="8855"/>
                </a:cubicBezTo>
              </a:path>
              <a:path w="3746" h="943">
                <a:moveTo>
                  <a:pt x="15652" y="8483"/>
                </a:moveTo>
                <a:cubicBezTo>
                  <a:pt x="15722" y="8668"/>
                  <a:pt x="15789" y="8778"/>
                  <a:pt x="15949" y="8905"/>
                </a:cubicBezTo>
                <a:cubicBezTo>
                  <a:pt x="16070" y="9000"/>
                  <a:pt x="16152" y="9053"/>
                  <a:pt x="16297" y="9029"/>
                </a:cubicBezTo>
              </a:path>
              <a:path w="3746" h="943">
                <a:moveTo>
                  <a:pt x="15974" y="8285"/>
                </a:moveTo>
                <a:cubicBezTo>
                  <a:pt x="15811" y="8448"/>
                  <a:pt x="15685" y="8598"/>
                  <a:pt x="15577" y="8806"/>
                </a:cubicBezTo>
                <a:cubicBezTo>
                  <a:pt x="15556" y="8846"/>
                  <a:pt x="15487" y="8975"/>
                  <a:pt x="15528" y="9004"/>
                </a:cubicBezTo>
                <a:cubicBezTo>
                  <a:pt x="15536" y="9004"/>
                  <a:pt x="15545" y="9004"/>
                  <a:pt x="15553" y="9004"/>
                </a:cubicBezTo>
              </a:path>
              <a:path w="3746" h="943">
                <a:moveTo>
                  <a:pt x="16148" y="8533"/>
                </a:moveTo>
                <a:cubicBezTo>
                  <a:pt x="16272" y="8533"/>
                  <a:pt x="16396" y="8533"/>
                  <a:pt x="16520" y="8533"/>
                </a:cubicBezTo>
              </a:path>
              <a:path w="3746" h="943">
                <a:moveTo>
                  <a:pt x="16297" y="8781"/>
                </a:moveTo>
                <a:cubicBezTo>
                  <a:pt x="16446" y="8781"/>
                  <a:pt x="16532" y="8774"/>
                  <a:pt x="16669" y="8731"/>
                </a:cubicBezTo>
                <a:cubicBezTo>
                  <a:pt x="16702" y="8723"/>
                  <a:pt x="16735" y="8714"/>
                  <a:pt x="16768" y="8706"/>
                </a:cubicBezTo>
              </a:path>
              <a:path w="3746" h="943">
                <a:moveTo>
                  <a:pt x="17090" y="8285"/>
                </a:moveTo>
                <a:cubicBezTo>
                  <a:pt x="17073" y="8509"/>
                  <a:pt x="17040" y="8735"/>
                  <a:pt x="17115" y="8954"/>
                </a:cubicBezTo>
                <a:cubicBezTo>
                  <a:pt x="17146" y="9046"/>
                  <a:pt x="17185" y="9133"/>
                  <a:pt x="17214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Ink 12"/>
          <p:cNvSpPr/>
          <p:nvPr/>
        </p:nvSpPr>
        <p:spPr>
          <a:xfrm>
            <a:off x="1473120" y="2320920"/>
            <a:ext cx="2714760" cy="1001880"/>
          </a:xfrm>
          <a:custGeom>
            <a:avLst/>
            <a:gdLst/>
            <a:ahLst/>
            <a:rect l="l" t="t" r="r" b="b"/>
            <a:pathLst>
              <a:path w="7541" h="2779">
                <a:moveTo>
                  <a:pt x="4589" y="6896"/>
                </a:moveTo>
                <a:cubicBezTo>
                  <a:pt x="4680" y="6720"/>
                  <a:pt x="4633" y="6697"/>
                  <a:pt x="4812" y="6623"/>
                </a:cubicBezTo>
                <a:cubicBezTo>
                  <a:pt x="4919" y="6579"/>
                  <a:pt x="5094" y="6605"/>
                  <a:pt x="5209" y="6598"/>
                </a:cubicBezTo>
                <a:cubicBezTo>
                  <a:pt x="5424" y="6584"/>
                  <a:pt x="5639" y="6552"/>
                  <a:pt x="5854" y="6524"/>
                </a:cubicBezTo>
                <a:cubicBezTo>
                  <a:pt x="6159" y="6484"/>
                  <a:pt x="6466" y="6493"/>
                  <a:pt x="6772" y="6474"/>
                </a:cubicBezTo>
                <a:cubicBezTo>
                  <a:pt x="7141" y="6451"/>
                  <a:pt x="7494" y="6463"/>
                  <a:pt x="7863" y="6474"/>
                </a:cubicBezTo>
                <a:cubicBezTo>
                  <a:pt x="8426" y="6490"/>
                  <a:pt x="8986" y="6555"/>
                  <a:pt x="9550" y="6573"/>
                </a:cubicBezTo>
                <a:cubicBezTo>
                  <a:pt x="9825" y="6582"/>
                  <a:pt x="10094" y="6551"/>
                  <a:pt x="10368" y="6548"/>
                </a:cubicBezTo>
                <a:cubicBezTo>
                  <a:pt x="10594" y="6545"/>
                  <a:pt x="10816" y="6549"/>
                  <a:pt x="11038" y="6573"/>
                </a:cubicBezTo>
                <a:cubicBezTo>
                  <a:pt x="11124" y="6582"/>
                  <a:pt x="11235" y="6575"/>
                  <a:pt x="11311" y="6623"/>
                </a:cubicBezTo>
                <a:cubicBezTo>
                  <a:pt x="11401" y="6680"/>
                  <a:pt x="11399" y="6753"/>
                  <a:pt x="11410" y="6846"/>
                </a:cubicBezTo>
                <a:cubicBezTo>
                  <a:pt x="11435" y="7055"/>
                  <a:pt x="11417" y="7235"/>
                  <a:pt x="11435" y="7466"/>
                </a:cubicBezTo>
                <a:cubicBezTo>
                  <a:pt x="11448" y="7625"/>
                  <a:pt x="11489" y="7780"/>
                  <a:pt x="11509" y="7938"/>
                </a:cubicBezTo>
                <a:cubicBezTo>
                  <a:pt x="11531" y="8112"/>
                  <a:pt x="11562" y="8283"/>
                  <a:pt x="11584" y="8458"/>
                </a:cubicBezTo>
                <a:cubicBezTo>
                  <a:pt x="11603" y="8608"/>
                  <a:pt x="11626" y="8779"/>
                  <a:pt x="11633" y="8930"/>
                </a:cubicBezTo>
                <a:cubicBezTo>
                  <a:pt x="11638" y="9029"/>
                  <a:pt x="11630" y="9128"/>
                  <a:pt x="11633" y="9227"/>
                </a:cubicBezTo>
                <a:cubicBezTo>
                  <a:pt x="11580" y="9205"/>
                  <a:pt x="11520" y="9178"/>
                  <a:pt x="11460" y="9153"/>
                </a:cubicBezTo>
                <a:cubicBezTo>
                  <a:pt x="11346" y="9104"/>
                  <a:pt x="11260" y="9075"/>
                  <a:pt x="11137" y="9054"/>
                </a:cubicBezTo>
                <a:cubicBezTo>
                  <a:pt x="10978" y="9027"/>
                  <a:pt x="10848" y="9032"/>
                  <a:pt x="10691" y="9054"/>
                </a:cubicBezTo>
                <a:cubicBezTo>
                  <a:pt x="10457" y="9087"/>
                  <a:pt x="10233" y="9143"/>
                  <a:pt x="9996" y="9153"/>
                </a:cubicBezTo>
                <a:cubicBezTo>
                  <a:pt x="9743" y="9164"/>
                  <a:pt x="9503" y="9116"/>
                  <a:pt x="9252" y="9103"/>
                </a:cubicBezTo>
                <a:cubicBezTo>
                  <a:pt x="8916" y="9086"/>
                  <a:pt x="8595" y="9038"/>
                  <a:pt x="8260" y="9004"/>
                </a:cubicBezTo>
                <a:cubicBezTo>
                  <a:pt x="7885" y="8965"/>
                  <a:pt x="7496" y="8944"/>
                  <a:pt x="7119" y="8930"/>
                </a:cubicBezTo>
                <a:cubicBezTo>
                  <a:pt x="6644" y="8913"/>
                  <a:pt x="6154" y="8891"/>
                  <a:pt x="5680" y="8905"/>
                </a:cubicBezTo>
                <a:cubicBezTo>
                  <a:pt x="5333" y="8916"/>
                  <a:pt x="4985" y="8944"/>
                  <a:pt x="4638" y="8954"/>
                </a:cubicBezTo>
                <a:cubicBezTo>
                  <a:pt x="4503" y="8958"/>
                  <a:pt x="4373" y="8954"/>
                  <a:pt x="4242" y="8979"/>
                </a:cubicBezTo>
                <a:cubicBezTo>
                  <a:pt x="4151" y="8996"/>
                  <a:pt x="4161" y="9030"/>
                  <a:pt x="4093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Homework:  p. 400 (1,3,5)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baseline="30000">
                <a:solidFill>
                  <a:srgbClr val="17375e"/>
                </a:solidFill>
                <a:latin typeface="Tahoma"/>
              </a:rPr>
              <a:t>Verify that the x-values are solutions of the equation.</a:t>
            </a:r>
            <a:endParaRPr b="1" lang="en-US" sz="55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</a:t>
            </a:r>
            <a:br>
              <a:rPr sz="7500"/>
            </a:br>
            <a:br>
              <a:rPr sz="7500"/>
            </a:b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Page 400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11-23</a:t>
            </a:r>
            <a:endParaRPr b="0" lang="en-US" sz="75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596960" y="1584360"/>
            <a:ext cx="5956200" cy="4146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 2cosx – 1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=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5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23" name="Ink 4"/>
          <p:cNvSpPr/>
          <p:nvPr/>
        </p:nvSpPr>
        <p:spPr>
          <a:xfrm>
            <a:off x="4375080" y="1714680"/>
            <a:ext cx="2027160" cy="366480"/>
          </a:xfrm>
          <a:custGeom>
            <a:avLst/>
            <a:gdLst/>
            <a:ahLst/>
            <a:rect l="l" t="t" r="r" b="b"/>
            <a:pathLst>
              <a:path w="5632" h="1018">
                <a:moveTo>
                  <a:pt x="12328" y="4911"/>
                </a:moveTo>
                <a:cubicBezTo>
                  <a:pt x="12328" y="4928"/>
                  <a:pt x="12328" y="4944"/>
                  <a:pt x="12328" y="4961"/>
                </a:cubicBezTo>
                <a:cubicBezTo>
                  <a:pt x="12361" y="4920"/>
                  <a:pt x="12395" y="4803"/>
                  <a:pt x="12452" y="4787"/>
                </a:cubicBezTo>
                <a:cubicBezTo>
                  <a:pt x="12508" y="4771"/>
                  <a:pt x="12572" y="4761"/>
                  <a:pt x="12626" y="4812"/>
                </a:cubicBezTo>
                <a:cubicBezTo>
                  <a:pt x="12689" y="4872"/>
                  <a:pt x="12675" y="4985"/>
                  <a:pt x="12675" y="5060"/>
                </a:cubicBezTo>
                <a:cubicBezTo>
                  <a:pt x="12675" y="5205"/>
                  <a:pt x="12654" y="5274"/>
                  <a:pt x="12601" y="5407"/>
                </a:cubicBezTo>
                <a:cubicBezTo>
                  <a:pt x="12557" y="5517"/>
                  <a:pt x="12533" y="5566"/>
                  <a:pt x="12427" y="5631"/>
                </a:cubicBezTo>
                <a:cubicBezTo>
                  <a:pt x="12375" y="5663"/>
                  <a:pt x="12319" y="5716"/>
                  <a:pt x="12254" y="5705"/>
                </a:cubicBezTo>
                <a:cubicBezTo>
                  <a:pt x="12138" y="5685"/>
                  <a:pt x="12133" y="5584"/>
                  <a:pt x="12154" y="5482"/>
                </a:cubicBezTo>
                <a:cubicBezTo>
                  <a:pt x="12171" y="5397"/>
                  <a:pt x="12241" y="5327"/>
                  <a:pt x="12328" y="5308"/>
                </a:cubicBezTo>
                <a:cubicBezTo>
                  <a:pt x="12403" y="5291"/>
                  <a:pt x="12469" y="5351"/>
                  <a:pt x="12502" y="5407"/>
                </a:cubicBezTo>
                <a:cubicBezTo>
                  <a:pt x="12542" y="5476"/>
                  <a:pt x="12564" y="5557"/>
                  <a:pt x="12576" y="5631"/>
                </a:cubicBezTo>
                <a:cubicBezTo>
                  <a:pt x="12585" y="5690"/>
                  <a:pt x="12575" y="5704"/>
                  <a:pt x="12626" y="5730"/>
                </a:cubicBezTo>
              </a:path>
              <a:path w="5632" h="1018">
                <a:moveTo>
                  <a:pt x="13196" y="5259"/>
                </a:moveTo>
                <a:cubicBezTo>
                  <a:pt x="13186" y="5180"/>
                  <a:pt x="13178" y="5088"/>
                  <a:pt x="13072" y="5110"/>
                </a:cubicBezTo>
                <a:cubicBezTo>
                  <a:pt x="13016" y="5121"/>
                  <a:pt x="12949" y="5266"/>
                  <a:pt x="12923" y="5308"/>
                </a:cubicBezTo>
                <a:cubicBezTo>
                  <a:pt x="12869" y="5393"/>
                  <a:pt x="12875" y="5544"/>
                  <a:pt x="12898" y="5631"/>
                </a:cubicBezTo>
                <a:cubicBezTo>
                  <a:pt x="12917" y="5704"/>
                  <a:pt x="12985" y="5774"/>
                  <a:pt x="13072" y="5755"/>
                </a:cubicBezTo>
                <a:cubicBezTo>
                  <a:pt x="13145" y="5739"/>
                  <a:pt x="13217" y="5677"/>
                  <a:pt x="13271" y="5631"/>
                </a:cubicBezTo>
              </a:path>
              <a:path w="5632" h="1018">
                <a:moveTo>
                  <a:pt x="13444" y="5234"/>
                </a:moveTo>
                <a:cubicBezTo>
                  <a:pt x="13415" y="5314"/>
                  <a:pt x="13380" y="5401"/>
                  <a:pt x="13370" y="5482"/>
                </a:cubicBezTo>
                <a:cubicBezTo>
                  <a:pt x="13364" y="5531"/>
                  <a:pt x="13352" y="5646"/>
                  <a:pt x="13395" y="5680"/>
                </a:cubicBezTo>
                <a:cubicBezTo>
                  <a:pt x="13485" y="5750"/>
                  <a:pt x="13513" y="5729"/>
                  <a:pt x="13593" y="5680"/>
                </a:cubicBezTo>
                <a:cubicBezTo>
                  <a:pt x="13681" y="5626"/>
                  <a:pt x="13687" y="5559"/>
                  <a:pt x="13692" y="5457"/>
                </a:cubicBezTo>
                <a:cubicBezTo>
                  <a:pt x="13694" y="5402"/>
                  <a:pt x="13703" y="5314"/>
                  <a:pt x="13643" y="5283"/>
                </a:cubicBezTo>
                <a:cubicBezTo>
                  <a:pt x="13593" y="5257"/>
                  <a:pt x="13492" y="5219"/>
                  <a:pt x="13444" y="5209"/>
                </a:cubicBezTo>
                <a:cubicBezTo>
                  <a:pt x="13393" y="5209"/>
                  <a:pt x="13378" y="5208"/>
                  <a:pt x="13444" y="5184"/>
                </a:cubicBezTo>
              </a:path>
              <a:path w="5632" h="1018">
                <a:moveTo>
                  <a:pt x="13965" y="5159"/>
                </a:moveTo>
                <a:cubicBezTo>
                  <a:pt x="13816" y="5234"/>
                  <a:pt x="13800" y="5243"/>
                  <a:pt x="13717" y="5283"/>
                </a:cubicBezTo>
                <a:cubicBezTo>
                  <a:pt x="13765" y="5331"/>
                  <a:pt x="13817" y="5360"/>
                  <a:pt x="13866" y="5407"/>
                </a:cubicBezTo>
                <a:cubicBezTo>
                  <a:pt x="13939" y="5477"/>
                  <a:pt x="14027" y="5472"/>
                  <a:pt x="14039" y="5581"/>
                </a:cubicBezTo>
                <a:cubicBezTo>
                  <a:pt x="14048" y="5663"/>
                  <a:pt x="13957" y="5676"/>
                  <a:pt x="13891" y="5680"/>
                </a:cubicBezTo>
                <a:cubicBezTo>
                  <a:pt x="13819" y="5684"/>
                  <a:pt x="13745" y="5661"/>
                  <a:pt x="13717" y="5606"/>
                </a:cubicBezTo>
              </a:path>
              <a:path w="5632" h="1018">
                <a:moveTo>
                  <a:pt x="14213" y="5135"/>
                </a:moveTo>
                <a:cubicBezTo>
                  <a:pt x="14274" y="5297"/>
                  <a:pt x="14334" y="5420"/>
                  <a:pt x="14436" y="5556"/>
                </a:cubicBezTo>
                <a:cubicBezTo>
                  <a:pt x="14485" y="5622"/>
                  <a:pt x="14580" y="5724"/>
                  <a:pt x="14660" y="5755"/>
                </a:cubicBezTo>
                <a:cubicBezTo>
                  <a:pt x="14711" y="5755"/>
                  <a:pt x="14730" y="5754"/>
                  <a:pt x="14759" y="5730"/>
                </a:cubicBezTo>
              </a:path>
              <a:path w="5632" h="1018">
                <a:moveTo>
                  <a:pt x="14536" y="5085"/>
                </a:moveTo>
                <a:cubicBezTo>
                  <a:pt x="14448" y="5212"/>
                  <a:pt x="14352" y="5332"/>
                  <a:pt x="14263" y="5457"/>
                </a:cubicBezTo>
                <a:cubicBezTo>
                  <a:pt x="14182" y="5571"/>
                  <a:pt x="14117" y="5592"/>
                  <a:pt x="14039" y="5680"/>
                </a:cubicBezTo>
                <a:cubicBezTo>
                  <a:pt x="14039" y="5688"/>
                  <a:pt x="14039" y="5697"/>
                  <a:pt x="14039" y="5705"/>
                </a:cubicBezTo>
              </a:path>
              <a:path w="5632" h="1018">
                <a:moveTo>
                  <a:pt x="14734" y="5407"/>
                </a:moveTo>
                <a:cubicBezTo>
                  <a:pt x="14915" y="5407"/>
                  <a:pt x="15105" y="5425"/>
                  <a:pt x="15280" y="5383"/>
                </a:cubicBezTo>
              </a:path>
              <a:path w="5632" h="1018">
                <a:moveTo>
                  <a:pt x="15677" y="4986"/>
                </a:moveTo>
                <a:cubicBezTo>
                  <a:pt x="15658" y="5130"/>
                  <a:pt x="15600" y="5332"/>
                  <a:pt x="15627" y="5482"/>
                </a:cubicBezTo>
                <a:cubicBezTo>
                  <a:pt x="15640" y="5556"/>
                  <a:pt x="15664" y="5641"/>
                  <a:pt x="15677" y="5705"/>
                </a:cubicBezTo>
                <a:cubicBezTo>
                  <a:pt x="15689" y="5767"/>
                  <a:pt x="15668" y="5783"/>
                  <a:pt x="15726" y="5755"/>
                </a:cubicBezTo>
              </a:path>
              <a:path w="5632" h="1018">
                <a:moveTo>
                  <a:pt x="16049" y="5358"/>
                </a:moveTo>
                <a:cubicBezTo>
                  <a:pt x="16189" y="5348"/>
                  <a:pt x="16315" y="5352"/>
                  <a:pt x="16446" y="5333"/>
                </a:cubicBezTo>
              </a:path>
              <a:path w="5632" h="1018">
                <a:moveTo>
                  <a:pt x="16272" y="5581"/>
                </a:moveTo>
                <a:cubicBezTo>
                  <a:pt x="16471" y="5566"/>
                  <a:pt x="16525" y="5548"/>
                  <a:pt x="16694" y="5457"/>
                </a:cubicBezTo>
              </a:path>
              <a:path w="5632" h="1018">
                <a:moveTo>
                  <a:pt x="17066" y="4936"/>
                </a:moveTo>
                <a:cubicBezTo>
                  <a:pt x="17033" y="5059"/>
                  <a:pt x="17002" y="5182"/>
                  <a:pt x="16991" y="5308"/>
                </a:cubicBezTo>
                <a:cubicBezTo>
                  <a:pt x="16981" y="5429"/>
                  <a:pt x="16988" y="5510"/>
                  <a:pt x="17066" y="5606"/>
                </a:cubicBezTo>
                <a:cubicBezTo>
                  <a:pt x="17157" y="5718"/>
                  <a:pt x="17270" y="5753"/>
                  <a:pt x="17413" y="5779"/>
                </a:cubicBezTo>
                <a:cubicBezTo>
                  <a:pt x="17525" y="5799"/>
                  <a:pt x="17591" y="5700"/>
                  <a:pt x="17661" y="5631"/>
                </a:cubicBezTo>
                <a:cubicBezTo>
                  <a:pt x="17716" y="5577"/>
                  <a:pt x="17788" y="5440"/>
                  <a:pt x="17785" y="5358"/>
                </a:cubicBezTo>
                <a:cubicBezTo>
                  <a:pt x="17779" y="5200"/>
                  <a:pt x="17575" y="4966"/>
                  <a:pt x="17413" y="4936"/>
                </a:cubicBezTo>
                <a:cubicBezTo>
                  <a:pt x="17305" y="4936"/>
                  <a:pt x="17263" y="4938"/>
                  <a:pt x="17190" y="49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Ink 5"/>
          <p:cNvSpPr/>
          <p:nvPr/>
        </p:nvSpPr>
        <p:spPr>
          <a:xfrm>
            <a:off x="5322960" y="2241720"/>
            <a:ext cx="142920" cy="18720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15032" y="6226"/>
                </a:moveTo>
                <a:cubicBezTo>
                  <a:pt x="15032" y="6372"/>
                  <a:pt x="15036" y="6507"/>
                  <a:pt x="15056" y="6648"/>
                </a:cubicBezTo>
                <a:cubicBezTo>
                  <a:pt x="15063" y="6696"/>
                  <a:pt x="15071" y="6706"/>
                  <a:pt x="15081" y="6747"/>
                </a:cubicBezTo>
              </a:path>
              <a:path w="397" h="522">
                <a:moveTo>
                  <a:pt x="14784" y="6474"/>
                </a:moveTo>
                <a:cubicBezTo>
                  <a:pt x="14878" y="6551"/>
                  <a:pt x="14988" y="6545"/>
                  <a:pt x="15106" y="6548"/>
                </a:cubicBezTo>
                <a:cubicBezTo>
                  <a:pt x="15131" y="6548"/>
                  <a:pt x="15155" y="6548"/>
                  <a:pt x="15180" y="65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Ink 6"/>
          <p:cNvSpPr/>
          <p:nvPr/>
        </p:nvSpPr>
        <p:spPr>
          <a:xfrm>
            <a:off x="5634000" y="2286000"/>
            <a:ext cx="27000" cy="19692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5677" y="6350"/>
                </a:moveTo>
                <a:cubicBezTo>
                  <a:pt x="15664" y="6506"/>
                  <a:pt x="15629" y="6672"/>
                  <a:pt x="15677" y="6821"/>
                </a:cubicBezTo>
                <a:cubicBezTo>
                  <a:pt x="15698" y="6865"/>
                  <a:pt x="15701" y="6877"/>
                  <a:pt x="15726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Ink 7"/>
          <p:cNvSpPr/>
          <p:nvPr/>
        </p:nvSpPr>
        <p:spPr>
          <a:xfrm>
            <a:off x="6018120" y="225900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6991" y="6276"/>
                </a:moveTo>
                <a:cubicBezTo>
                  <a:pt x="16958" y="6426"/>
                  <a:pt x="16904" y="6573"/>
                  <a:pt x="16966" y="6722"/>
                </a:cubicBezTo>
                <a:cubicBezTo>
                  <a:pt x="16974" y="6739"/>
                  <a:pt x="16983" y="6755"/>
                  <a:pt x="16991" y="6772"/>
                </a:cubicBezTo>
              </a:path>
              <a:path w="473" h="497">
                <a:moveTo>
                  <a:pt x="16718" y="6499"/>
                </a:moveTo>
                <a:cubicBezTo>
                  <a:pt x="16840" y="6499"/>
                  <a:pt x="16946" y="6521"/>
                  <a:pt x="17066" y="6524"/>
                </a:cubicBezTo>
                <a:cubicBezTo>
                  <a:pt x="17107" y="6524"/>
                  <a:pt x="17149" y="6524"/>
                  <a:pt x="17190" y="65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Ink 8"/>
          <p:cNvSpPr/>
          <p:nvPr/>
        </p:nvSpPr>
        <p:spPr>
          <a:xfrm>
            <a:off x="6340320" y="2251080"/>
            <a:ext cx="9720" cy="266760"/>
          </a:xfrm>
          <a:custGeom>
            <a:avLst/>
            <a:gdLst/>
            <a:ahLst/>
            <a:rect l="l" t="t" r="r" b="b"/>
            <a:pathLst>
              <a:path w="26" h="745">
                <a:moveTo>
                  <a:pt x="17636" y="6251"/>
                </a:moveTo>
                <a:cubicBezTo>
                  <a:pt x="17614" y="6388"/>
                  <a:pt x="17596" y="6532"/>
                  <a:pt x="17611" y="6672"/>
                </a:cubicBezTo>
                <a:cubicBezTo>
                  <a:pt x="17623" y="6784"/>
                  <a:pt x="17636" y="6883"/>
                  <a:pt x="17636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Ink 9"/>
          <p:cNvSpPr/>
          <p:nvPr/>
        </p:nvSpPr>
        <p:spPr>
          <a:xfrm>
            <a:off x="4714920" y="2562120"/>
            <a:ext cx="1849320" cy="831960"/>
          </a:xfrm>
          <a:custGeom>
            <a:avLst/>
            <a:gdLst/>
            <a:ahLst/>
            <a:rect l="l" t="t" r="r" b="b"/>
            <a:pathLst>
              <a:path w="5135" h="2308">
                <a:moveTo>
                  <a:pt x="13494" y="7516"/>
                </a:moveTo>
                <a:cubicBezTo>
                  <a:pt x="13486" y="7541"/>
                  <a:pt x="13477" y="7565"/>
                  <a:pt x="13469" y="7590"/>
                </a:cubicBezTo>
                <a:cubicBezTo>
                  <a:pt x="13495" y="7533"/>
                  <a:pt x="13518" y="7435"/>
                  <a:pt x="13568" y="7392"/>
                </a:cubicBezTo>
                <a:cubicBezTo>
                  <a:pt x="13623" y="7345"/>
                  <a:pt x="13688" y="7295"/>
                  <a:pt x="13767" y="7317"/>
                </a:cubicBezTo>
                <a:cubicBezTo>
                  <a:pt x="13877" y="7348"/>
                  <a:pt x="13892" y="7499"/>
                  <a:pt x="13915" y="7590"/>
                </a:cubicBezTo>
                <a:cubicBezTo>
                  <a:pt x="13956" y="7749"/>
                  <a:pt x="13928" y="7799"/>
                  <a:pt x="13866" y="7938"/>
                </a:cubicBezTo>
                <a:cubicBezTo>
                  <a:pt x="13821" y="8040"/>
                  <a:pt x="13780" y="8081"/>
                  <a:pt x="13667" y="8111"/>
                </a:cubicBezTo>
                <a:cubicBezTo>
                  <a:pt x="13613" y="8125"/>
                  <a:pt x="13456" y="8148"/>
                  <a:pt x="13419" y="8062"/>
                </a:cubicBezTo>
                <a:cubicBezTo>
                  <a:pt x="13392" y="8000"/>
                  <a:pt x="13403" y="7948"/>
                  <a:pt x="13444" y="7888"/>
                </a:cubicBezTo>
                <a:cubicBezTo>
                  <a:pt x="13482" y="7833"/>
                  <a:pt x="13619" y="7859"/>
                  <a:pt x="13667" y="7888"/>
                </a:cubicBezTo>
                <a:cubicBezTo>
                  <a:pt x="13743" y="7933"/>
                  <a:pt x="13823" y="8035"/>
                  <a:pt x="13866" y="8111"/>
                </a:cubicBezTo>
                <a:cubicBezTo>
                  <a:pt x="13925" y="8217"/>
                  <a:pt x="13987" y="8237"/>
                  <a:pt x="14064" y="8161"/>
                </a:cubicBezTo>
              </a:path>
              <a:path w="5135" h="2308">
                <a:moveTo>
                  <a:pt x="14560" y="7714"/>
                </a:moveTo>
                <a:cubicBezTo>
                  <a:pt x="14560" y="7731"/>
                  <a:pt x="14560" y="7747"/>
                  <a:pt x="14560" y="7764"/>
                </a:cubicBezTo>
                <a:cubicBezTo>
                  <a:pt x="14518" y="7709"/>
                  <a:pt x="14488" y="7657"/>
                  <a:pt x="14412" y="7640"/>
                </a:cubicBezTo>
                <a:cubicBezTo>
                  <a:pt x="14366" y="7630"/>
                  <a:pt x="14290" y="7676"/>
                  <a:pt x="14263" y="7714"/>
                </a:cubicBezTo>
                <a:cubicBezTo>
                  <a:pt x="14215" y="7781"/>
                  <a:pt x="14167" y="7828"/>
                  <a:pt x="14163" y="7913"/>
                </a:cubicBezTo>
                <a:cubicBezTo>
                  <a:pt x="14158" y="8019"/>
                  <a:pt x="14165" y="8038"/>
                  <a:pt x="14238" y="8111"/>
                </a:cubicBezTo>
                <a:cubicBezTo>
                  <a:pt x="14318" y="8191"/>
                  <a:pt x="14482" y="8190"/>
                  <a:pt x="14585" y="8136"/>
                </a:cubicBezTo>
                <a:cubicBezTo>
                  <a:pt x="14602" y="8119"/>
                  <a:pt x="14618" y="8103"/>
                  <a:pt x="14635" y="8086"/>
                </a:cubicBezTo>
              </a:path>
              <a:path w="5135" h="2308">
                <a:moveTo>
                  <a:pt x="14883" y="7665"/>
                </a:moveTo>
                <a:cubicBezTo>
                  <a:pt x="14813" y="7744"/>
                  <a:pt x="14809" y="7789"/>
                  <a:pt x="14784" y="7888"/>
                </a:cubicBezTo>
                <a:cubicBezTo>
                  <a:pt x="14765" y="7964"/>
                  <a:pt x="14758" y="8047"/>
                  <a:pt x="14808" y="8111"/>
                </a:cubicBezTo>
                <a:cubicBezTo>
                  <a:pt x="14868" y="8187"/>
                  <a:pt x="14982" y="8167"/>
                  <a:pt x="15056" y="8136"/>
                </a:cubicBezTo>
                <a:cubicBezTo>
                  <a:pt x="15156" y="8094"/>
                  <a:pt x="15188" y="8016"/>
                  <a:pt x="15205" y="7913"/>
                </a:cubicBezTo>
                <a:cubicBezTo>
                  <a:pt x="15219" y="7828"/>
                  <a:pt x="15202" y="7781"/>
                  <a:pt x="15131" y="7739"/>
                </a:cubicBezTo>
                <a:cubicBezTo>
                  <a:pt x="15048" y="7690"/>
                  <a:pt x="14976" y="7689"/>
                  <a:pt x="14883" y="7689"/>
                </a:cubicBezTo>
                <a:cubicBezTo>
                  <a:pt x="14841" y="7689"/>
                  <a:pt x="14833" y="7689"/>
                  <a:pt x="14808" y="7689"/>
                </a:cubicBezTo>
              </a:path>
              <a:path w="5135" h="2308">
                <a:moveTo>
                  <a:pt x="15503" y="7615"/>
                </a:moveTo>
                <a:cubicBezTo>
                  <a:pt x="15417" y="7655"/>
                  <a:pt x="15309" y="7684"/>
                  <a:pt x="15230" y="7739"/>
                </a:cubicBezTo>
                <a:cubicBezTo>
                  <a:pt x="15222" y="7747"/>
                  <a:pt x="15213" y="7756"/>
                  <a:pt x="15205" y="7764"/>
                </a:cubicBezTo>
                <a:cubicBezTo>
                  <a:pt x="15260" y="7840"/>
                  <a:pt x="15318" y="7846"/>
                  <a:pt x="15404" y="7888"/>
                </a:cubicBezTo>
                <a:cubicBezTo>
                  <a:pt x="15451" y="7911"/>
                  <a:pt x="15610" y="8014"/>
                  <a:pt x="15602" y="8086"/>
                </a:cubicBezTo>
                <a:cubicBezTo>
                  <a:pt x="15596" y="8146"/>
                  <a:pt x="15489" y="8165"/>
                  <a:pt x="15453" y="8161"/>
                </a:cubicBezTo>
                <a:cubicBezTo>
                  <a:pt x="15330" y="8147"/>
                  <a:pt x="15307" y="8113"/>
                  <a:pt x="15230" y="8037"/>
                </a:cubicBezTo>
              </a:path>
              <a:path w="5135" h="2308">
                <a:moveTo>
                  <a:pt x="15776" y="7615"/>
                </a:moveTo>
                <a:cubicBezTo>
                  <a:pt x="15830" y="7717"/>
                  <a:pt x="15896" y="7811"/>
                  <a:pt x="15949" y="7913"/>
                </a:cubicBezTo>
                <a:cubicBezTo>
                  <a:pt x="16009" y="8028"/>
                  <a:pt x="16122" y="8135"/>
                  <a:pt x="16247" y="8186"/>
                </a:cubicBezTo>
                <a:cubicBezTo>
                  <a:pt x="16288" y="8186"/>
                  <a:pt x="16296" y="8186"/>
                  <a:pt x="16321" y="8186"/>
                </a:cubicBezTo>
              </a:path>
              <a:path w="5135" h="2308">
                <a:moveTo>
                  <a:pt x="16123" y="7565"/>
                </a:moveTo>
                <a:cubicBezTo>
                  <a:pt x="15988" y="7706"/>
                  <a:pt x="15881" y="7810"/>
                  <a:pt x="15801" y="7987"/>
                </a:cubicBezTo>
                <a:cubicBezTo>
                  <a:pt x="15762" y="8074"/>
                  <a:pt x="15667" y="8203"/>
                  <a:pt x="15776" y="8186"/>
                </a:cubicBezTo>
              </a:path>
              <a:path w="5135" h="2308">
                <a:moveTo>
                  <a:pt x="16545" y="7789"/>
                </a:moveTo>
                <a:cubicBezTo>
                  <a:pt x="16658" y="7803"/>
                  <a:pt x="16738" y="7809"/>
                  <a:pt x="16842" y="7838"/>
                </a:cubicBezTo>
              </a:path>
              <a:path w="5135" h="2308">
                <a:moveTo>
                  <a:pt x="16570" y="7962"/>
                </a:moveTo>
                <a:cubicBezTo>
                  <a:pt x="16715" y="7962"/>
                  <a:pt x="16846" y="7936"/>
                  <a:pt x="16991" y="7913"/>
                </a:cubicBezTo>
              </a:path>
              <a:path w="5135" h="2308">
                <a:moveTo>
                  <a:pt x="17462" y="7516"/>
                </a:moveTo>
                <a:cubicBezTo>
                  <a:pt x="17477" y="7668"/>
                  <a:pt x="17471" y="7838"/>
                  <a:pt x="17512" y="7987"/>
                </a:cubicBezTo>
                <a:cubicBezTo>
                  <a:pt x="17538" y="8082"/>
                  <a:pt x="17562" y="8134"/>
                  <a:pt x="17562" y="8235"/>
                </a:cubicBezTo>
                <a:cubicBezTo>
                  <a:pt x="17562" y="8243"/>
                  <a:pt x="17562" y="8252"/>
                  <a:pt x="17562" y="8260"/>
                </a:cubicBezTo>
              </a:path>
              <a:path w="5135" h="2308">
                <a:moveTo>
                  <a:pt x="13097" y="8310"/>
                </a:moveTo>
                <a:cubicBezTo>
                  <a:pt x="13180" y="8254"/>
                  <a:pt x="13261" y="8238"/>
                  <a:pt x="13370" y="8235"/>
                </a:cubicBezTo>
                <a:cubicBezTo>
                  <a:pt x="13508" y="8231"/>
                  <a:pt x="13631" y="8274"/>
                  <a:pt x="13767" y="8285"/>
                </a:cubicBezTo>
                <a:cubicBezTo>
                  <a:pt x="13875" y="8285"/>
                  <a:pt x="13917" y="8287"/>
                  <a:pt x="13990" y="8310"/>
                </a:cubicBezTo>
              </a:path>
              <a:path w="5135" h="2308">
                <a:moveTo>
                  <a:pt x="13519" y="8458"/>
                </a:moveTo>
                <a:cubicBezTo>
                  <a:pt x="13584" y="8458"/>
                  <a:pt x="13646" y="8436"/>
                  <a:pt x="13692" y="8458"/>
                </a:cubicBezTo>
                <a:cubicBezTo>
                  <a:pt x="13804" y="8512"/>
                  <a:pt x="13887" y="8567"/>
                  <a:pt x="13866" y="8706"/>
                </a:cubicBezTo>
                <a:cubicBezTo>
                  <a:pt x="13851" y="8809"/>
                  <a:pt x="13770" y="8916"/>
                  <a:pt x="13692" y="8979"/>
                </a:cubicBezTo>
                <a:cubicBezTo>
                  <a:pt x="13633" y="9027"/>
                  <a:pt x="13548" y="9076"/>
                  <a:pt x="13469" y="9054"/>
                </a:cubicBezTo>
                <a:cubicBezTo>
                  <a:pt x="13424" y="9041"/>
                  <a:pt x="13401" y="9010"/>
                  <a:pt x="13370" y="8979"/>
                </a:cubicBezTo>
                <a:cubicBezTo>
                  <a:pt x="13441" y="8880"/>
                  <a:pt x="13499" y="8899"/>
                  <a:pt x="13618" y="8930"/>
                </a:cubicBezTo>
                <a:cubicBezTo>
                  <a:pt x="13727" y="8959"/>
                  <a:pt x="13829" y="8990"/>
                  <a:pt x="13940" y="9004"/>
                </a:cubicBezTo>
              </a:path>
              <a:path w="5135" h="2308">
                <a:moveTo>
                  <a:pt x="17090" y="8384"/>
                </a:moveTo>
                <a:cubicBezTo>
                  <a:pt x="17244" y="8343"/>
                  <a:pt x="17304" y="8345"/>
                  <a:pt x="17462" y="8359"/>
                </a:cubicBezTo>
                <a:cubicBezTo>
                  <a:pt x="17555" y="8367"/>
                  <a:pt x="17696" y="8400"/>
                  <a:pt x="17785" y="8384"/>
                </a:cubicBezTo>
                <a:cubicBezTo>
                  <a:pt x="17802" y="8376"/>
                  <a:pt x="17818" y="8367"/>
                  <a:pt x="17835" y="8359"/>
                </a:cubicBezTo>
              </a:path>
              <a:path w="5135" h="2308">
                <a:moveTo>
                  <a:pt x="17388" y="8508"/>
                </a:moveTo>
                <a:cubicBezTo>
                  <a:pt x="17483" y="8524"/>
                  <a:pt x="17560" y="8508"/>
                  <a:pt x="17661" y="8508"/>
                </a:cubicBezTo>
                <a:cubicBezTo>
                  <a:pt x="17749" y="8508"/>
                  <a:pt x="17835" y="8531"/>
                  <a:pt x="17909" y="8582"/>
                </a:cubicBezTo>
                <a:cubicBezTo>
                  <a:pt x="17991" y="8638"/>
                  <a:pt x="17892" y="8734"/>
                  <a:pt x="17859" y="8781"/>
                </a:cubicBezTo>
                <a:cubicBezTo>
                  <a:pt x="17796" y="8870"/>
                  <a:pt x="17714" y="8936"/>
                  <a:pt x="17611" y="8979"/>
                </a:cubicBezTo>
                <a:cubicBezTo>
                  <a:pt x="17537" y="9004"/>
                  <a:pt x="17512" y="9013"/>
                  <a:pt x="17462" y="9029"/>
                </a:cubicBezTo>
                <a:cubicBezTo>
                  <a:pt x="17477" y="9145"/>
                  <a:pt x="17526" y="9176"/>
                  <a:pt x="17636" y="9227"/>
                </a:cubicBezTo>
                <a:cubicBezTo>
                  <a:pt x="17808" y="9306"/>
                  <a:pt x="17966" y="9399"/>
                  <a:pt x="18157" y="9426"/>
                </a:cubicBezTo>
                <a:cubicBezTo>
                  <a:pt x="18182" y="9426"/>
                  <a:pt x="18206" y="9426"/>
                  <a:pt x="18231" y="9426"/>
                </a:cubicBezTo>
              </a:path>
              <a:path w="5135" h="2308">
                <a:moveTo>
                  <a:pt x="13667" y="7119"/>
                </a:moveTo>
                <a:cubicBezTo>
                  <a:pt x="13679" y="7230"/>
                  <a:pt x="13692" y="7325"/>
                  <a:pt x="13692" y="7441"/>
                </a:cubicBezTo>
                <a:cubicBezTo>
                  <a:pt x="13692" y="7733"/>
                  <a:pt x="13700" y="8021"/>
                  <a:pt x="13717" y="8310"/>
                </a:cubicBezTo>
                <a:cubicBezTo>
                  <a:pt x="13730" y="8534"/>
                  <a:pt x="13772" y="8755"/>
                  <a:pt x="13791" y="8979"/>
                </a:cubicBezTo>
                <a:cubicBezTo>
                  <a:pt x="13800" y="9079"/>
                  <a:pt x="13816" y="9176"/>
                  <a:pt x="13816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Ink 10"/>
          <p:cNvSpPr/>
          <p:nvPr/>
        </p:nvSpPr>
        <p:spPr>
          <a:xfrm>
            <a:off x="5187960" y="3500280"/>
            <a:ext cx="1473120" cy="509760"/>
          </a:xfrm>
          <a:custGeom>
            <a:avLst/>
            <a:gdLst/>
            <a:ahLst/>
            <a:rect l="l" t="t" r="r" b="b"/>
            <a:pathLst>
              <a:path w="4093" h="1415">
                <a:moveTo>
                  <a:pt x="14784" y="9847"/>
                </a:moveTo>
                <a:cubicBezTo>
                  <a:pt x="14818" y="9883"/>
                  <a:pt x="14831" y="9905"/>
                  <a:pt x="14833" y="9947"/>
                </a:cubicBezTo>
                <a:cubicBezTo>
                  <a:pt x="14801" y="9914"/>
                  <a:pt x="14735" y="9821"/>
                  <a:pt x="14684" y="9823"/>
                </a:cubicBezTo>
                <a:cubicBezTo>
                  <a:pt x="14611" y="9826"/>
                  <a:pt x="14496" y="9935"/>
                  <a:pt x="14461" y="9996"/>
                </a:cubicBezTo>
                <a:cubicBezTo>
                  <a:pt x="14413" y="10081"/>
                  <a:pt x="14376" y="10256"/>
                  <a:pt x="14436" y="10344"/>
                </a:cubicBezTo>
                <a:cubicBezTo>
                  <a:pt x="14501" y="10438"/>
                  <a:pt x="14604" y="10464"/>
                  <a:pt x="14709" y="10468"/>
                </a:cubicBezTo>
                <a:cubicBezTo>
                  <a:pt x="14815" y="10472"/>
                  <a:pt x="14839" y="10465"/>
                  <a:pt x="14932" y="10418"/>
                </a:cubicBezTo>
              </a:path>
              <a:path w="4093" h="1415">
                <a:moveTo>
                  <a:pt x="15056" y="10046"/>
                </a:moveTo>
                <a:cubicBezTo>
                  <a:pt x="15025" y="10146"/>
                  <a:pt x="14923" y="10316"/>
                  <a:pt x="15032" y="10418"/>
                </a:cubicBezTo>
                <a:cubicBezTo>
                  <a:pt x="15110" y="10491"/>
                  <a:pt x="15249" y="10478"/>
                  <a:pt x="15329" y="10418"/>
                </a:cubicBezTo>
                <a:cubicBezTo>
                  <a:pt x="15412" y="10356"/>
                  <a:pt x="15425" y="10240"/>
                  <a:pt x="15429" y="10145"/>
                </a:cubicBezTo>
                <a:cubicBezTo>
                  <a:pt x="15432" y="10054"/>
                  <a:pt x="15410" y="9945"/>
                  <a:pt x="15304" y="9922"/>
                </a:cubicBezTo>
                <a:cubicBezTo>
                  <a:pt x="15241" y="9908"/>
                  <a:pt x="15083" y="9902"/>
                  <a:pt x="15032" y="9947"/>
                </a:cubicBezTo>
                <a:cubicBezTo>
                  <a:pt x="15032" y="9955"/>
                  <a:pt x="15032" y="9963"/>
                  <a:pt x="15032" y="9971"/>
                </a:cubicBezTo>
              </a:path>
              <a:path w="4093" h="1415">
                <a:moveTo>
                  <a:pt x="15776" y="9922"/>
                </a:moveTo>
                <a:cubicBezTo>
                  <a:pt x="15661" y="9922"/>
                  <a:pt x="15526" y="9897"/>
                  <a:pt x="15429" y="9947"/>
                </a:cubicBezTo>
                <a:cubicBezTo>
                  <a:pt x="15449" y="10056"/>
                  <a:pt x="15495" y="10089"/>
                  <a:pt x="15577" y="10170"/>
                </a:cubicBezTo>
                <a:cubicBezTo>
                  <a:pt x="15626" y="10219"/>
                  <a:pt x="15754" y="10304"/>
                  <a:pt x="15726" y="10393"/>
                </a:cubicBezTo>
                <a:cubicBezTo>
                  <a:pt x="15698" y="10484"/>
                  <a:pt x="15574" y="10424"/>
                  <a:pt x="15528" y="10393"/>
                </a:cubicBezTo>
                <a:cubicBezTo>
                  <a:pt x="15453" y="10337"/>
                  <a:pt x="15440" y="10333"/>
                  <a:pt x="15404" y="10294"/>
                </a:cubicBezTo>
              </a:path>
              <a:path w="4093" h="1415">
                <a:moveTo>
                  <a:pt x="16123" y="9897"/>
                </a:moveTo>
                <a:cubicBezTo>
                  <a:pt x="16209" y="10155"/>
                  <a:pt x="16287" y="10183"/>
                  <a:pt x="16470" y="10393"/>
                </a:cubicBezTo>
                <a:cubicBezTo>
                  <a:pt x="16527" y="10459"/>
                  <a:pt x="16546" y="10496"/>
                  <a:pt x="16619" y="10542"/>
                </a:cubicBezTo>
              </a:path>
              <a:path w="4093" h="1415">
                <a:moveTo>
                  <a:pt x="16520" y="9872"/>
                </a:moveTo>
                <a:cubicBezTo>
                  <a:pt x="16399" y="9953"/>
                  <a:pt x="16343" y="10015"/>
                  <a:pt x="16272" y="10145"/>
                </a:cubicBezTo>
                <a:cubicBezTo>
                  <a:pt x="16208" y="10262"/>
                  <a:pt x="16163" y="10384"/>
                  <a:pt x="16098" y="10492"/>
                </a:cubicBezTo>
                <a:cubicBezTo>
                  <a:pt x="16074" y="10540"/>
                  <a:pt x="16066" y="10555"/>
                  <a:pt x="16073" y="10592"/>
                </a:cubicBezTo>
              </a:path>
              <a:path w="4093" h="1415">
                <a:moveTo>
                  <a:pt x="16768" y="10071"/>
                </a:moveTo>
                <a:cubicBezTo>
                  <a:pt x="16925" y="10071"/>
                  <a:pt x="16950" y="10071"/>
                  <a:pt x="17041" y="10071"/>
                </a:cubicBezTo>
              </a:path>
              <a:path w="4093" h="1415">
                <a:moveTo>
                  <a:pt x="16768" y="10244"/>
                </a:moveTo>
                <a:cubicBezTo>
                  <a:pt x="16881" y="10320"/>
                  <a:pt x="16994" y="10294"/>
                  <a:pt x="17140" y="10294"/>
                </a:cubicBezTo>
              </a:path>
              <a:path w="4093" h="1415">
                <a:moveTo>
                  <a:pt x="17735" y="9723"/>
                </a:moveTo>
                <a:cubicBezTo>
                  <a:pt x="17735" y="9903"/>
                  <a:pt x="17704" y="10121"/>
                  <a:pt x="17760" y="10294"/>
                </a:cubicBezTo>
                <a:cubicBezTo>
                  <a:pt x="17784" y="10342"/>
                  <a:pt x="17792" y="10356"/>
                  <a:pt x="17785" y="10393"/>
                </a:cubicBezTo>
              </a:path>
              <a:path w="4093" h="1415">
                <a:moveTo>
                  <a:pt x="17438" y="10319"/>
                </a:moveTo>
                <a:cubicBezTo>
                  <a:pt x="17597" y="10279"/>
                  <a:pt x="17717" y="10309"/>
                  <a:pt x="17884" y="10319"/>
                </a:cubicBezTo>
                <a:cubicBezTo>
                  <a:pt x="17993" y="10319"/>
                  <a:pt x="18020" y="10324"/>
                  <a:pt x="18083" y="10294"/>
                </a:cubicBezTo>
              </a:path>
              <a:path w="4093" h="1415">
                <a:moveTo>
                  <a:pt x="17686" y="10641"/>
                </a:moveTo>
                <a:cubicBezTo>
                  <a:pt x="17784" y="10603"/>
                  <a:pt x="17898" y="10522"/>
                  <a:pt x="18008" y="10542"/>
                </a:cubicBezTo>
                <a:cubicBezTo>
                  <a:pt x="18096" y="10558"/>
                  <a:pt x="18083" y="10623"/>
                  <a:pt x="18083" y="10691"/>
                </a:cubicBezTo>
                <a:cubicBezTo>
                  <a:pt x="18083" y="10807"/>
                  <a:pt x="18056" y="10895"/>
                  <a:pt x="17983" y="10988"/>
                </a:cubicBezTo>
                <a:cubicBezTo>
                  <a:pt x="17935" y="11049"/>
                  <a:pt x="17876" y="11099"/>
                  <a:pt x="17810" y="11137"/>
                </a:cubicBezTo>
                <a:cubicBezTo>
                  <a:pt x="17767" y="11066"/>
                  <a:pt x="17786" y="11030"/>
                  <a:pt x="17859" y="10988"/>
                </a:cubicBezTo>
                <a:cubicBezTo>
                  <a:pt x="17939" y="10941"/>
                  <a:pt x="18121" y="11015"/>
                  <a:pt x="18207" y="11038"/>
                </a:cubicBezTo>
                <a:cubicBezTo>
                  <a:pt x="18313" y="11066"/>
                  <a:pt x="18395" y="11099"/>
                  <a:pt x="18504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Ink 11"/>
          <p:cNvSpPr/>
          <p:nvPr/>
        </p:nvSpPr>
        <p:spPr>
          <a:xfrm>
            <a:off x="4581360" y="3963960"/>
            <a:ext cx="2286000" cy="662040"/>
          </a:xfrm>
          <a:custGeom>
            <a:avLst/>
            <a:gdLst/>
            <a:ahLst/>
            <a:rect l="l" t="t" r="r" b="b"/>
            <a:pathLst>
              <a:path w="6351" h="1837">
                <a:moveTo>
                  <a:pt x="13122" y="11286"/>
                </a:moveTo>
                <a:cubicBezTo>
                  <a:pt x="13130" y="11356"/>
                  <a:pt x="13146" y="11412"/>
                  <a:pt x="13146" y="11485"/>
                </a:cubicBezTo>
                <a:cubicBezTo>
                  <a:pt x="13137" y="11421"/>
                  <a:pt x="13116" y="11364"/>
                  <a:pt x="13072" y="11311"/>
                </a:cubicBezTo>
                <a:cubicBezTo>
                  <a:pt x="13014" y="11240"/>
                  <a:pt x="12951" y="11304"/>
                  <a:pt x="12898" y="11336"/>
                </a:cubicBezTo>
                <a:cubicBezTo>
                  <a:pt x="12819" y="11384"/>
                  <a:pt x="12780" y="11414"/>
                  <a:pt x="12750" y="11485"/>
                </a:cubicBezTo>
                <a:cubicBezTo>
                  <a:pt x="12711" y="11579"/>
                  <a:pt x="12714" y="11709"/>
                  <a:pt x="12750" y="11807"/>
                </a:cubicBezTo>
                <a:cubicBezTo>
                  <a:pt x="12794" y="11927"/>
                  <a:pt x="12938" y="12008"/>
                  <a:pt x="13047" y="12055"/>
                </a:cubicBezTo>
                <a:cubicBezTo>
                  <a:pt x="13122" y="12080"/>
                  <a:pt x="13146" y="12088"/>
                  <a:pt x="13196" y="12055"/>
                </a:cubicBezTo>
              </a:path>
              <a:path w="6351" h="1837">
                <a:moveTo>
                  <a:pt x="13419" y="11509"/>
                </a:moveTo>
                <a:cubicBezTo>
                  <a:pt x="13374" y="11632"/>
                  <a:pt x="13273" y="11781"/>
                  <a:pt x="13370" y="11906"/>
                </a:cubicBezTo>
                <a:cubicBezTo>
                  <a:pt x="13469" y="12034"/>
                  <a:pt x="13523" y="12030"/>
                  <a:pt x="13667" y="12030"/>
                </a:cubicBezTo>
                <a:cubicBezTo>
                  <a:pt x="13752" y="12030"/>
                  <a:pt x="13810" y="11942"/>
                  <a:pt x="13816" y="11857"/>
                </a:cubicBezTo>
                <a:cubicBezTo>
                  <a:pt x="13829" y="11677"/>
                  <a:pt x="13813" y="11538"/>
                  <a:pt x="13667" y="11435"/>
                </a:cubicBezTo>
                <a:cubicBezTo>
                  <a:pt x="13573" y="11369"/>
                  <a:pt x="13477" y="11357"/>
                  <a:pt x="13370" y="11385"/>
                </a:cubicBezTo>
                <a:cubicBezTo>
                  <a:pt x="13322" y="11409"/>
                  <a:pt x="13305" y="11415"/>
                  <a:pt x="13320" y="11460"/>
                </a:cubicBezTo>
                <a:cubicBezTo>
                  <a:pt x="13370" y="11534"/>
                  <a:pt x="13391" y="11592"/>
                  <a:pt x="13494" y="11609"/>
                </a:cubicBezTo>
                <a:cubicBezTo>
                  <a:pt x="13568" y="11617"/>
                  <a:pt x="13643" y="11625"/>
                  <a:pt x="13717" y="11633"/>
                </a:cubicBezTo>
              </a:path>
              <a:path w="6351" h="1837">
                <a:moveTo>
                  <a:pt x="14163" y="11460"/>
                </a:moveTo>
                <a:cubicBezTo>
                  <a:pt x="14081" y="11443"/>
                  <a:pt x="14023" y="11435"/>
                  <a:pt x="13940" y="11435"/>
                </a:cubicBezTo>
                <a:cubicBezTo>
                  <a:pt x="13963" y="11551"/>
                  <a:pt x="14022" y="11612"/>
                  <a:pt x="14089" y="11708"/>
                </a:cubicBezTo>
                <a:cubicBezTo>
                  <a:pt x="14156" y="11804"/>
                  <a:pt x="14221" y="11871"/>
                  <a:pt x="14263" y="11981"/>
                </a:cubicBezTo>
                <a:cubicBezTo>
                  <a:pt x="14274" y="12010"/>
                  <a:pt x="14296" y="12138"/>
                  <a:pt x="14238" y="12154"/>
                </a:cubicBezTo>
                <a:cubicBezTo>
                  <a:pt x="14168" y="12173"/>
                  <a:pt x="14055" y="12153"/>
                  <a:pt x="13990" y="12129"/>
                </a:cubicBezTo>
                <a:cubicBezTo>
                  <a:pt x="13925" y="12105"/>
                  <a:pt x="13919" y="12063"/>
                  <a:pt x="13891" y="12005"/>
                </a:cubicBezTo>
              </a:path>
              <a:path w="6351" h="1837">
                <a:moveTo>
                  <a:pt x="14734" y="11013"/>
                </a:moveTo>
                <a:cubicBezTo>
                  <a:pt x="14667" y="11156"/>
                  <a:pt x="14601" y="11326"/>
                  <a:pt x="14585" y="11485"/>
                </a:cubicBezTo>
                <a:cubicBezTo>
                  <a:pt x="14568" y="11655"/>
                  <a:pt x="14582" y="11838"/>
                  <a:pt x="14610" y="12005"/>
                </a:cubicBezTo>
                <a:cubicBezTo>
                  <a:pt x="14638" y="12172"/>
                  <a:pt x="14675" y="12328"/>
                  <a:pt x="14759" y="12477"/>
                </a:cubicBezTo>
                <a:cubicBezTo>
                  <a:pt x="14806" y="12548"/>
                  <a:pt x="14819" y="12572"/>
                  <a:pt x="14883" y="12576"/>
                </a:cubicBezTo>
              </a:path>
              <a:path w="6351" h="1837">
                <a:moveTo>
                  <a:pt x="14808" y="11261"/>
                </a:moveTo>
                <a:cubicBezTo>
                  <a:pt x="14912" y="11181"/>
                  <a:pt x="14974" y="11187"/>
                  <a:pt x="15106" y="11187"/>
                </a:cubicBezTo>
                <a:cubicBezTo>
                  <a:pt x="15180" y="11187"/>
                  <a:pt x="15255" y="11187"/>
                  <a:pt x="15329" y="11187"/>
                </a:cubicBezTo>
              </a:path>
              <a:path w="6351" h="1837">
                <a:moveTo>
                  <a:pt x="15032" y="11311"/>
                </a:moveTo>
                <a:cubicBezTo>
                  <a:pt x="15016" y="11514"/>
                  <a:pt x="14991" y="11474"/>
                  <a:pt x="15056" y="11609"/>
                </a:cubicBezTo>
              </a:path>
              <a:path w="6351" h="1837">
                <a:moveTo>
                  <a:pt x="15180" y="11112"/>
                </a:moveTo>
                <a:cubicBezTo>
                  <a:pt x="15193" y="11286"/>
                  <a:pt x="15190" y="11426"/>
                  <a:pt x="15230" y="11584"/>
                </a:cubicBezTo>
              </a:path>
              <a:path w="6351" h="1837">
                <a:moveTo>
                  <a:pt x="15032" y="11757"/>
                </a:moveTo>
                <a:cubicBezTo>
                  <a:pt x="15127" y="11757"/>
                  <a:pt x="15213" y="11765"/>
                  <a:pt x="15304" y="11733"/>
                </a:cubicBezTo>
                <a:cubicBezTo>
                  <a:pt x="15346" y="11716"/>
                  <a:pt x="15387" y="11700"/>
                  <a:pt x="15429" y="11683"/>
                </a:cubicBezTo>
              </a:path>
              <a:path w="6351" h="1837">
                <a:moveTo>
                  <a:pt x="15131" y="11881"/>
                </a:moveTo>
                <a:cubicBezTo>
                  <a:pt x="15211" y="11881"/>
                  <a:pt x="15308" y="11862"/>
                  <a:pt x="15379" y="11906"/>
                </a:cubicBezTo>
                <a:cubicBezTo>
                  <a:pt x="15387" y="11914"/>
                  <a:pt x="15396" y="11923"/>
                  <a:pt x="15404" y="11931"/>
                </a:cubicBezTo>
                <a:cubicBezTo>
                  <a:pt x="15363" y="11993"/>
                  <a:pt x="15342" y="11983"/>
                  <a:pt x="15280" y="12030"/>
                </a:cubicBezTo>
                <a:cubicBezTo>
                  <a:pt x="15252" y="12058"/>
                  <a:pt x="15238" y="12067"/>
                  <a:pt x="15205" y="12055"/>
                </a:cubicBezTo>
                <a:cubicBezTo>
                  <a:pt x="15287" y="12078"/>
                  <a:pt x="15352" y="12091"/>
                  <a:pt x="15429" y="12129"/>
                </a:cubicBezTo>
                <a:cubicBezTo>
                  <a:pt x="15491" y="12160"/>
                  <a:pt x="15531" y="12230"/>
                  <a:pt x="15503" y="12303"/>
                </a:cubicBezTo>
                <a:cubicBezTo>
                  <a:pt x="15481" y="12360"/>
                  <a:pt x="15431" y="12399"/>
                  <a:pt x="15379" y="12427"/>
                </a:cubicBezTo>
                <a:cubicBezTo>
                  <a:pt x="15277" y="12481"/>
                  <a:pt x="15188" y="12447"/>
                  <a:pt x="15106" y="12378"/>
                </a:cubicBezTo>
                <a:cubicBezTo>
                  <a:pt x="15049" y="12321"/>
                  <a:pt x="15030" y="12294"/>
                  <a:pt x="15032" y="12229"/>
                </a:cubicBezTo>
              </a:path>
              <a:path w="6351" h="1837">
                <a:moveTo>
                  <a:pt x="15453" y="11013"/>
                </a:moveTo>
                <a:cubicBezTo>
                  <a:pt x="15612" y="11191"/>
                  <a:pt x="15675" y="11331"/>
                  <a:pt x="15751" y="11559"/>
                </a:cubicBezTo>
                <a:cubicBezTo>
                  <a:pt x="15816" y="11754"/>
                  <a:pt x="15929" y="11941"/>
                  <a:pt x="15925" y="12154"/>
                </a:cubicBezTo>
                <a:cubicBezTo>
                  <a:pt x="15922" y="12288"/>
                  <a:pt x="15888" y="12433"/>
                  <a:pt x="15825" y="12551"/>
                </a:cubicBezTo>
                <a:cubicBezTo>
                  <a:pt x="15779" y="12637"/>
                  <a:pt x="15741" y="12722"/>
                  <a:pt x="15627" y="12700"/>
                </a:cubicBezTo>
                <a:cubicBezTo>
                  <a:pt x="15610" y="12692"/>
                  <a:pt x="15594" y="12683"/>
                  <a:pt x="15577" y="12675"/>
                </a:cubicBezTo>
              </a:path>
              <a:path w="6351" h="1837">
                <a:moveTo>
                  <a:pt x="16123" y="11881"/>
                </a:moveTo>
                <a:cubicBezTo>
                  <a:pt x="16232" y="11861"/>
                  <a:pt x="16294" y="11861"/>
                  <a:pt x="16396" y="11881"/>
                </a:cubicBezTo>
              </a:path>
              <a:path w="6351" h="1837">
                <a:moveTo>
                  <a:pt x="16148" y="12179"/>
                </a:moveTo>
                <a:cubicBezTo>
                  <a:pt x="16288" y="12179"/>
                  <a:pt x="16313" y="12179"/>
                  <a:pt x="16396" y="12179"/>
                </a:cubicBezTo>
              </a:path>
              <a:path w="6351" h="1837">
                <a:moveTo>
                  <a:pt x="16892" y="11385"/>
                </a:moveTo>
                <a:cubicBezTo>
                  <a:pt x="16892" y="11521"/>
                  <a:pt x="16885" y="11649"/>
                  <a:pt x="16917" y="11782"/>
                </a:cubicBezTo>
                <a:cubicBezTo>
                  <a:pt x="16955" y="11916"/>
                  <a:pt x="16952" y="11936"/>
                  <a:pt x="16991" y="12005"/>
                </a:cubicBezTo>
              </a:path>
              <a:path w="6351" h="1837">
                <a:moveTo>
                  <a:pt x="16718" y="12005"/>
                </a:moveTo>
                <a:cubicBezTo>
                  <a:pt x="16809" y="11976"/>
                  <a:pt x="16894" y="11981"/>
                  <a:pt x="16991" y="11981"/>
                </a:cubicBezTo>
                <a:cubicBezTo>
                  <a:pt x="17085" y="11981"/>
                  <a:pt x="17171" y="11963"/>
                  <a:pt x="17264" y="11956"/>
                </a:cubicBezTo>
              </a:path>
              <a:path w="6351" h="1837">
                <a:moveTo>
                  <a:pt x="17016" y="12303"/>
                </a:moveTo>
                <a:cubicBezTo>
                  <a:pt x="17063" y="12265"/>
                  <a:pt x="17111" y="12233"/>
                  <a:pt x="17165" y="12204"/>
                </a:cubicBezTo>
                <a:cubicBezTo>
                  <a:pt x="17226" y="12171"/>
                  <a:pt x="17289" y="12172"/>
                  <a:pt x="17338" y="12229"/>
                </a:cubicBezTo>
                <a:cubicBezTo>
                  <a:pt x="17420" y="12324"/>
                  <a:pt x="17382" y="12406"/>
                  <a:pt x="17338" y="12502"/>
                </a:cubicBezTo>
                <a:cubicBezTo>
                  <a:pt x="17281" y="12627"/>
                  <a:pt x="17178" y="12716"/>
                  <a:pt x="17041" y="12750"/>
                </a:cubicBezTo>
                <a:cubicBezTo>
                  <a:pt x="16979" y="12750"/>
                  <a:pt x="16964" y="12760"/>
                  <a:pt x="16942" y="12725"/>
                </a:cubicBezTo>
                <a:cubicBezTo>
                  <a:pt x="16983" y="12650"/>
                  <a:pt x="17018" y="12612"/>
                  <a:pt x="17115" y="12626"/>
                </a:cubicBezTo>
                <a:cubicBezTo>
                  <a:pt x="17228" y="12643"/>
                  <a:pt x="17335" y="12709"/>
                  <a:pt x="17438" y="12750"/>
                </a:cubicBezTo>
                <a:cubicBezTo>
                  <a:pt x="17571" y="12803"/>
                  <a:pt x="17605" y="12805"/>
                  <a:pt x="17735" y="12750"/>
                </a:cubicBezTo>
              </a:path>
              <a:path w="6351" h="1837">
                <a:moveTo>
                  <a:pt x="18231" y="12477"/>
                </a:moveTo>
                <a:cubicBezTo>
                  <a:pt x="18241" y="12554"/>
                  <a:pt x="18256" y="12626"/>
                  <a:pt x="18281" y="12700"/>
                </a:cubicBezTo>
                <a:cubicBezTo>
                  <a:pt x="18293" y="12736"/>
                  <a:pt x="18329" y="12834"/>
                  <a:pt x="18380" y="12849"/>
                </a:cubicBezTo>
                <a:cubicBezTo>
                  <a:pt x="18459" y="12872"/>
                  <a:pt x="18478" y="12777"/>
                  <a:pt x="18504" y="12725"/>
                </a:cubicBezTo>
                <a:cubicBezTo>
                  <a:pt x="18546" y="12642"/>
                  <a:pt x="18620" y="12563"/>
                  <a:pt x="18653" y="12477"/>
                </a:cubicBezTo>
                <a:cubicBezTo>
                  <a:pt x="18698" y="12360"/>
                  <a:pt x="18780" y="12268"/>
                  <a:pt x="18827" y="12154"/>
                </a:cubicBezTo>
                <a:cubicBezTo>
                  <a:pt x="18877" y="12031"/>
                  <a:pt x="18946" y="11918"/>
                  <a:pt x="19025" y="11807"/>
                </a:cubicBezTo>
                <a:cubicBezTo>
                  <a:pt x="19044" y="11781"/>
                  <a:pt x="19044" y="11790"/>
                  <a:pt x="19075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Ink 12"/>
          <p:cNvSpPr/>
          <p:nvPr/>
        </p:nvSpPr>
        <p:spPr>
          <a:xfrm>
            <a:off x="4643280" y="4643280"/>
            <a:ext cx="2187720" cy="679680"/>
          </a:xfrm>
          <a:custGeom>
            <a:avLst/>
            <a:gdLst/>
            <a:ahLst/>
            <a:rect l="l" t="t" r="r" b="b"/>
            <a:pathLst>
              <a:path w="6079" h="1887">
                <a:moveTo>
                  <a:pt x="13271" y="13395"/>
                </a:moveTo>
                <a:cubicBezTo>
                  <a:pt x="13248" y="13387"/>
                  <a:pt x="13254" y="13328"/>
                  <a:pt x="13196" y="13271"/>
                </a:cubicBezTo>
                <a:cubicBezTo>
                  <a:pt x="13138" y="13214"/>
                  <a:pt x="13101" y="13263"/>
                  <a:pt x="13047" y="13295"/>
                </a:cubicBezTo>
                <a:cubicBezTo>
                  <a:pt x="12971" y="13341"/>
                  <a:pt x="12914" y="13401"/>
                  <a:pt x="12898" y="13494"/>
                </a:cubicBezTo>
                <a:cubicBezTo>
                  <a:pt x="12878" y="13610"/>
                  <a:pt x="12897" y="13765"/>
                  <a:pt x="12948" y="13866"/>
                </a:cubicBezTo>
                <a:cubicBezTo>
                  <a:pt x="13002" y="13974"/>
                  <a:pt x="13109" y="14031"/>
                  <a:pt x="13221" y="14039"/>
                </a:cubicBezTo>
                <a:cubicBezTo>
                  <a:pt x="13246" y="14039"/>
                  <a:pt x="13270" y="14039"/>
                  <a:pt x="13295" y="14039"/>
                </a:cubicBezTo>
              </a:path>
              <a:path w="6079" h="1887">
                <a:moveTo>
                  <a:pt x="13519" y="13593"/>
                </a:moveTo>
                <a:cubicBezTo>
                  <a:pt x="13451" y="13701"/>
                  <a:pt x="13414" y="13756"/>
                  <a:pt x="13444" y="13891"/>
                </a:cubicBezTo>
                <a:cubicBezTo>
                  <a:pt x="13471" y="14013"/>
                  <a:pt x="13538" y="14074"/>
                  <a:pt x="13643" y="14139"/>
                </a:cubicBezTo>
                <a:cubicBezTo>
                  <a:pt x="13720" y="14187"/>
                  <a:pt x="13788" y="14159"/>
                  <a:pt x="13841" y="14089"/>
                </a:cubicBezTo>
                <a:cubicBezTo>
                  <a:pt x="13907" y="14003"/>
                  <a:pt x="13891" y="13891"/>
                  <a:pt x="13891" y="13791"/>
                </a:cubicBezTo>
                <a:cubicBezTo>
                  <a:pt x="13891" y="13668"/>
                  <a:pt x="13843" y="13488"/>
                  <a:pt x="13692" y="13469"/>
                </a:cubicBezTo>
                <a:cubicBezTo>
                  <a:pt x="13460" y="13439"/>
                  <a:pt x="13506" y="13542"/>
                  <a:pt x="13618" y="13643"/>
                </a:cubicBezTo>
              </a:path>
              <a:path w="6079" h="1887">
                <a:moveTo>
                  <a:pt x="14114" y="13419"/>
                </a:moveTo>
                <a:cubicBezTo>
                  <a:pt x="14081" y="13419"/>
                  <a:pt x="14048" y="13419"/>
                  <a:pt x="14015" y="13419"/>
                </a:cubicBezTo>
                <a:cubicBezTo>
                  <a:pt x="14034" y="13497"/>
                  <a:pt x="14082" y="13597"/>
                  <a:pt x="14139" y="13667"/>
                </a:cubicBezTo>
                <a:cubicBezTo>
                  <a:pt x="14223" y="13771"/>
                  <a:pt x="14316" y="13904"/>
                  <a:pt x="14238" y="14039"/>
                </a:cubicBezTo>
                <a:cubicBezTo>
                  <a:pt x="14206" y="14095"/>
                  <a:pt x="14147" y="14111"/>
                  <a:pt x="14089" y="14114"/>
                </a:cubicBezTo>
                <a:cubicBezTo>
                  <a:pt x="14021" y="14118"/>
                  <a:pt x="13936" y="14057"/>
                  <a:pt x="13915" y="13990"/>
                </a:cubicBezTo>
                <a:cubicBezTo>
                  <a:pt x="13915" y="13965"/>
                  <a:pt x="13915" y="13940"/>
                  <a:pt x="13915" y="13915"/>
                </a:cubicBezTo>
              </a:path>
              <a:path w="6079" h="1887">
                <a:moveTo>
                  <a:pt x="14461" y="12948"/>
                </a:moveTo>
                <a:cubicBezTo>
                  <a:pt x="14450" y="13078"/>
                  <a:pt x="14392" y="13168"/>
                  <a:pt x="14362" y="13295"/>
                </a:cubicBezTo>
                <a:cubicBezTo>
                  <a:pt x="14320" y="13476"/>
                  <a:pt x="14285" y="13632"/>
                  <a:pt x="14312" y="13816"/>
                </a:cubicBezTo>
                <a:cubicBezTo>
                  <a:pt x="14342" y="14025"/>
                  <a:pt x="14380" y="14228"/>
                  <a:pt x="14486" y="14412"/>
                </a:cubicBezTo>
                <a:cubicBezTo>
                  <a:pt x="14532" y="14458"/>
                  <a:pt x="14545" y="14472"/>
                  <a:pt x="14585" y="14486"/>
                </a:cubicBezTo>
              </a:path>
              <a:path w="6079" h="1887">
                <a:moveTo>
                  <a:pt x="14759" y="13072"/>
                </a:moveTo>
                <a:cubicBezTo>
                  <a:pt x="14854" y="13056"/>
                  <a:pt x="14931" y="13072"/>
                  <a:pt x="15032" y="13072"/>
                </a:cubicBezTo>
              </a:path>
              <a:path w="6079" h="1887">
                <a:moveTo>
                  <a:pt x="14660" y="13146"/>
                </a:moveTo>
                <a:cubicBezTo>
                  <a:pt x="14611" y="13227"/>
                  <a:pt x="14647" y="13241"/>
                  <a:pt x="14709" y="13295"/>
                </a:cubicBezTo>
                <a:cubicBezTo>
                  <a:pt x="14770" y="13349"/>
                  <a:pt x="14825" y="13412"/>
                  <a:pt x="14883" y="13469"/>
                </a:cubicBezTo>
                <a:cubicBezTo>
                  <a:pt x="14921" y="13507"/>
                  <a:pt x="14930" y="13607"/>
                  <a:pt x="14883" y="13643"/>
                </a:cubicBezTo>
                <a:cubicBezTo>
                  <a:pt x="14845" y="13671"/>
                  <a:pt x="14742" y="13673"/>
                  <a:pt x="14709" y="13643"/>
                </a:cubicBezTo>
                <a:cubicBezTo>
                  <a:pt x="14670" y="13607"/>
                  <a:pt x="14666" y="13540"/>
                  <a:pt x="14660" y="13494"/>
                </a:cubicBezTo>
              </a:path>
              <a:path w="6079" h="1887">
                <a:moveTo>
                  <a:pt x="15056" y="13146"/>
                </a:moveTo>
                <a:cubicBezTo>
                  <a:pt x="15196" y="13180"/>
                  <a:pt x="15290" y="13196"/>
                  <a:pt x="15429" y="13196"/>
                </a:cubicBezTo>
              </a:path>
              <a:path w="6079" h="1887">
                <a:moveTo>
                  <a:pt x="15156" y="13146"/>
                </a:moveTo>
                <a:cubicBezTo>
                  <a:pt x="15081" y="13296"/>
                  <a:pt x="15049" y="13307"/>
                  <a:pt x="15081" y="13444"/>
                </a:cubicBezTo>
                <a:cubicBezTo>
                  <a:pt x="15081" y="13452"/>
                  <a:pt x="15081" y="13461"/>
                  <a:pt x="15081" y="13469"/>
                </a:cubicBezTo>
              </a:path>
              <a:path w="6079" h="1887">
                <a:moveTo>
                  <a:pt x="15354" y="13146"/>
                </a:moveTo>
                <a:cubicBezTo>
                  <a:pt x="15354" y="13266"/>
                  <a:pt x="15356" y="13375"/>
                  <a:pt x="15329" y="13494"/>
                </a:cubicBezTo>
                <a:cubicBezTo>
                  <a:pt x="15307" y="13559"/>
                  <a:pt x="15299" y="13574"/>
                  <a:pt x="15304" y="13618"/>
                </a:cubicBezTo>
              </a:path>
              <a:path w="6079" h="1887">
                <a:moveTo>
                  <a:pt x="14808" y="13692"/>
                </a:moveTo>
                <a:cubicBezTo>
                  <a:pt x="14997" y="13692"/>
                  <a:pt x="15197" y="13713"/>
                  <a:pt x="15379" y="13667"/>
                </a:cubicBezTo>
              </a:path>
              <a:path w="6079" h="1887">
                <a:moveTo>
                  <a:pt x="15032" y="13841"/>
                </a:moveTo>
                <a:cubicBezTo>
                  <a:pt x="15096" y="13907"/>
                  <a:pt x="15147" y="13876"/>
                  <a:pt x="15230" y="13915"/>
                </a:cubicBezTo>
                <a:cubicBezTo>
                  <a:pt x="15267" y="13932"/>
                  <a:pt x="15321" y="14019"/>
                  <a:pt x="15255" y="14039"/>
                </a:cubicBezTo>
                <a:cubicBezTo>
                  <a:pt x="15205" y="14047"/>
                  <a:pt x="15156" y="14056"/>
                  <a:pt x="15106" y="14064"/>
                </a:cubicBezTo>
                <a:cubicBezTo>
                  <a:pt x="15151" y="14115"/>
                  <a:pt x="15240" y="14195"/>
                  <a:pt x="15255" y="14263"/>
                </a:cubicBezTo>
                <a:cubicBezTo>
                  <a:pt x="15271" y="14337"/>
                  <a:pt x="15257" y="14480"/>
                  <a:pt x="15205" y="14536"/>
                </a:cubicBezTo>
                <a:cubicBezTo>
                  <a:pt x="15132" y="14614"/>
                  <a:pt x="15071" y="14531"/>
                  <a:pt x="15032" y="14486"/>
                </a:cubicBezTo>
                <a:cubicBezTo>
                  <a:pt x="14938" y="14379"/>
                  <a:pt x="14956" y="14328"/>
                  <a:pt x="14982" y="14188"/>
                </a:cubicBezTo>
              </a:path>
              <a:path w="6079" h="1887">
                <a:moveTo>
                  <a:pt x="15478" y="12898"/>
                </a:moveTo>
                <a:cubicBezTo>
                  <a:pt x="15620" y="13117"/>
                  <a:pt x="15738" y="13361"/>
                  <a:pt x="15801" y="13618"/>
                </a:cubicBezTo>
                <a:cubicBezTo>
                  <a:pt x="15852" y="13824"/>
                  <a:pt x="15859" y="14030"/>
                  <a:pt x="15825" y="14238"/>
                </a:cubicBezTo>
                <a:cubicBezTo>
                  <a:pt x="15800" y="14393"/>
                  <a:pt x="15727" y="14515"/>
                  <a:pt x="15627" y="14635"/>
                </a:cubicBezTo>
                <a:cubicBezTo>
                  <a:pt x="15556" y="14720"/>
                  <a:pt x="15529" y="14747"/>
                  <a:pt x="15429" y="14709"/>
                </a:cubicBezTo>
              </a:path>
              <a:path w="6079" h="1887">
                <a:moveTo>
                  <a:pt x="15949" y="13767"/>
                </a:moveTo>
                <a:cubicBezTo>
                  <a:pt x="16154" y="13751"/>
                  <a:pt x="16112" y="13725"/>
                  <a:pt x="16247" y="13791"/>
                </a:cubicBezTo>
              </a:path>
              <a:path w="6079" h="1887">
                <a:moveTo>
                  <a:pt x="16024" y="14039"/>
                </a:moveTo>
                <a:cubicBezTo>
                  <a:pt x="16174" y="14064"/>
                  <a:pt x="16217" y="14061"/>
                  <a:pt x="16371" y="14039"/>
                </a:cubicBezTo>
              </a:path>
              <a:path w="6079" h="1887">
                <a:moveTo>
                  <a:pt x="16768" y="13122"/>
                </a:moveTo>
                <a:cubicBezTo>
                  <a:pt x="16801" y="13245"/>
                  <a:pt x="16800" y="13346"/>
                  <a:pt x="16818" y="13469"/>
                </a:cubicBezTo>
                <a:cubicBezTo>
                  <a:pt x="16840" y="13561"/>
                  <a:pt x="16851" y="13586"/>
                  <a:pt x="16818" y="13643"/>
                </a:cubicBezTo>
              </a:path>
              <a:path w="6079" h="1887">
                <a:moveTo>
                  <a:pt x="16594" y="13767"/>
                </a:moveTo>
                <a:cubicBezTo>
                  <a:pt x="16731" y="13786"/>
                  <a:pt x="16853" y="13791"/>
                  <a:pt x="16991" y="13791"/>
                </a:cubicBezTo>
                <a:cubicBezTo>
                  <a:pt x="17075" y="13791"/>
                  <a:pt x="17095" y="13797"/>
                  <a:pt x="17140" y="13767"/>
                </a:cubicBezTo>
              </a:path>
              <a:path w="6079" h="1887">
                <a:moveTo>
                  <a:pt x="16768" y="14039"/>
                </a:moveTo>
                <a:cubicBezTo>
                  <a:pt x="16842" y="14012"/>
                  <a:pt x="16913" y="13968"/>
                  <a:pt x="16991" y="13965"/>
                </a:cubicBezTo>
                <a:cubicBezTo>
                  <a:pt x="17086" y="13962"/>
                  <a:pt x="17146" y="13982"/>
                  <a:pt x="17165" y="14089"/>
                </a:cubicBezTo>
                <a:cubicBezTo>
                  <a:pt x="17182" y="14185"/>
                  <a:pt x="17154" y="14339"/>
                  <a:pt x="17090" y="14412"/>
                </a:cubicBezTo>
                <a:cubicBezTo>
                  <a:pt x="17060" y="14446"/>
                  <a:pt x="16912" y="14550"/>
                  <a:pt x="16867" y="14560"/>
                </a:cubicBezTo>
                <a:cubicBezTo>
                  <a:pt x="16801" y="14560"/>
                  <a:pt x="16784" y="14560"/>
                  <a:pt x="16743" y="14560"/>
                </a:cubicBezTo>
                <a:cubicBezTo>
                  <a:pt x="16787" y="14485"/>
                  <a:pt x="16825" y="14444"/>
                  <a:pt x="16917" y="14436"/>
                </a:cubicBezTo>
                <a:cubicBezTo>
                  <a:pt x="17057" y="14424"/>
                  <a:pt x="17163" y="14497"/>
                  <a:pt x="17264" y="14585"/>
                </a:cubicBezTo>
                <a:cubicBezTo>
                  <a:pt x="17334" y="14646"/>
                  <a:pt x="17397" y="14718"/>
                  <a:pt x="17462" y="14784"/>
                </a:cubicBezTo>
              </a:path>
              <a:path w="6079" h="1887">
                <a:moveTo>
                  <a:pt x="17711" y="13940"/>
                </a:moveTo>
                <a:cubicBezTo>
                  <a:pt x="17782" y="14043"/>
                  <a:pt x="17835" y="14111"/>
                  <a:pt x="17859" y="14238"/>
                </a:cubicBezTo>
                <a:cubicBezTo>
                  <a:pt x="17885" y="14378"/>
                  <a:pt x="17906" y="14503"/>
                  <a:pt x="17959" y="14635"/>
                </a:cubicBezTo>
                <a:cubicBezTo>
                  <a:pt x="17978" y="14682"/>
                  <a:pt x="18007" y="14718"/>
                  <a:pt x="18033" y="14759"/>
                </a:cubicBezTo>
                <a:cubicBezTo>
                  <a:pt x="18069" y="14703"/>
                  <a:pt x="18101" y="14646"/>
                  <a:pt x="18132" y="14585"/>
                </a:cubicBezTo>
                <a:cubicBezTo>
                  <a:pt x="18183" y="14484"/>
                  <a:pt x="18258" y="14353"/>
                  <a:pt x="18331" y="14263"/>
                </a:cubicBezTo>
                <a:cubicBezTo>
                  <a:pt x="18437" y="14132"/>
                  <a:pt x="18538" y="13982"/>
                  <a:pt x="18628" y="13841"/>
                </a:cubicBezTo>
                <a:cubicBezTo>
                  <a:pt x="18698" y="13731"/>
                  <a:pt x="18755" y="13599"/>
                  <a:pt x="18827" y="13494"/>
                </a:cubicBezTo>
                <a:cubicBezTo>
                  <a:pt x="18882" y="13414"/>
                  <a:pt x="18946" y="13312"/>
                  <a:pt x="18976" y="13221"/>
                </a:cubicBezTo>
                <a:cubicBezTo>
                  <a:pt x="18976" y="13171"/>
                  <a:pt x="18976" y="13155"/>
                  <a:pt x="18976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 3ta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x-1=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12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5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12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34" name="Ink 4"/>
          <p:cNvSpPr/>
          <p:nvPr/>
        </p:nvSpPr>
        <p:spPr>
          <a:xfrm>
            <a:off x="5786280" y="71280"/>
            <a:ext cx="3349800" cy="723960"/>
          </a:xfrm>
          <a:custGeom>
            <a:avLst/>
            <a:gdLst/>
            <a:ahLst/>
            <a:rect l="l" t="t" r="r" b="b"/>
            <a:pathLst>
              <a:path w="9303" h="2011">
                <a:moveTo>
                  <a:pt x="16644" y="645"/>
                </a:moveTo>
                <a:cubicBezTo>
                  <a:pt x="16644" y="800"/>
                  <a:pt x="16686" y="1020"/>
                  <a:pt x="16594" y="1141"/>
                </a:cubicBezTo>
              </a:path>
              <a:path w="9303" h="2011">
                <a:moveTo>
                  <a:pt x="16073" y="1315"/>
                </a:moveTo>
                <a:cubicBezTo>
                  <a:pt x="16235" y="1341"/>
                  <a:pt x="16291" y="1308"/>
                  <a:pt x="16446" y="1290"/>
                </a:cubicBezTo>
                <a:cubicBezTo>
                  <a:pt x="16583" y="1274"/>
                  <a:pt x="16730" y="1269"/>
                  <a:pt x="16867" y="1265"/>
                </a:cubicBezTo>
                <a:cubicBezTo>
                  <a:pt x="16938" y="1263"/>
                  <a:pt x="17170" y="1303"/>
                  <a:pt x="17214" y="1290"/>
                </a:cubicBezTo>
                <a:cubicBezTo>
                  <a:pt x="17214" y="1282"/>
                  <a:pt x="17214" y="1273"/>
                  <a:pt x="17214" y="1265"/>
                </a:cubicBezTo>
              </a:path>
              <a:path w="9303" h="2011">
                <a:moveTo>
                  <a:pt x="16520" y="1612"/>
                </a:moveTo>
                <a:cubicBezTo>
                  <a:pt x="16561" y="1572"/>
                  <a:pt x="16610" y="1526"/>
                  <a:pt x="16669" y="1513"/>
                </a:cubicBezTo>
                <a:cubicBezTo>
                  <a:pt x="16752" y="1494"/>
                  <a:pt x="16858" y="1524"/>
                  <a:pt x="16842" y="1637"/>
                </a:cubicBezTo>
                <a:cubicBezTo>
                  <a:pt x="16821" y="1781"/>
                  <a:pt x="16734" y="1880"/>
                  <a:pt x="16644" y="1984"/>
                </a:cubicBezTo>
                <a:cubicBezTo>
                  <a:pt x="16586" y="2051"/>
                  <a:pt x="16533" y="2119"/>
                  <a:pt x="16470" y="2183"/>
                </a:cubicBezTo>
                <a:cubicBezTo>
                  <a:pt x="16462" y="2191"/>
                  <a:pt x="16454" y="2200"/>
                  <a:pt x="16446" y="2208"/>
                </a:cubicBezTo>
                <a:cubicBezTo>
                  <a:pt x="16548" y="2200"/>
                  <a:pt x="16644" y="2170"/>
                  <a:pt x="16743" y="2158"/>
                </a:cubicBezTo>
                <a:cubicBezTo>
                  <a:pt x="16834" y="2147"/>
                  <a:pt x="16883" y="2125"/>
                  <a:pt x="16966" y="2084"/>
                </a:cubicBezTo>
              </a:path>
              <a:path w="9303" h="2011">
                <a:moveTo>
                  <a:pt x="17636" y="967"/>
                </a:moveTo>
                <a:cubicBezTo>
                  <a:pt x="17636" y="1012"/>
                  <a:pt x="17639" y="1025"/>
                  <a:pt x="17611" y="1042"/>
                </a:cubicBezTo>
              </a:path>
              <a:path w="9303" h="2011">
                <a:moveTo>
                  <a:pt x="17587" y="1612"/>
                </a:moveTo>
                <a:cubicBezTo>
                  <a:pt x="17587" y="1674"/>
                  <a:pt x="17596" y="1689"/>
                  <a:pt x="17562" y="1712"/>
                </a:cubicBezTo>
              </a:path>
              <a:path w="9303" h="2011">
                <a:moveTo>
                  <a:pt x="17338" y="1389"/>
                </a:moveTo>
                <a:cubicBezTo>
                  <a:pt x="17386" y="1360"/>
                  <a:pt x="17476" y="1348"/>
                  <a:pt x="17537" y="1339"/>
                </a:cubicBezTo>
                <a:cubicBezTo>
                  <a:pt x="17634" y="1325"/>
                  <a:pt x="17738" y="1319"/>
                  <a:pt x="17835" y="1315"/>
                </a:cubicBezTo>
                <a:cubicBezTo>
                  <a:pt x="17851" y="1315"/>
                  <a:pt x="17868" y="1315"/>
                  <a:pt x="17884" y="1315"/>
                </a:cubicBezTo>
              </a:path>
              <a:path w="9303" h="2011">
                <a:moveTo>
                  <a:pt x="18231" y="868"/>
                </a:moveTo>
                <a:cubicBezTo>
                  <a:pt x="18259" y="980"/>
                  <a:pt x="18225" y="1109"/>
                  <a:pt x="18256" y="1215"/>
                </a:cubicBezTo>
                <a:cubicBezTo>
                  <a:pt x="18279" y="1291"/>
                  <a:pt x="18256" y="1129"/>
                  <a:pt x="18256" y="1091"/>
                </a:cubicBezTo>
                <a:cubicBezTo>
                  <a:pt x="18256" y="987"/>
                  <a:pt x="18234" y="896"/>
                  <a:pt x="18231" y="794"/>
                </a:cubicBezTo>
                <a:cubicBezTo>
                  <a:pt x="18228" y="681"/>
                  <a:pt x="18235" y="649"/>
                  <a:pt x="18306" y="571"/>
                </a:cubicBezTo>
                <a:cubicBezTo>
                  <a:pt x="18363" y="508"/>
                  <a:pt x="18454" y="502"/>
                  <a:pt x="18529" y="471"/>
                </a:cubicBezTo>
                <a:cubicBezTo>
                  <a:pt x="18594" y="444"/>
                  <a:pt x="18660" y="411"/>
                  <a:pt x="18728" y="397"/>
                </a:cubicBezTo>
              </a:path>
              <a:path w="9303" h="2011">
                <a:moveTo>
                  <a:pt x="18504" y="670"/>
                </a:moveTo>
                <a:cubicBezTo>
                  <a:pt x="18583" y="670"/>
                  <a:pt x="18651" y="654"/>
                  <a:pt x="18728" y="645"/>
                </a:cubicBezTo>
                <a:cubicBezTo>
                  <a:pt x="18750" y="748"/>
                  <a:pt x="18719" y="842"/>
                  <a:pt x="18628" y="918"/>
                </a:cubicBezTo>
                <a:cubicBezTo>
                  <a:pt x="18538" y="994"/>
                  <a:pt x="18676" y="878"/>
                  <a:pt x="18752" y="918"/>
                </a:cubicBezTo>
                <a:cubicBezTo>
                  <a:pt x="18823" y="955"/>
                  <a:pt x="18874" y="1036"/>
                  <a:pt x="18852" y="1116"/>
                </a:cubicBezTo>
                <a:cubicBezTo>
                  <a:pt x="18827" y="1207"/>
                  <a:pt x="18769" y="1257"/>
                  <a:pt x="18678" y="1265"/>
                </a:cubicBezTo>
                <a:cubicBezTo>
                  <a:pt x="18612" y="1265"/>
                  <a:pt x="18595" y="1265"/>
                  <a:pt x="18554" y="1265"/>
                </a:cubicBezTo>
              </a:path>
              <a:path w="9303" h="2011">
                <a:moveTo>
                  <a:pt x="18256" y="1339"/>
                </a:moveTo>
                <a:cubicBezTo>
                  <a:pt x="18355" y="1327"/>
                  <a:pt x="18453" y="1313"/>
                  <a:pt x="18554" y="1290"/>
                </a:cubicBezTo>
                <a:cubicBezTo>
                  <a:pt x="18688" y="1260"/>
                  <a:pt x="18813" y="1223"/>
                  <a:pt x="18951" y="1215"/>
                </a:cubicBezTo>
                <a:cubicBezTo>
                  <a:pt x="18959" y="1215"/>
                  <a:pt x="18968" y="1215"/>
                  <a:pt x="18976" y="1215"/>
                </a:cubicBezTo>
              </a:path>
              <a:path w="9303" h="2011">
                <a:moveTo>
                  <a:pt x="18405" y="1662"/>
                </a:moveTo>
                <a:cubicBezTo>
                  <a:pt x="18446" y="1621"/>
                  <a:pt x="18505" y="1564"/>
                  <a:pt x="18554" y="1538"/>
                </a:cubicBezTo>
                <a:cubicBezTo>
                  <a:pt x="18628" y="1499"/>
                  <a:pt x="18726" y="1452"/>
                  <a:pt x="18752" y="1563"/>
                </a:cubicBezTo>
                <a:cubicBezTo>
                  <a:pt x="18770" y="1639"/>
                  <a:pt x="18761" y="1788"/>
                  <a:pt x="18728" y="1860"/>
                </a:cubicBezTo>
                <a:cubicBezTo>
                  <a:pt x="18680" y="1964"/>
                  <a:pt x="18634" y="2011"/>
                  <a:pt x="18554" y="2084"/>
                </a:cubicBezTo>
                <a:cubicBezTo>
                  <a:pt x="18529" y="2108"/>
                  <a:pt x="18520" y="2116"/>
                  <a:pt x="18504" y="2133"/>
                </a:cubicBezTo>
                <a:cubicBezTo>
                  <a:pt x="18592" y="2177"/>
                  <a:pt x="18638" y="2141"/>
                  <a:pt x="18728" y="2108"/>
                </a:cubicBezTo>
                <a:cubicBezTo>
                  <a:pt x="18839" y="2067"/>
                  <a:pt x="18959" y="2116"/>
                  <a:pt x="18926" y="2034"/>
                </a:cubicBezTo>
              </a:path>
              <a:path w="9303" h="2011">
                <a:moveTo>
                  <a:pt x="19273" y="1364"/>
                </a:moveTo>
                <a:cubicBezTo>
                  <a:pt x="19357" y="1336"/>
                  <a:pt x="19431" y="1339"/>
                  <a:pt x="19521" y="1339"/>
                </a:cubicBezTo>
                <a:cubicBezTo>
                  <a:pt x="19546" y="1339"/>
                  <a:pt x="19571" y="1339"/>
                  <a:pt x="19596" y="1339"/>
                </a:cubicBezTo>
              </a:path>
              <a:path w="9303" h="2011">
                <a:moveTo>
                  <a:pt x="19323" y="1538"/>
                </a:moveTo>
                <a:cubicBezTo>
                  <a:pt x="19415" y="1518"/>
                  <a:pt x="19512" y="1508"/>
                  <a:pt x="19596" y="1463"/>
                </a:cubicBezTo>
                <a:cubicBezTo>
                  <a:pt x="19621" y="1447"/>
                  <a:pt x="19645" y="1430"/>
                  <a:pt x="19670" y="1414"/>
                </a:cubicBezTo>
              </a:path>
              <a:path w="9303" h="2011">
                <a:moveTo>
                  <a:pt x="20513" y="521"/>
                </a:moveTo>
                <a:cubicBezTo>
                  <a:pt x="20528" y="634"/>
                  <a:pt x="20513" y="725"/>
                  <a:pt x="20513" y="843"/>
                </a:cubicBezTo>
                <a:cubicBezTo>
                  <a:pt x="20513" y="923"/>
                  <a:pt x="20527" y="1002"/>
                  <a:pt x="20489" y="1067"/>
                </a:cubicBezTo>
              </a:path>
              <a:path w="9303" h="2011">
                <a:moveTo>
                  <a:pt x="20067" y="1265"/>
                </a:moveTo>
                <a:cubicBezTo>
                  <a:pt x="20271" y="1235"/>
                  <a:pt x="20590" y="1234"/>
                  <a:pt x="20811" y="1191"/>
                </a:cubicBezTo>
                <a:cubicBezTo>
                  <a:pt x="20880" y="1178"/>
                  <a:pt x="20947" y="1178"/>
                  <a:pt x="20935" y="1141"/>
                </a:cubicBezTo>
              </a:path>
              <a:path w="9303" h="2011">
                <a:moveTo>
                  <a:pt x="20414" y="1637"/>
                </a:moveTo>
                <a:cubicBezTo>
                  <a:pt x="20424" y="1529"/>
                  <a:pt x="20438" y="1509"/>
                  <a:pt x="20489" y="1439"/>
                </a:cubicBezTo>
                <a:cubicBezTo>
                  <a:pt x="20538" y="1371"/>
                  <a:pt x="20609" y="1373"/>
                  <a:pt x="20662" y="1463"/>
                </a:cubicBezTo>
                <a:cubicBezTo>
                  <a:pt x="20725" y="1571"/>
                  <a:pt x="20676" y="1729"/>
                  <a:pt x="20638" y="1836"/>
                </a:cubicBezTo>
                <a:cubicBezTo>
                  <a:pt x="20603" y="1932"/>
                  <a:pt x="20538" y="1977"/>
                  <a:pt x="20464" y="2034"/>
                </a:cubicBezTo>
                <a:cubicBezTo>
                  <a:pt x="20411" y="2075"/>
                  <a:pt x="20400" y="2057"/>
                  <a:pt x="20340" y="2034"/>
                </a:cubicBezTo>
                <a:cubicBezTo>
                  <a:pt x="20349" y="1939"/>
                  <a:pt x="20354" y="1886"/>
                  <a:pt x="20439" y="1836"/>
                </a:cubicBezTo>
                <a:cubicBezTo>
                  <a:pt x="20528" y="1784"/>
                  <a:pt x="20590" y="1842"/>
                  <a:pt x="20662" y="1885"/>
                </a:cubicBezTo>
                <a:cubicBezTo>
                  <a:pt x="20719" y="1919"/>
                  <a:pt x="20740" y="1959"/>
                  <a:pt x="20786" y="1935"/>
                </a:cubicBezTo>
              </a:path>
              <a:path w="9303" h="2011">
                <a:moveTo>
                  <a:pt x="21208" y="1339"/>
                </a:moveTo>
                <a:cubicBezTo>
                  <a:pt x="21191" y="1356"/>
                  <a:pt x="21175" y="1372"/>
                  <a:pt x="21158" y="1389"/>
                </a:cubicBezTo>
                <a:cubicBezTo>
                  <a:pt x="21220" y="1319"/>
                  <a:pt x="21264" y="1257"/>
                  <a:pt x="21158" y="1339"/>
                </a:cubicBezTo>
              </a:path>
              <a:path w="9303" h="2011">
                <a:moveTo>
                  <a:pt x="21530" y="1017"/>
                </a:moveTo>
                <a:cubicBezTo>
                  <a:pt x="21530" y="1083"/>
                  <a:pt x="21530" y="1100"/>
                  <a:pt x="21530" y="1141"/>
                </a:cubicBezTo>
                <a:cubicBezTo>
                  <a:pt x="21518" y="1042"/>
                  <a:pt x="21470" y="944"/>
                  <a:pt x="21456" y="843"/>
                </a:cubicBezTo>
                <a:cubicBezTo>
                  <a:pt x="21445" y="764"/>
                  <a:pt x="21433" y="612"/>
                  <a:pt x="21481" y="546"/>
                </a:cubicBezTo>
                <a:cubicBezTo>
                  <a:pt x="21555" y="442"/>
                  <a:pt x="21583" y="402"/>
                  <a:pt x="21704" y="347"/>
                </a:cubicBezTo>
                <a:cubicBezTo>
                  <a:pt x="21782" y="311"/>
                  <a:pt x="21890" y="302"/>
                  <a:pt x="21977" y="298"/>
                </a:cubicBezTo>
                <a:cubicBezTo>
                  <a:pt x="22040" y="295"/>
                  <a:pt x="22069" y="311"/>
                  <a:pt x="22126" y="322"/>
                </a:cubicBezTo>
              </a:path>
              <a:path w="9303" h="2011">
                <a:moveTo>
                  <a:pt x="21828" y="670"/>
                </a:moveTo>
                <a:cubicBezTo>
                  <a:pt x="21853" y="620"/>
                  <a:pt x="21878" y="571"/>
                  <a:pt x="21903" y="521"/>
                </a:cubicBezTo>
                <a:cubicBezTo>
                  <a:pt x="21992" y="554"/>
                  <a:pt x="22032" y="561"/>
                  <a:pt x="22076" y="645"/>
                </a:cubicBezTo>
                <a:cubicBezTo>
                  <a:pt x="22098" y="687"/>
                  <a:pt x="22141" y="796"/>
                  <a:pt x="22126" y="843"/>
                </a:cubicBezTo>
                <a:cubicBezTo>
                  <a:pt x="22109" y="898"/>
                  <a:pt x="22038" y="890"/>
                  <a:pt x="22126" y="868"/>
                </a:cubicBezTo>
              </a:path>
              <a:path w="9303" h="2011">
                <a:moveTo>
                  <a:pt x="21357" y="744"/>
                </a:moveTo>
                <a:cubicBezTo>
                  <a:pt x="21508" y="871"/>
                  <a:pt x="21632" y="858"/>
                  <a:pt x="21779" y="967"/>
                </a:cubicBezTo>
                <a:cubicBezTo>
                  <a:pt x="21723" y="1008"/>
                  <a:pt x="21679" y="1042"/>
                  <a:pt x="21630" y="1091"/>
                </a:cubicBezTo>
                <a:cubicBezTo>
                  <a:pt x="21692" y="1168"/>
                  <a:pt x="21747" y="1146"/>
                  <a:pt x="21853" y="1116"/>
                </a:cubicBezTo>
                <a:cubicBezTo>
                  <a:pt x="21983" y="1080"/>
                  <a:pt x="22036" y="994"/>
                  <a:pt x="22101" y="893"/>
                </a:cubicBezTo>
              </a:path>
              <a:path w="9303" h="2011">
                <a:moveTo>
                  <a:pt x="21903" y="695"/>
                </a:moveTo>
                <a:cubicBezTo>
                  <a:pt x="21701" y="723"/>
                  <a:pt x="21516" y="747"/>
                  <a:pt x="21332" y="843"/>
                </a:cubicBezTo>
                <a:cubicBezTo>
                  <a:pt x="21304" y="871"/>
                  <a:pt x="21300" y="880"/>
                  <a:pt x="21357" y="868"/>
                </a:cubicBezTo>
                <a:cubicBezTo>
                  <a:pt x="21502" y="857"/>
                  <a:pt x="21554" y="804"/>
                  <a:pt x="21679" y="744"/>
                </a:cubicBezTo>
                <a:cubicBezTo>
                  <a:pt x="21763" y="704"/>
                  <a:pt x="21856" y="625"/>
                  <a:pt x="21878" y="521"/>
                </a:cubicBezTo>
                <a:cubicBezTo>
                  <a:pt x="21878" y="455"/>
                  <a:pt x="21878" y="438"/>
                  <a:pt x="21878" y="397"/>
                </a:cubicBezTo>
                <a:cubicBezTo>
                  <a:pt x="21548" y="542"/>
                  <a:pt x="21607" y="478"/>
                  <a:pt x="21431" y="670"/>
                </a:cubicBezTo>
                <a:cubicBezTo>
                  <a:pt x="21431" y="804"/>
                  <a:pt x="21510" y="776"/>
                  <a:pt x="21630" y="769"/>
                </a:cubicBezTo>
                <a:cubicBezTo>
                  <a:pt x="21783" y="760"/>
                  <a:pt x="21949" y="717"/>
                  <a:pt x="22027" y="571"/>
                </a:cubicBezTo>
                <a:cubicBezTo>
                  <a:pt x="22069" y="491"/>
                  <a:pt x="22067" y="425"/>
                  <a:pt x="22051" y="347"/>
                </a:cubicBezTo>
                <a:cubicBezTo>
                  <a:pt x="21888" y="368"/>
                  <a:pt x="21768" y="424"/>
                  <a:pt x="21630" y="521"/>
                </a:cubicBezTo>
                <a:cubicBezTo>
                  <a:pt x="21601" y="541"/>
                  <a:pt x="21375" y="658"/>
                  <a:pt x="21530" y="695"/>
                </a:cubicBezTo>
                <a:cubicBezTo>
                  <a:pt x="21614" y="695"/>
                  <a:pt x="21648" y="693"/>
                  <a:pt x="21704" y="670"/>
                </a:cubicBezTo>
              </a:path>
              <a:path w="9303" h="2011">
                <a:moveTo>
                  <a:pt x="22523" y="471"/>
                </a:moveTo>
                <a:cubicBezTo>
                  <a:pt x="22503" y="403"/>
                  <a:pt x="22524" y="332"/>
                  <a:pt x="22597" y="273"/>
                </a:cubicBezTo>
                <a:cubicBezTo>
                  <a:pt x="22614" y="265"/>
                  <a:pt x="22630" y="256"/>
                  <a:pt x="22647" y="248"/>
                </a:cubicBezTo>
                <a:cubicBezTo>
                  <a:pt x="22728" y="380"/>
                  <a:pt x="22762" y="415"/>
                  <a:pt x="22746" y="595"/>
                </a:cubicBezTo>
                <a:cubicBezTo>
                  <a:pt x="22738" y="680"/>
                  <a:pt x="22666" y="791"/>
                  <a:pt x="22597" y="843"/>
                </a:cubicBezTo>
                <a:cubicBezTo>
                  <a:pt x="22550" y="878"/>
                  <a:pt x="22502" y="868"/>
                  <a:pt x="22448" y="868"/>
                </a:cubicBezTo>
                <a:cubicBezTo>
                  <a:pt x="22473" y="768"/>
                  <a:pt x="22539" y="739"/>
                  <a:pt x="22647" y="719"/>
                </a:cubicBezTo>
                <a:cubicBezTo>
                  <a:pt x="22736" y="703"/>
                  <a:pt x="22805" y="773"/>
                  <a:pt x="22870" y="819"/>
                </a:cubicBezTo>
                <a:cubicBezTo>
                  <a:pt x="22903" y="844"/>
                  <a:pt x="22936" y="868"/>
                  <a:pt x="22969" y="893"/>
                </a:cubicBezTo>
              </a:path>
              <a:path w="9303" h="2011">
                <a:moveTo>
                  <a:pt x="21828" y="1290"/>
                </a:moveTo>
                <a:cubicBezTo>
                  <a:pt x="22061" y="1257"/>
                  <a:pt x="22289" y="1220"/>
                  <a:pt x="22523" y="1215"/>
                </a:cubicBezTo>
                <a:cubicBezTo>
                  <a:pt x="22668" y="1212"/>
                  <a:pt x="22828" y="1225"/>
                  <a:pt x="22969" y="1191"/>
                </a:cubicBezTo>
                <a:cubicBezTo>
                  <a:pt x="22986" y="1183"/>
                  <a:pt x="23002" y="1174"/>
                  <a:pt x="23019" y="1166"/>
                </a:cubicBezTo>
              </a:path>
              <a:path w="9303" h="2011">
                <a:moveTo>
                  <a:pt x="22225" y="1712"/>
                </a:moveTo>
                <a:cubicBezTo>
                  <a:pt x="22225" y="1841"/>
                  <a:pt x="22220" y="1917"/>
                  <a:pt x="22250" y="2034"/>
                </a:cubicBezTo>
                <a:cubicBezTo>
                  <a:pt x="22194" y="1978"/>
                  <a:pt x="22177" y="1936"/>
                  <a:pt x="22151" y="1860"/>
                </a:cubicBezTo>
                <a:cubicBezTo>
                  <a:pt x="22124" y="1782"/>
                  <a:pt x="22110" y="1672"/>
                  <a:pt x="22126" y="1588"/>
                </a:cubicBezTo>
                <a:cubicBezTo>
                  <a:pt x="22142" y="1504"/>
                  <a:pt x="22271" y="1355"/>
                  <a:pt x="22349" y="1315"/>
                </a:cubicBezTo>
                <a:cubicBezTo>
                  <a:pt x="22485" y="1244"/>
                  <a:pt x="22669" y="1265"/>
                  <a:pt x="22820" y="1265"/>
                </a:cubicBezTo>
              </a:path>
              <a:path w="9303" h="2011">
                <a:moveTo>
                  <a:pt x="22547" y="1662"/>
                </a:moveTo>
                <a:cubicBezTo>
                  <a:pt x="22596" y="1633"/>
                  <a:pt x="22661" y="1611"/>
                  <a:pt x="22721" y="1588"/>
                </a:cubicBezTo>
                <a:cubicBezTo>
                  <a:pt x="22812" y="1553"/>
                  <a:pt x="22829" y="1563"/>
                  <a:pt x="22920" y="1588"/>
                </a:cubicBezTo>
                <a:cubicBezTo>
                  <a:pt x="22873" y="1634"/>
                  <a:pt x="22859" y="1685"/>
                  <a:pt x="22820" y="1736"/>
                </a:cubicBezTo>
                <a:cubicBezTo>
                  <a:pt x="22762" y="1811"/>
                  <a:pt x="22712" y="1849"/>
                  <a:pt x="22622" y="1860"/>
                </a:cubicBezTo>
                <a:cubicBezTo>
                  <a:pt x="22726" y="1833"/>
                  <a:pt x="22816" y="1785"/>
                  <a:pt x="22920" y="1836"/>
                </a:cubicBezTo>
                <a:cubicBezTo>
                  <a:pt x="22994" y="1872"/>
                  <a:pt x="22967" y="1956"/>
                  <a:pt x="22944" y="2009"/>
                </a:cubicBezTo>
                <a:cubicBezTo>
                  <a:pt x="22915" y="2077"/>
                  <a:pt x="22835" y="2122"/>
                  <a:pt x="22771" y="2158"/>
                </a:cubicBezTo>
                <a:cubicBezTo>
                  <a:pt x="22711" y="2191"/>
                  <a:pt x="22622" y="2214"/>
                  <a:pt x="22597" y="2133"/>
                </a:cubicBezTo>
                <a:cubicBezTo>
                  <a:pt x="22597" y="2117"/>
                  <a:pt x="22597" y="2100"/>
                  <a:pt x="22597" y="2084"/>
                </a:cubicBezTo>
              </a:path>
              <a:path w="9303" h="2011">
                <a:moveTo>
                  <a:pt x="23366" y="1215"/>
                </a:moveTo>
                <a:cubicBezTo>
                  <a:pt x="23457" y="1215"/>
                  <a:pt x="23482" y="1215"/>
                  <a:pt x="23540" y="1215"/>
                </a:cubicBezTo>
              </a:path>
              <a:path w="9303" h="2011">
                <a:moveTo>
                  <a:pt x="23341" y="1463"/>
                </a:moveTo>
                <a:cubicBezTo>
                  <a:pt x="23425" y="1422"/>
                  <a:pt x="23515" y="1396"/>
                  <a:pt x="23589" y="1339"/>
                </a:cubicBezTo>
                <a:cubicBezTo>
                  <a:pt x="23606" y="1323"/>
                  <a:pt x="23622" y="1306"/>
                  <a:pt x="23639" y="1290"/>
                </a:cubicBezTo>
              </a:path>
              <a:path w="9303" h="2011">
                <a:moveTo>
                  <a:pt x="23912" y="471"/>
                </a:moveTo>
                <a:cubicBezTo>
                  <a:pt x="23924" y="598"/>
                  <a:pt x="23878" y="771"/>
                  <a:pt x="23912" y="893"/>
                </a:cubicBezTo>
                <a:cubicBezTo>
                  <a:pt x="23925" y="939"/>
                  <a:pt x="23970" y="975"/>
                  <a:pt x="23937" y="992"/>
                </a:cubicBezTo>
              </a:path>
              <a:path w="9303" h="2011">
                <a:moveTo>
                  <a:pt x="23763" y="1042"/>
                </a:moveTo>
                <a:cubicBezTo>
                  <a:pt x="23857" y="1042"/>
                  <a:pt x="23999" y="1052"/>
                  <a:pt x="24085" y="1017"/>
                </a:cubicBezTo>
                <a:cubicBezTo>
                  <a:pt x="24110" y="1000"/>
                  <a:pt x="24135" y="984"/>
                  <a:pt x="24160" y="967"/>
                </a:cubicBezTo>
              </a:path>
              <a:path w="9303" h="2011">
                <a:moveTo>
                  <a:pt x="23812" y="1761"/>
                </a:moveTo>
                <a:cubicBezTo>
                  <a:pt x="23820" y="1778"/>
                  <a:pt x="23829" y="1794"/>
                  <a:pt x="23837" y="1811"/>
                </a:cubicBezTo>
                <a:cubicBezTo>
                  <a:pt x="23804" y="1789"/>
                  <a:pt x="23791" y="1720"/>
                  <a:pt x="23788" y="1662"/>
                </a:cubicBezTo>
                <a:cubicBezTo>
                  <a:pt x="23782" y="1544"/>
                  <a:pt x="23769" y="1417"/>
                  <a:pt x="23837" y="1315"/>
                </a:cubicBezTo>
                <a:cubicBezTo>
                  <a:pt x="23902" y="1217"/>
                  <a:pt x="23992" y="1218"/>
                  <a:pt x="24085" y="1191"/>
                </a:cubicBezTo>
                <a:cubicBezTo>
                  <a:pt x="24166" y="1167"/>
                  <a:pt x="24219" y="1166"/>
                  <a:pt x="24309" y="1166"/>
                </a:cubicBezTo>
              </a:path>
              <a:path w="9303" h="2011">
                <a:moveTo>
                  <a:pt x="24061" y="1563"/>
                </a:moveTo>
                <a:cubicBezTo>
                  <a:pt x="24145" y="1524"/>
                  <a:pt x="24237" y="1495"/>
                  <a:pt x="24309" y="1439"/>
                </a:cubicBezTo>
              </a:path>
              <a:path w="9303" h="2011">
                <a:moveTo>
                  <a:pt x="24358" y="1439"/>
                </a:moveTo>
                <a:cubicBezTo>
                  <a:pt x="24318" y="1518"/>
                  <a:pt x="24295" y="1558"/>
                  <a:pt x="24234" y="1612"/>
                </a:cubicBezTo>
                <a:cubicBezTo>
                  <a:pt x="24188" y="1659"/>
                  <a:pt x="24176" y="1673"/>
                  <a:pt x="24135" y="1687"/>
                </a:cubicBezTo>
                <a:cubicBezTo>
                  <a:pt x="24216" y="1687"/>
                  <a:pt x="24312" y="1669"/>
                  <a:pt x="24383" y="1712"/>
                </a:cubicBezTo>
                <a:cubicBezTo>
                  <a:pt x="24450" y="1752"/>
                  <a:pt x="24435" y="1811"/>
                  <a:pt x="24408" y="1860"/>
                </a:cubicBezTo>
                <a:cubicBezTo>
                  <a:pt x="24362" y="1946"/>
                  <a:pt x="24307" y="1999"/>
                  <a:pt x="24209" y="2009"/>
                </a:cubicBezTo>
                <a:cubicBezTo>
                  <a:pt x="24105" y="2020"/>
                  <a:pt x="24086" y="2005"/>
                  <a:pt x="24110" y="1910"/>
                </a:cubicBezTo>
              </a:path>
              <a:path w="9303" h="2011">
                <a:moveTo>
                  <a:pt x="24631" y="967"/>
                </a:moveTo>
                <a:cubicBezTo>
                  <a:pt x="24705" y="986"/>
                  <a:pt x="24712" y="994"/>
                  <a:pt x="24755" y="992"/>
                </a:cubicBezTo>
              </a:path>
              <a:path w="9303" h="2011">
                <a:moveTo>
                  <a:pt x="24606" y="1191"/>
                </a:moveTo>
                <a:cubicBezTo>
                  <a:pt x="24706" y="1183"/>
                  <a:pt x="24727" y="1177"/>
                  <a:pt x="24805" y="1116"/>
                </a:cubicBezTo>
              </a:path>
              <a:path w="9303" h="2011">
                <a:moveTo>
                  <a:pt x="24904" y="943"/>
                </a:moveTo>
                <a:cubicBezTo>
                  <a:pt x="24904" y="992"/>
                  <a:pt x="24904" y="1042"/>
                  <a:pt x="24904" y="1091"/>
                </a:cubicBezTo>
                <a:cubicBezTo>
                  <a:pt x="24904" y="954"/>
                  <a:pt x="24892" y="830"/>
                  <a:pt x="24879" y="695"/>
                </a:cubicBezTo>
                <a:cubicBezTo>
                  <a:pt x="24870" y="602"/>
                  <a:pt x="24894" y="534"/>
                  <a:pt x="24904" y="446"/>
                </a:cubicBezTo>
                <a:cubicBezTo>
                  <a:pt x="24916" y="343"/>
                  <a:pt x="24881" y="325"/>
                  <a:pt x="24978" y="273"/>
                </a:cubicBezTo>
                <a:cubicBezTo>
                  <a:pt x="25046" y="237"/>
                  <a:pt x="25102" y="207"/>
                  <a:pt x="25177" y="198"/>
                </a:cubicBezTo>
              </a:path>
              <a:path w="9303" h="2011">
                <a:moveTo>
                  <a:pt x="25102" y="595"/>
                </a:moveTo>
                <a:cubicBezTo>
                  <a:pt x="25089" y="569"/>
                  <a:pt x="25115" y="477"/>
                  <a:pt x="25177" y="471"/>
                </a:cubicBezTo>
                <a:cubicBezTo>
                  <a:pt x="25257" y="464"/>
                  <a:pt x="25298" y="535"/>
                  <a:pt x="25301" y="595"/>
                </a:cubicBezTo>
                <a:cubicBezTo>
                  <a:pt x="25306" y="699"/>
                  <a:pt x="25273" y="734"/>
                  <a:pt x="25202" y="794"/>
                </a:cubicBezTo>
                <a:cubicBezTo>
                  <a:pt x="25174" y="822"/>
                  <a:pt x="25160" y="831"/>
                  <a:pt x="25127" y="819"/>
                </a:cubicBezTo>
                <a:cubicBezTo>
                  <a:pt x="25183" y="775"/>
                  <a:pt x="25260" y="732"/>
                  <a:pt x="25326" y="794"/>
                </a:cubicBezTo>
                <a:cubicBezTo>
                  <a:pt x="25397" y="860"/>
                  <a:pt x="25360" y="923"/>
                  <a:pt x="25326" y="992"/>
                </a:cubicBezTo>
                <a:cubicBezTo>
                  <a:pt x="25282" y="1081"/>
                  <a:pt x="25191" y="1078"/>
                  <a:pt x="25102" y="1091"/>
                </a:cubicBezTo>
                <a:cubicBezTo>
                  <a:pt x="25086" y="1091"/>
                  <a:pt x="25069" y="1091"/>
                  <a:pt x="25053" y="1091"/>
                </a:cubicBezTo>
              </a:path>
              <a:path w="9303" h="2011">
                <a:moveTo>
                  <a:pt x="25028" y="1215"/>
                </a:moveTo>
                <a:cubicBezTo>
                  <a:pt x="25138" y="1215"/>
                  <a:pt x="25204" y="1222"/>
                  <a:pt x="25301" y="1191"/>
                </a:cubicBezTo>
              </a:path>
              <a:path w="9303" h="2011">
                <a:moveTo>
                  <a:pt x="24978" y="1538"/>
                </a:moveTo>
                <a:cubicBezTo>
                  <a:pt x="25071" y="1488"/>
                  <a:pt x="25120" y="1471"/>
                  <a:pt x="25226" y="1463"/>
                </a:cubicBezTo>
                <a:cubicBezTo>
                  <a:pt x="25246" y="1534"/>
                  <a:pt x="25236" y="1599"/>
                  <a:pt x="25177" y="1662"/>
                </a:cubicBezTo>
                <a:cubicBezTo>
                  <a:pt x="25123" y="1720"/>
                  <a:pt x="25088" y="1762"/>
                  <a:pt x="25028" y="1811"/>
                </a:cubicBezTo>
                <a:cubicBezTo>
                  <a:pt x="25086" y="1840"/>
                  <a:pt x="25178" y="1824"/>
                  <a:pt x="25226" y="1885"/>
                </a:cubicBezTo>
                <a:cubicBezTo>
                  <a:pt x="25277" y="1951"/>
                  <a:pt x="25207" y="2020"/>
                  <a:pt x="25152" y="2059"/>
                </a:cubicBezTo>
                <a:cubicBezTo>
                  <a:pt x="25075" y="2114"/>
                  <a:pt x="25047" y="2128"/>
                  <a:pt x="24954" y="2158"/>
                </a:cubicBezTo>
                <a:cubicBezTo>
                  <a:pt x="24888" y="2179"/>
                  <a:pt x="24875" y="2167"/>
                  <a:pt x="24805" y="21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Ink 5"/>
          <p:cNvSpPr/>
          <p:nvPr/>
        </p:nvSpPr>
        <p:spPr>
          <a:xfrm>
            <a:off x="4510080" y="919080"/>
            <a:ext cx="3562200" cy="669960"/>
          </a:xfrm>
          <a:custGeom>
            <a:avLst/>
            <a:gdLst/>
            <a:ahLst/>
            <a:rect l="l" t="t" r="r" b="b"/>
            <a:pathLst>
              <a:path w="9898" h="1861">
                <a:moveTo>
                  <a:pt x="12576" y="3522"/>
                </a:moveTo>
                <a:cubicBezTo>
                  <a:pt x="12834" y="3522"/>
                  <a:pt x="13092" y="3520"/>
                  <a:pt x="13345" y="3547"/>
                </a:cubicBezTo>
                <a:cubicBezTo>
                  <a:pt x="13410" y="3554"/>
                  <a:pt x="13540" y="3509"/>
                  <a:pt x="13395" y="3572"/>
                </a:cubicBezTo>
              </a:path>
              <a:path w="9898" h="1861">
                <a:moveTo>
                  <a:pt x="12526" y="3770"/>
                </a:moveTo>
                <a:cubicBezTo>
                  <a:pt x="12626" y="3820"/>
                  <a:pt x="12685" y="3820"/>
                  <a:pt x="12799" y="3820"/>
                </a:cubicBezTo>
                <a:cubicBezTo>
                  <a:pt x="13039" y="3820"/>
                  <a:pt x="13279" y="3820"/>
                  <a:pt x="13519" y="3820"/>
                </a:cubicBezTo>
              </a:path>
              <a:path w="9898" h="1861">
                <a:moveTo>
                  <a:pt x="12948" y="3299"/>
                </a:moveTo>
                <a:cubicBezTo>
                  <a:pt x="13051" y="3308"/>
                  <a:pt x="13143" y="3331"/>
                  <a:pt x="13246" y="3349"/>
                </a:cubicBezTo>
                <a:cubicBezTo>
                  <a:pt x="13374" y="3372"/>
                  <a:pt x="13497" y="3398"/>
                  <a:pt x="13618" y="3448"/>
                </a:cubicBezTo>
                <a:cubicBezTo>
                  <a:pt x="13648" y="3460"/>
                  <a:pt x="13732" y="3510"/>
                  <a:pt x="13742" y="3547"/>
                </a:cubicBezTo>
                <a:cubicBezTo>
                  <a:pt x="13762" y="3616"/>
                  <a:pt x="13696" y="3624"/>
                  <a:pt x="13667" y="3671"/>
                </a:cubicBezTo>
                <a:cubicBezTo>
                  <a:pt x="13605" y="3770"/>
                  <a:pt x="13547" y="3864"/>
                  <a:pt x="13494" y="3969"/>
                </a:cubicBezTo>
                <a:cubicBezTo>
                  <a:pt x="13454" y="4050"/>
                  <a:pt x="13463" y="4143"/>
                  <a:pt x="13419" y="4217"/>
                </a:cubicBezTo>
                <a:cubicBezTo>
                  <a:pt x="13401" y="4247"/>
                  <a:pt x="13350" y="4336"/>
                  <a:pt x="13419" y="4242"/>
                </a:cubicBezTo>
              </a:path>
              <a:path w="9898" h="1861">
                <a:moveTo>
                  <a:pt x="14139" y="3324"/>
                </a:moveTo>
                <a:cubicBezTo>
                  <a:pt x="14210" y="3250"/>
                  <a:pt x="14271" y="3196"/>
                  <a:pt x="14362" y="3150"/>
                </a:cubicBezTo>
                <a:cubicBezTo>
                  <a:pt x="14433" y="3114"/>
                  <a:pt x="14502" y="3080"/>
                  <a:pt x="14585" y="3101"/>
                </a:cubicBezTo>
                <a:cubicBezTo>
                  <a:pt x="14685" y="3126"/>
                  <a:pt x="14666" y="3230"/>
                  <a:pt x="14635" y="3299"/>
                </a:cubicBezTo>
                <a:cubicBezTo>
                  <a:pt x="14603" y="3372"/>
                  <a:pt x="14579" y="3434"/>
                  <a:pt x="14511" y="3473"/>
                </a:cubicBezTo>
                <a:cubicBezTo>
                  <a:pt x="14461" y="3497"/>
                  <a:pt x="14445" y="3505"/>
                  <a:pt x="14412" y="3522"/>
                </a:cubicBezTo>
                <a:cubicBezTo>
                  <a:pt x="14503" y="3448"/>
                  <a:pt x="14553" y="3469"/>
                  <a:pt x="14635" y="3547"/>
                </a:cubicBezTo>
                <a:cubicBezTo>
                  <a:pt x="14711" y="3619"/>
                  <a:pt x="14753" y="3662"/>
                  <a:pt x="14759" y="3770"/>
                </a:cubicBezTo>
                <a:cubicBezTo>
                  <a:pt x="14764" y="3864"/>
                  <a:pt x="14740" y="3911"/>
                  <a:pt x="14660" y="3969"/>
                </a:cubicBezTo>
                <a:cubicBezTo>
                  <a:pt x="14555" y="4045"/>
                  <a:pt x="14435" y="4060"/>
                  <a:pt x="14312" y="4068"/>
                </a:cubicBezTo>
                <a:cubicBezTo>
                  <a:pt x="14225" y="4074"/>
                  <a:pt x="14220" y="4032"/>
                  <a:pt x="14238" y="3969"/>
                </a:cubicBezTo>
              </a:path>
              <a:path w="9898" h="1861">
                <a:moveTo>
                  <a:pt x="15304" y="3150"/>
                </a:moveTo>
                <a:cubicBezTo>
                  <a:pt x="15304" y="3321"/>
                  <a:pt x="15284" y="3476"/>
                  <a:pt x="15280" y="3646"/>
                </a:cubicBezTo>
                <a:cubicBezTo>
                  <a:pt x="15278" y="3741"/>
                  <a:pt x="15268" y="3808"/>
                  <a:pt x="15280" y="3894"/>
                </a:cubicBezTo>
                <a:cubicBezTo>
                  <a:pt x="15289" y="3956"/>
                  <a:pt x="15320" y="4105"/>
                  <a:pt x="15255" y="4018"/>
                </a:cubicBezTo>
              </a:path>
              <a:path w="9898" h="1861">
                <a:moveTo>
                  <a:pt x="15081" y="3646"/>
                </a:moveTo>
                <a:cubicBezTo>
                  <a:pt x="15163" y="3605"/>
                  <a:pt x="15236" y="3585"/>
                  <a:pt x="15329" y="3572"/>
                </a:cubicBezTo>
                <a:cubicBezTo>
                  <a:pt x="15470" y="3553"/>
                  <a:pt x="15616" y="3543"/>
                  <a:pt x="15751" y="3522"/>
                </a:cubicBezTo>
                <a:cubicBezTo>
                  <a:pt x="15768" y="3522"/>
                  <a:pt x="15784" y="3522"/>
                  <a:pt x="15801" y="3522"/>
                </a:cubicBezTo>
                <a:cubicBezTo>
                  <a:pt x="15830" y="3583"/>
                  <a:pt x="15770" y="3611"/>
                  <a:pt x="15726" y="3671"/>
                </a:cubicBezTo>
                <a:cubicBezTo>
                  <a:pt x="15664" y="3756"/>
                  <a:pt x="15552" y="3821"/>
                  <a:pt x="15528" y="3919"/>
                </a:cubicBezTo>
                <a:cubicBezTo>
                  <a:pt x="15492" y="4064"/>
                  <a:pt x="15667" y="4092"/>
                  <a:pt x="15751" y="4018"/>
                </a:cubicBezTo>
                <a:cubicBezTo>
                  <a:pt x="15794" y="3980"/>
                  <a:pt x="15833" y="3899"/>
                  <a:pt x="15850" y="3845"/>
                </a:cubicBezTo>
                <a:cubicBezTo>
                  <a:pt x="15866" y="3793"/>
                  <a:pt x="15849" y="3736"/>
                  <a:pt x="15825" y="3696"/>
                </a:cubicBezTo>
                <a:cubicBezTo>
                  <a:pt x="15825" y="3812"/>
                  <a:pt x="15840" y="3886"/>
                  <a:pt x="15900" y="3994"/>
                </a:cubicBezTo>
                <a:cubicBezTo>
                  <a:pt x="15926" y="4041"/>
                  <a:pt x="15954" y="4037"/>
                  <a:pt x="15999" y="4043"/>
                </a:cubicBezTo>
                <a:cubicBezTo>
                  <a:pt x="16043" y="3999"/>
                  <a:pt x="16040" y="4006"/>
                  <a:pt x="16049" y="3944"/>
                </a:cubicBezTo>
              </a:path>
              <a:path w="9898" h="1861">
                <a:moveTo>
                  <a:pt x="16073" y="3671"/>
                </a:moveTo>
                <a:cubicBezTo>
                  <a:pt x="16063" y="3743"/>
                  <a:pt x="16027" y="3887"/>
                  <a:pt x="16049" y="3969"/>
                </a:cubicBezTo>
                <a:cubicBezTo>
                  <a:pt x="16057" y="3985"/>
                  <a:pt x="16065" y="4002"/>
                  <a:pt x="16073" y="4018"/>
                </a:cubicBezTo>
                <a:cubicBezTo>
                  <a:pt x="16073" y="3925"/>
                  <a:pt x="16083" y="3854"/>
                  <a:pt x="16098" y="3770"/>
                </a:cubicBezTo>
                <a:cubicBezTo>
                  <a:pt x="16115" y="3676"/>
                  <a:pt x="16146" y="3617"/>
                  <a:pt x="16247" y="3597"/>
                </a:cubicBezTo>
                <a:cubicBezTo>
                  <a:pt x="16317" y="3583"/>
                  <a:pt x="16395" y="3662"/>
                  <a:pt x="16421" y="3721"/>
                </a:cubicBezTo>
                <a:cubicBezTo>
                  <a:pt x="16458" y="3807"/>
                  <a:pt x="16446" y="3904"/>
                  <a:pt x="16446" y="3994"/>
                </a:cubicBezTo>
                <a:cubicBezTo>
                  <a:pt x="16446" y="4063"/>
                  <a:pt x="16439" y="4090"/>
                  <a:pt x="16470" y="4142"/>
                </a:cubicBezTo>
              </a:path>
              <a:path w="9898" h="1861">
                <a:moveTo>
                  <a:pt x="17090" y="3051"/>
                </a:moveTo>
                <a:cubicBezTo>
                  <a:pt x="17068" y="3174"/>
                  <a:pt x="17048" y="3278"/>
                  <a:pt x="17016" y="3398"/>
                </a:cubicBezTo>
                <a:cubicBezTo>
                  <a:pt x="16976" y="3549"/>
                  <a:pt x="16914" y="3716"/>
                  <a:pt x="16892" y="3870"/>
                </a:cubicBezTo>
                <a:cubicBezTo>
                  <a:pt x="16880" y="3953"/>
                  <a:pt x="16892" y="4065"/>
                  <a:pt x="16917" y="4142"/>
                </a:cubicBezTo>
                <a:cubicBezTo>
                  <a:pt x="16933" y="4191"/>
                  <a:pt x="17024" y="4325"/>
                  <a:pt x="17090" y="4291"/>
                </a:cubicBezTo>
                <a:cubicBezTo>
                  <a:pt x="17123" y="4266"/>
                  <a:pt x="17157" y="4242"/>
                  <a:pt x="17190" y="4217"/>
                </a:cubicBezTo>
              </a:path>
              <a:path w="9898" h="1861">
                <a:moveTo>
                  <a:pt x="17289" y="3398"/>
                </a:moveTo>
                <a:cubicBezTo>
                  <a:pt x="17384" y="3275"/>
                  <a:pt x="17368" y="3274"/>
                  <a:pt x="17512" y="3274"/>
                </a:cubicBezTo>
                <a:cubicBezTo>
                  <a:pt x="17575" y="3274"/>
                  <a:pt x="17647" y="3299"/>
                  <a:pt x="17661" y="3373"/>
                </a:cubicBezTo>
                <a:cubicBezTo>
                  <a:pt x="17682" y="3490"/>
                  <a:pt x="17680" y="3685"/>
                  <a:pt x="17636" y="3795"/>
                </a:cubicBezTo>
                <a:cubicBezTo>
                  <a:pt x="17598" y="3890"/>
                  <a:pt x="17561" y="3968"/>
                  <a:pt x="17487" y="4043"/>
                </a:cubicBezTo>
                <a:cubicBezTo>
                  <a:pt x="17461" y="4069"/>
                  <a:pt x="17385" y="4170"/>
                  <a:pt x="17338" y="4167"/>
                </a:cubicBezTo>
                <a:cubicBezTo>
                  <a:pt x="17322" y="4159"/>
                  <a:pt x="17305" y="4150"/>
                  <a:pt x="17289" y="4142"/>
                </a:cubicBezTo>
                <a:cubicBezTo>
                  <a:pt x="17289" y="4069"/>
                  <a:pt x="17286" y="4025"/>
                  <a:pt x="17338" y="3969"/>
                </a:cubicBezTo>
                <a:cubicBezTo>
                  <a:pt x="17401" y="3901"/>
                  <a:pt x="17462" y="3865"/>
                  <a:pt x="17562" y="3894"/>
                </a:cubicBezTo>
                <a:cubicBezTo>
                  <a:pt x="17587" y="3902"/>
                  <a:pt x="17663" y="3994"/>
                  <a:pt x="17661" y="4018"/>
                </a:cubicBezTo>
                <a:cubicBezTo>
                  <a:pt x="17653" y="4026"/>
                  <a:pt x="17644" y="4035"/>
                  <a:pt x="17636" y="4043"/>
                </a:cubicBezTo>
              </a:path>
              <a:path w="9898" h="1861">
                <a:moveTo>
                  <a:pt x="17983" y="3721"/>
                </a:moveTo>
                <a:cubicBezTo>
                  <a:pt x="17983" y="3770"/>
                  <a:pt x="17983" y="3786"/>
                  <a:pt x="17983" y="3721"/>
                </a:cubicBezTo>
              </a:path>
              <a:path w="9898" h="1861">
                <a:moveTo>
                  <a:pt x="18107" y="3299"/>
                </a:moveTo>
                <a:cubicBezTo>
                  <a:pt x="18191" y="3257"/>
                  <a:pt x="18244" y="3245"/>
                  <a:pt x="18331" y="3225"/>
                </a:cubicBezTo>
                <a:cubicBezTo>
                  <a:pt x="18438" y="3200"/>
                  <a:pt x="18545" y="3180"/>
                  <a:pt x="18653" y="3175"/>
                </a:cubicBezTo>
                <a:cubicBezTo>
                  <a:pt x="18705" y="3175"/>
                  <a:pt x="18723" y="3174"/>
                  <a:pt x="18752" y="3150"/>
                </a:cubicBezTo>
              </a:path>
              <a:path w="9898" h="1861">
                <a:moveTo>
                  <a:pt x="18331" y="3225"/>
                </a:moveTo>
                <a:cubicBezTo>
                  <a:pt x="18331" y="3341"/>
                  <a:pt x="18297" y="3545"/>
                  <a:pt x="18355" y="3646"/>
                </a:cubicBezTo>
              </a:path>
              <a:path w="9898" h="1861">
                <a:moveTo>
                  <a:pt x="18479" y="3274"/>
                </a:moveTo>
                <a:cubicBezTo>
                  <a:pt x="18465" y="3319"/>
                  <a:pt x="18365" y="3550"/>
                  <a:pt x="18405" y="3621"/>
                </a:cubicBezTo>
                <a:cubicBezTo>
                  <a:pt x="18413" y="3621"/>
                  <a:pt x="18422" y="3621"/>
                  <a:pt x="18430" y="3621"/>
                </a:cubicBezTo>
              </a:path>
              <a:path w="9898" h="1861">
                <a:moveTo>
                  <a:pt x="18777" y="3150"/>
                </a:moveTo>
                <a:cubicBezTo>
                  <a:pt x="18709" y="3330"/>
                  <a:pt x="18633" y="3497"/>
                  <a:pt x="18554" y="3671"/>
                </a:cubicBezTo>
                <a:cubicBezTo>
                  <a:pt x="18491" y="3810"/>
                  <a:pt x="18433" y="3899"/>
                  <a:pt x="18355" y="4018"/>
                </a:cubicBezTo>
                <a:cubicBezTo>
                  <a:pt x="18331" y="4068"/>
                  <a:pt x="18323" y="4085"/>
                  <a:pt x="18306" y="4118"/>
                </a:cubicBezTo>
              </a:path>
              <a:path w="9898" h="1861">
                <a:moveTo>
                  <a:pt x="18628" y="3845"/>
                </a:moveTo>
                <a:cubicBezTo>
                  <a:pt x="18603" y="3968"/>
                  <a:pt x="18512" y="4110"/>
                  <a:pt x="18579" y="4217"/>
                </a:cubicBezTo>
                <a:cubicBezTo>
                  <a:pt x="18587" y="4217"/>
                  <a:pt x="18596" y="4217"/>
                  <a:pt x="18604" y="4217"/>
                </a:cubicBezTo>
              </a:path>
              <a:path w="9898" h="1861">
                <a:moveTo>
                  <a:pt x="18777" y="3870"/>
                </a:moveTo>
                <a:cubicBezTo>
                  <a:pt x="18854" y="3819"/>
                  <a:pt x="18882" y="3820"/>
                  <a:pt x="18976" y="3820"/>
                </a:cubicBezTo>
                <a:cubicBezTo>
                  <a:pt x="18995" y="3921"/>
                  <a:pt x="18972" y="3956"/>
                  <a:pt x="18926" y="4043"/>
                </a:cubicBezTo>
                <a:cubicBezTo>
                  <a:pt x="18889" y="4113"/>
                  <a:pt x="18858" y="4160"/>
                  <a:pt x="18802" y="4217"/>
                </a:cubicBezTo>
                <a:cubicBezTo>
                  <a:pt x="18857" y="4282"/>
                  <a:pt x="18885" y="4266"/>
                  <a:pt x="18976" y="4266"/>
                </a:cubicBezTo>
                <a:cubicBezTo>
                  <a:pt x="19134" y="4266"/>
                  <a:pt x="19192" y="4203"/>
                  <a:pt x="19323" y="4118"/>
                </a:cubicBezTo>
              </a:path>
              <a:path w="9898" h="1861">
                <a:moveTo>
                  <a:pt x="19025" y="2828"/>
                </a:moveTo>
                <a:cubicBezTo>
                  <a:pt x="19108" y="2910"/>
                  <a:pt x="19146" y="2971"/>
                  <a:pt x="19199" y="3076"/>
                </a:cubicBezTo>
                <a:cubicBezTo>
                  <a:pt x="19268" y="3214"/>
                  <a:pt x="19325" y="3352"/>
                  <a:pt x="19372" y="3497"/>
                </a:cubicBezTo>
                <a:cubicBezTo>
                  <a:pt x="19408" y="3610"/>
                  <a:pt x="19454" y="3780"/>
                  <a:pt x="19447" y="3894"/>
                </a:cubicBezTo>
                <a:cubicBezTo>
                  <a:pt x="19440" y="4013"/>
                  <a:pt x="19390" y="4203"/>
                  <a:pt x="19298" y="4291"/>
                </a:cubicBezTo>
                <a:cubicBezTo>
                  <a:pt x="19279" y="4309"/>
                  <a:pt x="19156" y="4406"/>
                  <a:pt x="19124" y="4415"/>
                </a:cubicBezTo>
                <a:cubicBezTo>
                  <a:pt x="19083" y="4415"/>
                  <a:pt x="19067" y="4423"/>
                  <a:pt x="19075" y="4390"/>
                </a:cubicBezTo>
              </a:path>
              <a:path w="9898" h="1861">
                <a:moveTo>
                  <a:pt x="19348" y="2679"/>
                </a:moveTo>
                <a:cubicBezTo>
                  <a:pt x="19348" y="2585"/>
                  <a:pt x="19344" y="2560"/>
                  <a:pt x="19447" y="2555"/>
                </a:cubicBezTo>
                <a:cubicBezTo>
                  <a:pt x="19540" y="2551"/>
                  <a:pt x="19625" y="2555"/>
                  <a:pt x="19695" y="2629"/>
                </a:cubicBezTo>
                <a:cubicBezTo>
                  <a:pt x="19741" y="2678"/>
                  <a:pt x="19779" y="2812"/>
                  <a:pt x="19769" y="2877"/>
                </a:cubicBezTo>
                <a:cubicBezTo>
                  <a:pt x="19759" y="2947"/>
                  <a:pt x="19698" y="3104"/>
                  <a:pt x="19621" y="3125"/>
                </a:cubicBezTo>
                <a:cubicBezTo>
                  <a:pt x="19573" y="3138"/>
                  <a:pt x="19545" y="3143"/>
                  <a:pt x="19496" y="3150"/>
                </a:cubicBezTo>
                <a:cubicBezTo>
                  <a:pt x="19485" y="3131"/>
                  <a:pt x="19435" y="2985"/>
                  <a:pt x="19496" y="2977"/>
                </a:cubicBezTo>
                <a:cubicBezTo>
                  <a:pt x="19590" y="2964"/>
                  <a:pt x="19762" y="3067"/>
                  <a:pt x="19844" y="3101"/>
                </a:cubicBezTo>
                <a:cubicBezTo>
                  <a:pt x="19920" y="3132"/>
                  <a:pt x="19923" y="3164"/>
                  <a:pt x="19993" y="3150"/>
                </a:cubicBezTo>
                <a:cubicBezTo>
                  <a:pt x="20001" y="3150"/>
                  <a:pt x="20009" y="3150"/>
                  <a:pt x="20017" y="3150"/>
                </a:cubicBezTo>
              </a:path>
              <a:path w="9898" h="1861">
                <a:moveTo>
                  <a:pt x="19993" y="3621"/>
                </a:moveTo>
                <a:cubicBezTo>
                  <a:pt x="20121" y="3621"/>
                  <a:pt x="20240" y="3607"/>
                  <a:pt x="20365" y="3597"/>
                </a:cubicBezTo>
                <a:cubicBezTo>
                  <a:pt x="20487" y="3597"/>
                  <a:pt x="20540" y="3587"/>
                  <a:pt x="20613" y="3522"/>
                </a:cubicBezTo>
              </a:path>
              <a:path w="9898" h="1861">
                <a:moveTo>
                  <a:pt x="20762" y="3051"/>
                </a:moveTo>
                <a:cubicBezTo>
                  <a:pt x="20740" y="3239"/>
                  <a:pt x="20712" y="3410"/>
                  <a:pt x="20712" y="3597"/>
                </a:cubicBezTo>
                <a:cubicBezTo>
                  <a:pt x="20712" y="3720"/>
                  <a:pt x="20701" y="3827"/>
                  <a:pt x="20687" y="3944"/>
                </a:cubicBezTo>
                <a:cubicBezTo>
                  <a:pt x="20678" y="4022"/>
                  <a:pt x="20670" y="4069"/>
                  <a:pt x="20638" y="4142"/>
                </a:cubicBezTo>
              </a:path>
              <a:path w="9898" h="1861">
                <a:moveTo>
                  <a:pt x="21109" y="3646"/>
                </a:moveTo>
                <a:cubicBezTo>
                  <a:pt x="21239" y="3631"/>
                  <a:pt x="21358" y="3612"/>
                  <a:pt x="21481" y="3597"/>
                </a:cubicBezTo>
              </a:path>
              <a:path w="9898" h="1861">
                <a:moveTo>
                  <a:pt x="21183" y="3820"/>
                </a:moveTo>
                <a:cubicBezTo>
                  <a:pt x="21394" y="3804"/>
                  <a:pt x="21376" y="3823"/>
                  <a:pt x="21530" y="3721"/>
                </a:cubicBezTo>
              </a:path>
              <a:path w="9898" h="1861">
                <a:moveTo>
                  <a:pt x="21803" y="3373"/>
                </a:moveTo>
                <a:cubicBezTo>
                  <a:pt x="21790" y="3487"/>
                  <a:pt x="21748" y="3674"/>
                  <a:pt x="21779" y="3795"/>
                </a:cubicBezTo>
                <a:cubicBezTo>
                  <a:pt x="21803" y="3890"/>
                  <a:pt x="21856" y="3972"/>
                  <a:pt x="21927" y="4043"/>
                </a:cubicBezTo>
                <a:cubicBezTo>
                  <a:pt x="21982" y="4098"/>
                  <a:pt x="22044" y="4112"/>
                  <a:pt x="22126" y="4093"/>
                </a:cubicBezTo>
                <a:cubicBezTo>
                  <a:pt x="22222" y="4071"/>
                  <a:pt x="22281" y="3963"/>
                  <a:pt x="22324" y="3894"/>
                </a:cubicBezTo>
                <a:cubicBezTo>
                  <a:pt x="22383" y="3798"/>
                  <a:pt x="22439" y="3691"/>
                  <a:pt x="22423" y="3572"/>
                </a:cubicBezTo>
                <a:cubicBezTo>
                  <a:pt x="22404" y="3436"/>
                  <a:pt x="22309" y="3401"/>
                  <a:pt x="22200" y="3349"/>
                </a:cubicBezTo>
                <a:cubicBezTo>
                  <a:pt x="22132" y="3317"/>
                  <a:pt x="22077" y="3324"/>
                  <a:pt x="22002" y="33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Ink 6"/>
          <p:cNvSpPr/>
          <p:nvPr/>
        </p:nvSpPr>
        <p:spPr>
          <a:xfrm>
            <a:off x="2089080" y="2062080"/>
            <a:ext cx="3786120" cy="911160"/>
          </a:xfrm>
          <a:custGeom>
            <a:avLst/>
            <a:gdLst/>
            <a:ahLst/>
            <a:rect l="l" t="t" r="r" b="b"/>
            <a:pathLst>
              <a:path w="10518" h="2531">
                <a:moveTo>
                  <a:pt x="5804" y="6276"/>
                </a:moveTo>
                <a:cubicBezTo>
                  <a:pt x="5850" y="6196"/>
                  <a:pt x="5866" y="6225"/>
                  <a:pt x="5928" y="6176"/>
                </a:cubicBezTo>
                <a:cubicBezTo>
                  <a:pt x="5968" y="6144"/>
                  <a:pt x="6052" y="6087"/>
                  <a:pt x="6102" y="6102"/>
                </a:cubicBezTo>
                <a:cubicBezTo>
                  <a:pt x="6148" y="6116"/>
                  <a:pt x="6241" y="6197"/>
                  <a:pt x="6251" y="6251"/>
                </a:cubicBezTo>
                <a:cubicBezTo>
                  <a:pt x="6265" y="6325"/>
                  <a:pt x="6217" y="6462"/>
                  <a:pt x="6176" y="6524"/>
                </a:cubicBezTo>
                <a:cubicBezTo>
                  <a:pt x="6122" y="6605"/>
                  <a:pt x="6026" y="6666"/>
                  <a:pt x="5953" y="6722"/>
                </a:cubicBezTo>
                <a:cubicBezTo>
                  <a:pt x="5925" y="6750"/>
                  <a:pt x="5912" y="6759"/>
                  <a:pt x="5879" y="6747"/>
                </a:cubicBezTo>
                <a:cubicBezTo>
                  <a:pt x="5991" y="6677"/>
                  <a:pt x="6020" y="6661"/>
                  <a:pt x="6127" y="6722"/>
                </a:cubicBezTo>
                <a:cubicBezTo>
                  <a:pt x="6238" y="6785"/>
                  <a:pt x="6252" y="6808"/>
                  <a:pt x="6300" y="6921"/>
                </a:cubicBezTo>
                <a:cubicBezTo>
                  <a:pt x="6321" y="6971"/>
                  <a:pt x="6347" y="7062"/>
                  <a:pt x="6325" y="7119"/>
                </a:cubicBezTo>
                <a:cubicBezTo>
                  <a:pt x="6306" y="7168"/>
                  <a:pt x="6218" y="7186"/>
                  <a:pt x="6176" y="7193"/>
                </a:cubicBezTo>
                <a:cubicBezTo>
                  <a:pt x="6097" y="7206"/>
                  <a:pt x="5992" y="7203"/>
                  <a:pt x="5928" y="7169"/>
                </a:cubicBezTo>
                <a:cubicBezTo>
                  <a:pt x="5847" y="7126"/>
                  <a:pt x="5855" y="7171"/>
                  <a:pt x="5829" y="7094"/>
                </a:cubicBezTo>
              </a:path>
              <a:path w="10518" h="2531">
                <a:moveTo>
                  <a:pt x="7094" y="6350"/>
                </a:moveTo>
                <a:cubicBezTo>
                  <a:pt x="7094" y="6487"/>
                  <a:pt x="7087" y="6614"/>
                  <a:pt x="7069" y="6747"/>
                </a:cubicBezTo>
                <a:cubicBezTo>
                  <a:pt x="7056" y="6839"/>
                  <a:pt x="7098" y="7162"/>
                  <a:pt x="7045" y="7144"/>
                </a:cubicBezTo>
              </a:path>
              <a:path w="10518" h="2531">
                <a:moveTo>
                  <a:pt x="6772" y="6722"/>
                </a:moveTo>
                <a:cubicBezTo>
                  <a:pt x="6852" y="6695"/>
                  <a:pt x="6957" y="6682"/>
                  <a:pt x="7045" y="6697"/>
                </a:cubicBezTo>
                <a:cubicBezTo>
                  <a:pt x="7147" y="6715"/>
                  <a:pt x="7237" y="6722"/>
                  <a:pt x="7342" y="6722"/>
                </a:cubicBezTo>
              </a:path>
              <a:path w="10518" h="2531">
                <a:moveTo>
                  <a:pt x="7764" y="6598"/>
                </a:moveTo>
                <a:cubicBezTo>
                  <a:pt x="7661" y="6636"/>
                  <a:pt x="7588" y="6690"/>
                  <a:pt x="7516" y="6772"/>
                </a:cubicBezTo>
                <a:cubicBezTo>
                  <a:pt x="7445" y="6853"/>
                  <a:pt x="7407" y="6971"/>
                  <a:pt x="7441" y="7069"/>
                </a:cubicBezTo>
                <a:cubicBezTo>
                  <a:pt x="7470" y="7151"/>
                  <a:pt x="7588" y="7162"/>
                  <a:pt x="7665" y="7144"/>
                </a:cubicBezTo>
                <a:cubicBezTo>
                  <a:pt x="7752" y="7123"/>
                  <a:pt x="7777" y="7068"/>
                  <a:pt x="7813" y="6995"/>
                </a:cubicBezTo>
                <a:cubicBezTo>
                  <a:pt x="7846" y="6929"/>
                  <a:pt x="7838" y="6869"/>
                  <a:pt x="7838" y="6796"/>
                </a:cubicBezTo>
                <a:cubicBezTo>
                  <a:pt x="7838" y="6665"/>
                  <a:pt x="7814" y="6901"/>
                  <a:pt x="7813" y="6921"/>
                </a:cubicBezTo>
                <a:cubicBezTo>
                  <a:pt x="7811" y="7006"/>
                  <a:pt x="7809" y="7169"/>
                  <a:pt x="7938" y="7169"/>
                </a:cubicBezTo>
                <a:cubicBezTo>
                  <a:pt x="7998" y="7149"/>
                  <a:pt x="8013" y="7150"/>
                  <a:pt x="8037" y="7119"/>
                </a:cubicBezTo>
              </a:path>
              <a:path w="10518" h="2531">
                <a:moveTo>
                  <a:pt x="8186" y="6772"/>
                </a:moveTo>
                <a:cubicBezTo>
                  <a:pt x="8168" y="6879"/>
                  <a:pt x="8140" y="7009"/>
                  <a:pt x="8161" y="7119"/>
                </a:cubicBezTo>
                <a:cubicBezTo>
                  <a:pt x="8169" y="7144"/>
                  <a:pt x="8178" y="7168"/>
                  <a:pt x="8186" y="7193"/>
                </a:cubicBezTo>
                <a:cubicBezTo>
                  <a:pt x="8186" y="7330"/>
                  <a:pt x="8209" y="7116"/>
                  <a:pt x="8210" y="7094"/>
                </a:cubicBezTo>
                <a:cubicBezTo>
                  <a:pt x="8214" y="7005"/>
                  <a:pt x="8229" y="6877"/>
                  <a:pt x="8260" y="6796"/>
                </a:cubicBezTo>
                <a:cubicBezTo>
                  <a:pt x="8282" y="6738"/>
                  <a:pt x="8338" y="6668"/>
                  <a:pt x="8384" y="6623"/>
                </a:cubicBezTo>
                <a:cubicBezTo>
                  <a:pt x="8443" y="6652"/>
                  <a:pt x="8526" y="6683"/>
                  <a:pt x="8558" y="6747"/>
                </a:cubicBezTo>
                <a:cubicBezTo>
                  <a:pt x="8607" y="6845"/>
                  <a:pt x="8620" y="7042"/>
                  <a:pt x="8632" y="7144"/>
                </a:cubicBezTo>
                <a:cubicBezTo>
                  <a:pt x="8639" y="7203"/>
                  <a:pt x="8632" y="7218"/>
                  <a:pt x="8682" y="7243"/>
                </a:cubicBezTo>
              </a:path>
              <a:path w="10518" h="2531">
                <a:moveTo>
                  <a:pt x="8806" y="6052"/>
                </a:moveTo>
                <a:cubicBezTo>
                  <a:pt x="8886" y="6010"/>
                  <a:pt x="9005" y="5924"/>
                  <a:pt x="9103" y="6003"/>
                </a:cubicBezTo>
                <a:cubicBezTo>
                  <a:pt x="9161" y="6050"/>
                  <a:pt x="9173" y="6170"/>
                  <a:pt x="9128" y="6226"/>
                </a:cubicBezTo>
                <a:cubicBezTo>
                  <a:pt x="9093" y="6271"/>
                  <a:pt x="8987" y="6401"/>
                  <a:pt x="8905" y="6375"/>
                </a:cubicBezTo>
                <a:cubicBezTo>
                  <a:pt x="8831" y="6352"/>
                  <a:pt x="8814" y="6293"/>
                  <a:pt x="8806" y="6226"/>
                </a:cubicBezTo>
                <a:cubicBezTo>
                  <a:pt x="8867" y="6189"/>
                  <a:pt x="8911" y="6196"/>
                  <a:pt x="8979" y="6226"/>
                </a:cubicBezTo>
                <a:cubicBezTo>
                  <a:pt x="9037" y="6252"/>
                  <a:pt x="9099" y="6284"/>
                  <a:pt x="9153" y="6300"/>
                </a:cubicBezTo>
                <a:cubicBezTo>
                  <a:pt x="9161" y="6300"/>
                  <a:pt x="9170" y="6300"/>
                  <a:pt x="9178" y="6300"/>
                </a:cubicBezTo>
              </a:path>
              <a:path w="10518" h="2531">
                <a:moveTo>
                  <a:pt x="9748" y="5804"/>
                </a:moveTo>
                <a:cubicBezTo>
                  <a:pt x="9748" y="5924"/>
                  <a:pt x="9722" y="5947"/>
                  <a:pt x="9674" y="6052"/>
                </a:cubicBezTo>
                <a:cubicBezTo>
                  <a:pt x="9600" y="6213"/>
                  <a:pt x="9555" y="6378"/>
                  <a:pt x="9500" y="6548"/>
                </a:cubicBezTo>
                <a:cubicBezTo>
                  <a:pt x="9439" y="6736"/>
                  <a:pt x="9387" y="6897"/>
                  <a:pt x="9351" y="7094"/>
                </a:cubicBezTo>
                <a:cubicBezTo>
                  <a:pt x="9317" y="7284"/>
                  <a:pt x="9338" y="7451"/>
                  <a:pt x="9351" y="7640"/>
                </a:cubicBezTo>
                <a:cubicBezTo>
                  <a:pt x="9361" y="7779"/>
                  <a:pt x="9381" y="7888"/>
                  <a:pt x="9451" y="8012"/>
                </a:cubicBezTo>
                <a:cubicBezTo>
                  <a:pt x="9522" y="8138"/>
                  <a:pt x="9520" y="8120"/>
                  <a:pt x="9649" y="8111"/>
                </a:cubicBezTo>
              </a:path>
              <a:path w="10518" h="2531">
                <a:moveTo>
                  <a:pt x="9996" y="6524"/>
                </a:moveTo>
                <a:cubicBezTo>
                  <a:pt x="9974" y="6567"/>
                  <a:pt x="9970" y="6578"/>
                  <a:pt x="9947" y="6598"/>
                </a:cubicBezTo>
                <a:cubicBezTo>
                  <a:pt x="9953" y="6530"/>
                  <a:pt x="9954" y="6452"/>
                  <a:pt x="9996" y="6400"/>
                </a:cubicBezTo>
                <a:cubicBezTo>
                  <a:pt x="10025" y="6364"/>
                  <a:pt x="10063" y="6333"/>
                  <a:pt x="10096" y="6300"/>
                </a:cubicBezTo>
                <a:cubicBezTo>
                  <a:pt x="10207" y="6364"/>
                  <a:pt x="10195" y="6424"/>
                  <a:pt x="10195" y="6548"/>
                </a:cubicBezTo>
                <a:cubicBezTo>
                  <a:pt x="10195" y="6697"/>
                  <a:pt x="10180" y="6852"/>
                  <a:pt x="10145" y="6995"/>
                </a:cubicBezTo>
                <a:cubicBezTo>
                  <a:pt x="10124" y="7079"/>
                  <a:pt x="10104" y="7153"/>
                  <a:pt x="10046" y="7218"/>
                </a:cubicBezTo>
                <a:cubicBezTo>
                  <a:pt x="9990" y="7280"/>
                  <a:pt x="9946" y="7228"/>
                  <a:pt x="9922" y="7169"/>
                </a:cubicBezTo>
                <a:cubicBezTo>
                  <a:pt x="9895" y="7102"/>
                  <a:pt x="9877" y="7027"/>
                  <a:pt x="9922" y="6970"/>
                </a:cubicBezTo>
                <a:cubicBezTo>
                  <a:pt x="9930" y="6962"/>
                  <a:pt x="9939" y="6953"/>
                  <a:pt x="9947" y="6945"/>
                </a:cubicBezTo>
                <a:cubicBezTo>
                  <a:pt x="10051" y="6966"/>
                  <a:pt x="10079" y="6996"/>
                  <a:pt x="10145" y="7069"/>
                </a:cubicBezTo>
                <a:cubicBezTo>
                  <a:pt x="10180" y="7104"/>
                  <a:pt x="10202" y="7108"/>
                  <a:pt x="10244" y="7069"/>
                </a:cubicBezTo>
              </a:path>
              <a:path w="10518" h="2531">
                <a:moveTo>
                  <a:pt x="10641" y="6896"/>
                </a:moveTo>
                <a:lnTo>
                  <a:pt x="10641" y="6896"/>
                </a:lnTo>
              </a:path>
              <a:path w="10518" h="2531">
                <a:moveTo>
                  <a:pt x="10815" y="6300"/>
                </a:moveTo>
                <a:cubicBezTo>
                  <a:pt x="10889" y="6242"/>
                  <a:pt x="10945" y="6251"/>
                  <a:pt x="11038" y="6251"/>
                </a:cubicBezTo>
                <a:cubicBezTo>
                  <a:pt x="11137" y="6251"/>
                  <a:pt x="11240" y="6247"/>
                  <a:pt x="11336" y="6226"/>
                </a:cubicBezTo>
                <a:cubicBezTo>
                  <a:pt x="11361" y="6218"/>
                  <a:pt x="11385" y="6209"/>
                  <a:pt x="11410" y="6201"/>
                </a:cubicBezTo>
              </a:path>
              <a:path w="10518" h="2531">
                <a:moveTo>
                  <a:pt x="11063" y="6251"/>
                </a:moveTo>
                <a:cubicBezTo>
                  <a:pt x="11012" y="6469"/>
                  <a:pt x="10988" y="6571"/>
                  <a:pt x="10988" y="6772"/>
                </a:cubicBezTo>
                <a:cubicBezTo>
                  <a:pt x="10988" y="6855"/>
                  <a:pt x="11022" y="6908"/>
                  <a:pt x="11038" y="6796"/>
                </a:cubicBezTo>
              </a:path>
              <a:path w="10518" h="2531">
                <a:moveTo>
                  <a:pt x="11237" y="6251"/>
                </a:moveTo>
                <a:cubicBezTo>
                  <a:pt x="11237" y="6434"/>
                  <a:pt x="11207" y="6650"/>
                  <a:pt x="11261" y="6821"/>
                </a:cubicBezTo>
                <a:cubicBezTo>
                  <a:pt x="11286" y="6896"/>
                  <a:pt x="11294" y="6920"/>
                  <a:pt x="11311" y="6970"/>
                </a:cubicBezTo>
              </a:path>
              <a:path w="10518" h="2531">
                <a:moveTo>
                  <a:pt x="10790" y="6945"/>
                </a:moveTo>
                <a:cubicBezTo>
                  <a:pt x="10891" y="6934"/>
                  <a:pt x="10984" y="6921"/>
                  <a:pt x="11088" y="6921"/>
                </a:cubicBezTo>
                <a:cubicBezTo>
                  <a:pt x="11235" y="6921"/>
                  <a:pt x="11348" y="6893"/>
                  <a:pt x="11485" y="6871"/>
                </a:cubicBezTo>
                <a:cubicBezTo>
                  <a:pt x="11510" y="6871"/>
                  <a:pt x="11534" y="6871"/>
                  <a:pt x="11559" y="6871"/>
                </a:cubicBezTo>
              </a:path>
              <a:path w="10518" h="2531">
                <a:moveTo>
                  <a:pt x="11187" y="7342"/>
                </a:moveTo>
                <a:cubicBezTo>
                  <a:pt x="11153" y="7542"/>
                  <a:pt x="11137" y="7671"/>
                  <a:pt x="11137" y="7863"/>
                </a:cubicBezTo>
                <a:cubicBezTo>
                  <a:pt x="11137" y="7908"/>
                  <a:pt x="11134" y="7921"/>
                  <a:pt x="11162" y="7938"/>
                </a:cubicBezTo>
              </a:path>
              <a:path w="10518" h="2531">
                <a:moveTo>
                  <a:pt x="11311" y="7392"/>
                </a:moveTo>
                <a:cubicBezTo>
                  <a:pt x="11386" y="7316"/>
                  <a:pt x="11419" y="7267"/>
                  <a:pt x="11534" y="7293"/>
                </a:cubicBezTo>
                <a:cubicBezTo>
                  <a:pt x="11613" y="7311"/>
                  <a:pt x="11649" y="7447"/>
                  <a:pt x="11658" y="7516"/>
                </a:cubicBezTo>
                <a:cubicBezTo>
                  <a:pt x="11669" y="7605"/>
                  <a:pt x="11634" y="7760"/>
                  <a:pt x="11584" y="7838"/>
                </a:cubicBezTo>
                <a:cubicBezTo>
                  <a:pt x="11560" y="7876"/>
                  <a:pt x="11492" y="7930"/>
                  <a:pt x="11460" y="7962"/>
                </a:cubicBezTo>
                <a:cubicBezTo>
                  <a:pt x="11409" y="7912"/>
                  <a:pt x="11379" y="7859"/>
                  <a:pt x="11435" y="7789"/>
                </a:cubicBezTo>
                <a:cubicBezTo>
                  <a:pt x="11475" y="7740"/>
                  <a:pt x="11542" y="7812"/>
                  <a:pt x="11584" y="7838"/>
                </a:cubicBezTo>
                <a:cubicBezTo>
                  <a:pt x="11667" y="7889"/>
                  <a:pt x="11744" y="7924"/>
                  <a:pt x="11832" y="7962"/>
                </a:cubicBezTo>
                <a:cubicBezTo>
                  <a:pt x="11924" y="8001"/>
                  <a:pt x="11928" y="7989"/>
                  <a:pt x="12005" y="7938"/>
                </a:cubicBezTo>
              </a:path>
              <a:path w="10518" h="2531">
                <a:moveTo>
                  <a:pt x="11683" y="5755"/>
                </a:moveTo>
                <a:cubicBezTo>
                  <a:pt x="11760" y="5770"/>
                  <a:pt x="11771" y="5768"/>
                  <a:pt x="11832" y="5879"/>
                </a:cubicBezTo>
                <a:cubicBezTo>
                  <a:pt x="11917" y="6034"/>
                  <a:pt x="11974" y="6181"/>
                  <a:pt x="12030" y="6350"/>
                </a:cubicBezTo>
                <a:cubicBezTo>
                  <a:pt x="12108" y="6584"/>
                  <a:pt x="12166" y="6773"/>
                  <a:pt x="12204" y="7020"/>
                </a:cubicBezTo>
                <a:cubicBezTo>
                  <a:pt x="12248" y="7304"/>
                  <a:pt x="12253" y="7502"/>
                  <a:pt x="12204" y="7789"/>
                </a:cubicBezTo>
                <a:cubicBezTo>
                  <a:pt x="12176" y="7956"/>
                  <a:pt x="12113" y="8061"/>
                  <a:pt x="12005" y="8186"/>
                </a:cubicBezTo>
                <a:cubicBezTo>
                  <a:pt x="11938" y="8264"/>
                  <a:pt x="11935" y="8258"/>
                  <a:pt x="11857" y="8235"/>
                </a:cubicBezTo>
                <a:cubicBezTo>
                  <a:pt x="11849" y="8227"/>
                  <a:pt x="11840" y="8218"/>
                  <a:pt x="11832" y="8210"/>
                </a:cubicBezTo>
              </a:path>
              <a:path w="10518" h="2531">
                <a:moveTo>
                  <a:pt x="12650" y="7045"/>
                </a:moveTo>
                <a:cubicBezTo>
                  <a:pt x="12802" y="7068"/>
                  <a:pt x="12943" y="7069"/>
                  <a:pt x="13097" y="7069"/>
                </a:cubicBezTo>
                <a:cubicBezTo>
                  <a:pt x="13256" y="7069"/>
                  <a:pt x="13344" y="7028"/>
                  <a:pt x="13494" y="6970"/>
                </a:cubicBezTo>
              </a:path>
              <a:path w="10518" h="2531">
                <a:moveTo>
                  <a:pt x="13767" y="5854"/>
                </a:moveTo>
                <a:cubicBezTo>
                  <a:pt x="13747" y="6047"/>
                  <a:pt x="13742" y="6230"/>
                  <a:pt x="13742" y="6424"/>
                </a:cubicBezTo>
                <a:cubicBezTo>
                  <a:pt x="13742" y="6708"/>
                  <a:pt x="13743" y="6989"/>
                  <a:pt x="13717" y="7268"/>
                </a:cubicBezTo>
                <a:cubicBezTo>
                  <a:pt x="13708" y="7359"/>
                  <a:pt x="13742" y="7425"/>
                  <a:pt x="13791" y="7491"/>
                </a:cubicBezTo>
              </a:path>
              <a:path w="10518" h="2531">
                <a:moveTo>
                  <a:pt x="14288" y="6846"/>
                </a:moveTo>
                <a:cubicBezTo>
                  <a:pt x="14473" y="6806"/>
                  <a:pt x="14541" y="6806"/>
                  <a:pt x="14709" y="6821"/>
                </a:cubicBezTo>
              </a:path>
              <a:path w="10518" h="2531">
                <a:moveTo>
                  <a:pt x="14461" y="7094"/>
                </a:moveTo>
                <a:cubicBezTo>
                  <a:pt x="14619" y="7094"/>
                  <a:pt x="14692" y="7083"/>
                  <a:pt x="14833" y="7020"/>
                </a:cubicBezTo>
                <a:cubicBezTo>
                  <a:pt x="14874" y="7003"/>
                  <a:pt x="14916" y="6987"/>
                  <a:pt x="14957" y="6970"/>
                </a:cubicBezTo>
              </a:path>
              <a:path w="10518" h="2531">
                <a:moveTo>
                  <a:pt x="15429" y="6400"/>
                </a:moveTo>
                <a:cubicBezTo>
                  <a:pt x="15421" y="6516"/>
                  <a:pt x="15397" y="6631"/>
                  <a:pt x="15379" y="6747"/>
                </a:cubicBezTo>
                <a:cubicBezTo>
                  <a:pt x="15352" y="6917"/>
                  <a:pt x="15391" y="7063"/>
                  <a:pt x="15478" y="7218"/>
                </a:cubicBezTo>
                <a:cubicBezTo>
                  <a:pt x="15549" y="7344"/>
                  <a:pt x="15625" y="7367"/>
                  <a:pt x="15751" y="7417"/>
                </a:cubicBezTo>
                <a:cubicBezTo>
                  <a:pt x="15863" y="7461"/>
                  <a:pt x="15949" y="7451"/>
                  <a:pt x="16049" y="7392"/>
                </a:cubicBezTo>
                <a:cubicBezTo>
                  <a:pt x="16173" y="7318"/>
                  <a:pt x="16209" y="7220"/>
                  <a:pt x="16272" y="7094"/>
                </a:cubicBezTo>
                <a:cubicBezTo>
                  <a:pt x="16346" y="6945"/>
                  <a:pt x="16335" y="6807"/>
                  <a:pt x="16272" y="6648"/>
                </a:cubicBezTo>
                <a:cubicBezTo>
                  <a:pt x="16225" y="6530"/>
                  <a:pt x="16108" y="6435"/>
                  <a:pt x="15999" y="6400"/>
                </a:cubicBezTo>
                <a:cubicBezTo>
                  <a:pt x="15885" y="6363"/>
                  <a:pt x="15770" y="6375"/>
                  <a:pt x="15652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Ink 7"/>
          <p:cNvSpPr/>
          <p:nvPr/>
        </p:nvSpPr>
        <p:spPr>
          <a:xfrm>
            <a:off x="2347920" y="3054240"/>
            <a:ext cx="2135160" cy="669960"/>
          </a:xfrm>
          <a:custGeom>
            <a:avLst/>
            <a:gdLst/>
            <a:ahLst/>
            <a:rect l="l" t="t" r="r" b="b"/>
            <a:pathLst>
              <a:path w="5929" h="1862">
                <a:moveTo>
                  <a:pt x="6524" y="8806"/>
                </a:moveTo>
                <a:cubicBezTo>
                  <a:pt x="6584" y="8757"/>
                  <a:pt x="6648" y="8731"/>
                  <a:pt x="6722" y="8706"/>
                </a:cubicBezTo>
                <a:cubicBezTo>
                  <a:pt x="6822" y="8672"/>
                  <a:pt x="6878" y="8664"/>
                  <a:pt x="6945" y="8731"/>
                </a:cubicBezTo>
                <a:cubicBezTo>
                  <a:pt x="6996" y="8782"/>
                  <a:pt x="6906" y="8939"/>
                  <a:pt x="6871" y="8979"/>
                </a:cubicBezTo>
                <a:cubicBezTo>
                  <a:pt x="6833" y="9023"/>
                  <a:pt x="6755" y="9045"/>
                  <a:pt x="6722" y="9029"/>
                </a:cubicBezTo>
                <a:cubicBezTo>
                  <a:pt x="6756" y="8970"/>
                  <a:pt x="6791" y="8923"/>
                  <a:pt x="6871" y="8954"/>
                </a:cubicBezTo>
                <a:cubicBezTo>
                  <a:pt x="6932" y="8977"/>
                  <a:pt x="6994" y="9044"/>
                  <a:pt x="7020" y="9103"/>
                </a:cubicBezTo>
                <a:cubicBezTo>
                  <a:pt x="7039" y="9147"/>
                  <a:pt x="7076" y="9307"/>
                  <a:pt x="7045" y="9351"/>
                </a:cubicBezTo>
                <a:cubicBezTo>
                  <a:pt x="7010" y="9400"/>
                  <a:pt x="6823" y="9453"/>
                  <a:pt x="6772" y="9451"/>
                </a:cubicBezTo>
                <a:cubicBezTo>
                  <a:pt x="6707" y="9449"/>
                  <a:pt x="6603" y="9415"/>
                  <a:pt x="6548" y="9376"/>
                </a:cubicBezTo>
                <a:cubicBezTo>
                  <a:pt x="6526" y="9354"/>
                  <a:pt x="6518" y="9349"/>
                  <a:pt x="6524" y="9327"/>
                </a:cubicBezTo>
              </a:path>
              <a:path w="5929" h="1862">
                <a:moveTo>
                  <a:pt x="7689" y="8806"/>
                </a:moveTo>
                <a:cubicBezTo>
                  <a:pt x="7672" y="8977"/>
                  <a:pt x="7645" y="9135"/>
                  <a:pt x="7689" y="9302"/>
                </a:cubicBezTo>
                <a:cubicBezTo>
                  <a:pt x="7714" y="9397"/>
                  <a:pt x="7727" y="9457"/>
                  <a:pt x="7764" y="9550"/>
                </a:cubicBezTo>
              </a:path>
              <a:path w="5929" h="1862">
                <a:moveTo>
                  <a:pt x="7441" y="9103"/>
                </a:moveTo>
                <a:cubicBezTo>
                  <a:pt x="7545" y="9073"/>
                  <a:pt x="7678" y="9063"/>
                  <a:pt x="7789" y="9054"/>
                </a:cubicBezTo>
                <a:cubicBezTo>
                  <a:pt x="7906" y="9045"/>
                  <a:pt x="8021" y="9034"/>
                  <a:pt x="8136" y="9029"/>
                </a:cubicBezTo>
                <a:cubicBezTo>
                  <a:pt x="8153" y="9029"/>
                  <a:pt x="8169" y="9029"/>
                  <a:pt x="8186" y="9029"/>
                </a:cubicBezTo>
                <a:cubicBezTo>
                  <a:pt x="8209" y="9125"/>
                  <a:pt x="8168" y="9164"/>
                  <a:pt x="8111" y="9252"/>
                </a:cubicBezTo>
                <a:cubicBezTo>
                  <a:pt x="8087" y="9288"/>
                  <a:pt x="7965" y="9398"/>
                  <a:pt x="7987" y="9451"/>
                </a:cubicBezTo>
                <a:cubicBezTo>
                  <a:pt x="8017" y="9480"/>
                  <a:pt x="8029" y="9494"/>
                  <a:pt x="8037" y="9525"/>
                </a:cubicBezTo>
                <a:cubicBezTo>
                  <a:pt x="8084" y="9511"/>
                  <a:pt x="8150" y="9477"/>
                  <a:pt x="8186" y="9426"/>
                </a:cubicBezTo>
                <a:cubicBezTo>
                  <a:pt x="8226" y="9370"/>
                  <a:pt x="8271" y="9268"/>
                  <a:pt x="8285" y="9203"/>
                </a:cubicBezTo>
                <a:cubicBezTo>
                  <a:pt x="8285" y="9186"/>
                  <a:pt x="8285" y="9170"/>
                  <a:pt x="8285" y="9153"/>
                </a:cubicBezTo>
                <a:cubicBezTo>
                  <a:pt x="8285" y="9237"/>
                  <a:pt x="8275" y="9309"/>
                  <a:pt x="8334" y="9376"/>
                </a:cubicBezTo>
                <a:cubicBezTo>
                  <a:pt x="8391" y="9442"/>
                  <a:pt x="8429" y="9426"/>
                  <a:pt x="8508" y="9426"/>
                </a:cubicBezTo>
              </a:path>
              <a:path w="5929" h="1862">
                <a:moveTo>
                  <a:pt x="8632" y="9277"/>
                </a:moveTo>
                <a:cubicBezTo>
                  <a:pt x="8632" y="9419"/>
                  <a:pt x="8622" y="9447"/>
                  <a:pt x="8657" y="9525"/>
                </a:cubicBezTo>
                <a:cubicBezTo>
                  <a:pt x="8687" y="9455"/>
                  <a:pt x="8703" y="9405"/>
                  <a:pt x="8706" y="9327"/>
                </a:cubicBezTo>
                <a:cubicBezTo>
                  <a:pt x="8709" y="9244"/>
                  <a:pt x="8726" y="9158"/>
                  <a:pt x="8756" y="9079"/>
                </a:cubicBezTo>
                <a:cubicBezTo>
                  <a:pt x="8794" y="8980"/>
                  <a:pt x="8889" y="8980"/>
                  <a:pt x="8954" y="9054"/>
                </a:cubicBezTo>
                <a:cubicBezTo>
                  <a:pt x="9010" y="9117"/>
                  <a:pt x="9048" y="9226"/>
                  <a:pt x="9079" y="9302"/>
                </a:cubicBezTo>
                <a:cubicBezTo>
                  <a:pt x="9116" y="9395"/>
                  <a:pt x="9138" y="9484"/>
                  <a:pt x="9178" y="9575"/>
                </a:cubicBezTo>
              </a:path>
              <a:path w="5929" h="1862">
                <a:moveTo>
                  <a:pt x="9153" y="8558"/>
                </a:moveTo>
                <a:cubicBezTo>
                  <a:pt x="9200" y="8501"/>
                  <a:pt x="9295" y="8472"/>
                  <a:pt x="9376" y="8533"/>
                </a:cubicBezTo>
                <a:cubicBezTo>
                  <a:pt x="9448" y="8587"/>
                  <a:pt x="9409" y="8628"/>
                  <a:pt x="9376" y="8682"/>
                </a:cubicBezTo>
                <a:cubicBezTo>
                  <a:pt x="9342" y="8738"/>
                  <a:pt x="9325" y="8784"/>
                  <a:pt x="9277" y="8830"/>
                </a:cubicBezTo>
                <a:cubicBezTo>
                  <a:pt x="9332" y="8885"/>
                  <a:pt x="9389" y="8902"/>
                  <a:pt x="9475" y="8880"/>
                </a:cubicBezTo>
                <a:cubicBezTo>
                  <a:pt x="9516" y="8863"/>
                  <a:pt x="9558" y="8847"/>
                  <a:pt x="9599" y="8830"/>
                </a:cubicBezTo>
              </a:path>
              <a:path w="5929" h="1862">
                <a:moveTo>
                  <a:pt x="10145" y="8508"/>
                </a:moveTo>
                <a:cubicBezTo>
                  <a:pt x="10086" y="8658"/>
                  <a:pt x="10036" y="8799"/>
                  <a:pt x="9996" y="8954"/>
                </a:cubicBezTo>
                <a:cubicBezTo>
                  <a:pt x="9955" y="9111"/>
                  <a:pt x="9926" y="9264"/>
                  <a:pt x="9922" y="9426"/>
                </a:cubicBezTo>
                <a:cubicBezTo>
                  <a:pt x="9918" y="9599"/>
                  <a:pt x="9960" y="9778"/>
                  <a:pt x="9996" y="9947"/>
                </a:cubicBezTo>
                <a:cubicBezTo>
                  <a:pt x="10024" y="10082"/>
                  <a:pt x="10061" y="10183"/>
                  <a:pt x="10170" y="10244"/>
                </a:cubicBezTo>
              </a:path>
              <a:path w="5929" h="1862">
                <a:moveTo>
                  <a:pt x="10443" y="8830"/>
                </a:moveTo>
                <a:cubicBezTo>
                  <a:pt x="10588" y="8776"/>
                  <a:pt x="10710" y="8790"/>
                  <a:pt x="10864" y="8756"/>
                </a:cubicBezTo>
                <a:cubicBezTo>
                  <a:pt x="10889" y="8748"/>
                  <a:pt x="10914" y="8739"/>
                  <a:pt x="10939" y="8731"/>
                </a:cubicBezTo>
              </a:path>
              <a:path w="5929" h="1862">
                <a:moveTo>
                  <a:pt x="10641" y="8880"/>
                </a:moveTo>
                <a:cubicBezTo>
                  <a:pt x="10637" y="8932"/>
                  <a:pt x="10548" y="9199"/>
                  <a:pt x="10666" y="9227"/>
                </a:cubicBezTo>
              </a:path>
              <a:path w="5929" h="1862">
                <a:moveTo>
                  <a:pt x="10864" y="8781"/>
                </a:moveTo>
                <a:cubicBezTo>
                  <a:pt x="10864" y="8909"/>
                  <a:pt x="10856" y="9029"/>
                  <a:pt x="10889" y="9153"/>
                </a:cubicBezTo>
                <a:cubicBezTo>
                  <a:pt x="10916" y="9253"/>
                  <a:pt x="10960" y="9316"/>
                  <a:pt x="11013" y="9401"/>
                </a:cubicBezTo>
              </a:path>
              <a:path w="5929" h="1862">
                <a:moveTo>
                  <a:pt x="10517" y="9351"/>
                </a:moveTo>
                <a:cubicBezTo>
                  <a:pt x="10635" y="9340"/>
                  <a:pt x="10744" y="9327"/>
                  <a:pt x="10864" y="9327"/>
                </a:cubicBezTo>
                <a:cubicBezTo>
                  <a:pt x="10977" y="9327"/>
                  <a:pt x="11034" y="9312"/>
                  <a:pt x="11137" y="9277"/>
                </a:cubicBezTo>
              </a:path>
              <a:path w="5929" h="1862">
                <a:moveTo>
                  <a:pt x="10889" y="9550"/>
                </a:moveTo>
                <a:cubicBezTo>
                  <a:pt x="10858" y="9684"/>
                  <a:pt x="10786" y="9839"/>
                  <a:pt x="10840" y="9971"/>
                </a:cubicBezTo>
                <a:cubicBezTo>
                  <a:pt x="10887" y="10084"/>
                  <a:pt x="11019" y="10147"/>
                  <a:pt x="11137" y="10120"/>
                </a:cubicBezTo>
                <a:cubicBezTo>
                  <a:pt x="11201" y="10105"/>
                  <a:pt x="11248" y="10031"/>
                  <a:pt x="11261" y="9971"/>
                </a:cubicBezTo>
                <a:cubicBezTo>
                  <a:pt x="11273" y="9917"/>
                  <a:pt x="11245" y="9905"/>
                  <a:pt x="11212" y="9872"/>
                </a:cubicBezTo>
                <a:cubicBezTo>
                  <a:pt x="11130" y="9913"/>
                  <a:pt x="11083" y="9939"/>
                  <a:pt x="11038" y="10021"/>
                </a:cubicBezTo>
                <a:cubicBezTo>
                  <a:pt x="10961" y="10159"/>
                  <a:pt x="11126" y="10145"/>
                  <a:pt x="11212" y="10145"/>
                </a:cubicBezTo>
              </a:path>
              <a:path w="5929" h="1862">
                <a:moveTo>
                  <a:pt x="11063" y="8607"/>
                </a:moveTo>
                <a:cubicBezTo>
                  <a:pt x="11206" y="8595"/>
                  <a:pt x="11310" y="8748"/>
                  <a:pt x="11410" y="8905"/>
                </a:cubicBezTo>
                <a:cubicBezTo>
                  <a:pt x="11514" y="9067"/>
                  <a:pt x="11595" y="9211"/>
                  <a:pt x="11633" y="9401"/>
                </a:cubicBezTo>
                <a:cubicBezTo>
                  <a:pt x="11662" y="9549"/>
                  <a:pt x="11727" y="9771"/>
                  <a:pt x="11683" y="9922"/>
                </a:cubicBezTo>
                <a:cubicBezTo>
                  <a:pt x="11660" y="10002"/>
                  <a:pt x="11575" y="10212"/>
                  <a:pt x="11509" y="10269"/>
                </a:cubicBezTo>
                <a:cubicBezTo>
                  <a:pt x="11441" y="10328"/>
                  <a:pt x="11395" y="10324"/>
                  <a:pt x="11361" y="10319"/>
                </a:cubicBezTo>
              </a:path>
              <a:path w="5929" h="1862">
                <a:moveTo>
                  <a:pt x="11683" y="8483"/>
                </a:moveTo>
                <a:cubicBezTo>
                  <a:pt x="11712" y="8512"/>
                  <a:pt x="11721" y="8524"/>
                  <a:pt x="11757" y="8533"/>
                </a:cubicBezTo>
              </a:path>
              <a:path w="5929" h="1862">
                <a:moveTo>
                  <a:pt x="11981" y="9351"/>
                </a:moveTo>
                <a:cubicBezTo>
                  <a:pt x="12138" y="9351"/>
                  <a:pt x="12295" y="9351"/>
                  <a:pt x="12452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Ink 8"/>
          <p:cNvSpPr/>
          <p:nvPr/>
        </p:nvSpPr>
        <p:spPr>
          <a:xfrm>
            <a:off x="4697280" y="3197160"/>
            <a:ext cx="776520" cy="374760"/>
          </a:xfrm>
          <a:custGeom>
            <a:avLst/>
            <a:gdLst/>
            <a:ahLst/>
            <a:rect l="l" t="t" r="r" b="b"/>
            <a:pathLst>
              <a:path w="2159" h="1043">
                <a:moveTo>
                  <a:pt x="13072" y="8880"/>
                </a:moveTo>
                <a:cubicBezTo>
                  <a:pt x="13052" y="9057"/>
                  <a:pt x="13047" y="9223"/>
                  <a:pt x="13047" y="9401"/>
                </a:cubicBezTo>
                <a:cubicBezTo>
                  <a:pt x="13047" y="9528"/>
                  <a:pt x="13097" y="9643"/>
                  <a:pt x="13097" y="9773"/>
                </a:cubicBezTo>
                <a:cubicBezTo>
                  <a:pt x="13097" y="9841"/>
                  <a:pt x="13069" y="9915"/>
                  <a:pt x="13122" y="9897"/>
                </a:cubicBezTo>
              </a:path>
              <a:path w="2159" h="1043">
                <a:moveTo>
                  <a:pt x="13494" y="9351"/>
                </a:moveTo>
                <a:cubicBezTo>
                  <a:pt x="13634" y="9346"/>
                  <a:pt x="13756" y="9327"/>
                  <a:pt x="13891" y="9327"/>
                </a:cubicBezTo>
              </a:path>
              <a:path w="2159" h="1043">
                <a:moveTo>
                  <a:pt x="13618" y="9599"/>
                </a:moveTo>
                <a:cubicBezTo>
                  <a:pt x="13772" y="9625"/>
                  <a:pt x="13864" y="9619"/>
                  <a:pt x="14015" y="9575"/>
                </a:cubicBezTo>
                <a:cubicBezTo>
                  <a:pt x="14040" y="9567"/>
                  <a:pt x="14064" y="9558"/>
                  <a:pt x="14089" y="9550"/>
                </a:cubicBezTo>
              </a:path>
              <a:path w="2159" h="1043">
                <a:moveTo>
                  <a:pt x="14511" y="9128"/>
                </a:moveTo>
                <a:cubicBezTo>
                  <a:pt x="14478" y="9251"/>
                  <a:pt x="14394" y="9394"/>
                  <a:pt x="14412" y="9525"/>
                </a:cubicBezTo>
                <a:cubicBezTo>
                  <a:pt x="14424" y="9615"/>
                  <a:pt x="14478" y="9726"/>
                  <a:pt x="14560" y="9773"/>
                </a:cubicBezTo>
                <a:cubicBezTo>
                  <a:pt x="14673" y="9837"/>
                  <a:pt x="14838" y="9874"/>
                  <a:pt x="14957" y="9798"/>
                </a:cubicBezTo>
                <a:cubicBezTo>
                  <a:pt x="15071" y="9726"/>
                  <a:pt x="15165" y="9605"/>
                  <a:pt x="15205" y="9475"/>
                </a:cubicBezTo>
                <a:cubicBezTo>
                  <a:pt x="15229" y="9395"/>
                  <a:pt x="15202" y="9279"/>
                  <a:pt x="15180" y="9203"/>
                </a:cubicBezTo>
                <a:cubicBezTo>
                  <a:pt x="15139" y="9061"/>
                  <a:pt x="15001" y="8983"/>
                  <a:pt x="14858" y="8954"/>
                </a:cubicBezTo>
                <a:cubicBezTo>
                  <a:pt x="14833" y="8954"/>
                  <a:pt x="14809" y="8954"/>
                  <a:pt x="14784" y="89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Ink 9"/>
          <p:cNvSpPr/>
          <p:nvPr/>
        </p:nvSpPr>
        <p:spPr>
          <a:xfrm>
            <a:off x="3946680" y="3795840"/>
            <a:ext cx="2260440" cy="1268280"/>
          </a:xfrm>
          <a:custGeom>
            <a:avLst/>
            <a:gdLst/>
            <a:ahLst/>
            <a:rect l="l" t="t" r="r" b="b"/>
            <a:pathLst>
              <a:path w="6276" h="3523">
                <a:moveTo>
                  <a:pt x="10964" y="10542"/>
                </a:moveTo>
                <a:cubicBezTo>
                  <a:pt x="10964" y="10650"/>
                  <a:pt x="10968" y="10739"/>
                  <a:pt x="11013" y="10840"/>
                </a:cubicBezTo>
                <a:cubicBezTo>
                  <a:pt x="11114" y="11070"/>
                  <a:pt x="11254" y="11283"/>
                  <a:pt x="11361" y="11509"/>
                </a:cubicBezTo>
                <a:cubicBezTo>
                  <a:pt x="11367" y="11522"/>
                  <a:pt x="11456" y="11708"/>
                  <a:pt x="11385" y="11708"/>
                </a:cubicBezTo>
                <a:cubicBezTo>
                  <a:pt x="11377" y="11700"/>
                  <a:pt x="11369" y="11691"/>
                  <a:pt x="11361" y="11683"/>
                </a:cubicBezTo>
              </a:path>
              <a:path w="6276" h="3523">
                <a:moveTo>
                  <a:pt x="11038" y="11410"/>
                </a:moveTo>
                <a:cubicBezTo>
                  <a:pt x="11021" y="11402"/>
                  <a:pt x="11005" y="11393"/>
                  <a:pt x="10988" y="11385"/>
                </a:cubicBezTo>
                <a:cubicBezTo>
                  <a:pt x="11037" y="11446"/>
                  <a:pt x="11080" y="11502"/>
                  <a:pt x="11137" y="11559"/>
                </a:cubicBezTo>
                <a:cubicBezTo>
                  <a:pt x="11221" y="11643"/>
                  <a:pt x="11311" y="11744"/>
                  <a:pt x="11385" y="11832"/>
                </a:cubicBezTo>
                <a:cubicBezTo>
                  <a:pt x="11443" y="11901"/>
                  <a:pt x="11454" y="11958"/>
                  <a:pt x="11534" y="11981"/>
                </a:cubicBezTo>
                <a:cubicBezTo>
                  <a:pt x="11591" y="11895"/>
                  <a:pt x="11566" y="11851"/>
                  <a:pt x="11584" y="11757"/>
                </a:cubicBezTo>
                <a:cubicBezTo>
                  <a:pt x="11606" y="11642"/>
                  <a:pt x="11627" y="11563"/>
                  <a:pt x="11683" y="11460"/>
                </a:cubicBezTo>
                <a:cubicBezTo>
                  <a:pt x="11716" y="11400"/>
                  <a:pt x="11759" y="11359"/>
                  <a:pt x="11807" y="11311"/>
                </a:cubicBezTo>
              </a:path>
              <a:path w="6276" h="3523">
                <a:moveTo>
                  <a:pt x="11237" y="12328"/>
                </a:moveTo>
                <a:cubicBezTo>
                  <a:pt x="11294" y="12269"/>
                  <a:pt x="11343" y="12283"/>
                  <a:pt x="11410" y="12254"/>
                </a:cubicBezTo>
                <a:cubicBezTo>
                  <a:pt x="11480" y="12224"/>
                  <a:pt x="11534" y="12230"/>
                  <a:pt x="11609" y="12278"/>
                </a:cubicBezTo>
                <a:cubicBezTo>
                  <a:pt x="11663" y="12313"/>
                  <a:pt x="11746" y="12350"/>
                  <a:pt x="11733" y="12427"/>
                </a:cubicBezTo>
                <a:cubicBezTo>
                  <a:pt x="11717" y="12524"/>
                  <a:pt x="11646" y="12525"/>
                  <a:pt x="11584" y="12576"/>
                </a:cubicBezTo>
                <a:cubicBezTo>
                  <a:pt x="11515" y="12633"/>
                  <a:pt x="11487" y="12661"/>
                  <a:pt x="11410" y="12700"/>
                </a:cubicBezTo>
                <a:cubicBezTo>
                  <a:pt x="11451" y="12659"/>
                  <a:pt x="11482" y="12629"/>
                  <a:pt x="11534" y="12601"/>
                </a:cubicBezTo>
                <a:cubicBezTo>
                  <a:pt x="11600" y="12566"/>
                  <a:pt x="11712" y="12586"/>
                  <a:pt x="11757" y="12650"/>
                </a:cubicBezTo>
                <a:cubicBezTo>
                  <a:pt x="11824" y="12747"/>
                  <a:pt x="11832" y="12836"/>
                  <a:pt x="11832" y="12948"/>
                </a:cubicBezTo>
                <a:cubicBezTo>
                  <a:pt x="11832" y="13055"/>
                  <a:pt x="11760" y="13102"/>
                  <a:pt x="11658" y="13122"/>
                </a:cubicBezTo>
                <a:cubicBezTo>
                  <a:pt x="11591" y="13135"/>
                  <a:pt x="11519" y="13123"/>
                  <a:pt x="11460" y="13097"/>
                </a:cubicBezTo>
                <a:cubicBezTo>
                  <a:pt x="11386" y="13064"/>
                  <a:pt x="11392" y="13009"/>
                  <a:pt x="11410" y="12948"/>
                </a:cubicBezTo>
              </a:path>
              <a:path w="6276" h="3523">
                <a:moveTo>
                  <a:pt x="12154" y="12874"/>
                </a:moveTo>
                <a:cubicBezTo>
                  <a:pt x="12162" y="12866"/>
                  <a:pt x="12171" y="12857"/>
                  <a:pt x="12179" y="12849"/>
                </a:cubicBezTo>
              </a:path>
              <a:path w="6276" h="3523">
                <a:moveTo>
                  <a:pt x="12551" y="12551"/>
                </a:moveTo>
                <a:cubicBezTo>
                  <a:pt x="12551" y="12635"/>
                  <a:pt x="12550" y="12722"/>
                  <a:pt x="12576" y="12799"/>
                </a:cubicBezTo>
                <a:cubicBezTo>
                  <a:pt x="12601" y="12849"/>
                  <a:pt x="12609" y="12865"/>
                  <a:pt x="12626" y="12898"/>
                </a:cubicBezTo>
                <a:cubicBezTo>
                  <a:pt x="12618" y="12809"/>
                  <a:pt x="12599" y="12738"/>
                  <a:pt x="12576" y="12650"/>
                </a:cubicBezTo>
                <a:cubicBezTo>
                  <a:pt x="12549" y="12546"/>
                  <a:pt x="12530" y="12435"/>
                  <a:pt x="12526" y="12328"/>
                </a:cubicBezTo>
                <a:cubicBezTo>
                  <a:pt x="12523" y="12241"/>
                  <a:pt x="12520" y="12112"/>
                  <a:pt x="12601" y="12055"/>
                </a:cubicBezTo>
                <a:cubicBezTo>
                  <a:pt x="12680" y="11999"/>
                  <a:pt x="12783" y="12005"/>
                  <a:pt x="12874" y="12005"/>
                </a:cubicBezTo>
                <a:cubicBezTo>
                  <a:pt x="12987" y="12005"/>
                  <a:pt x="13098" y="12000"/>
                  <a:pt x="13196" y="12030"/>
                </a:cubicBezTo>
                <a:cubicBezTo>
                  <a:pt x="13204" y="12030"/>
                  <a:pt x="13213" y="12030"/>
                  <a:pt x="13221" y="12030"/>
                </a:cubicBezTo>
              </a:path>
              <a:path w="6276" h="3523">
                <a:moveTo>
                  <a:pt x="12923" y="12353"/>
                </a:moveTo>
                <a:cubicBezTo>
                  <a:pt x="12974" y="12312"/>
                  <a:pt x="13008" y="12282"/>
                  <a:pt x="13072" y="12278"/>
                </a:cubicBezTo>
                <a:cubicBezTo>
                  <a:pt x="13142" y="12274"/>
                  <a:pt x="13194" y="12311"/>
                  <a:pt x="13246" y="12353"/>
                </a:cubicBezTo>
                <a:cubicBezTo>
                  <a:pt x="13209" y="12426"/>
                  <a:pt x="13192" y="12485"/>
                  <a:pt x="13122" y="12526"/>
                </a:cubicBezTo>
                <a:cubicBezTo>
                  <a:pt x="13054" y="12566"/>
                  <a:pt x="12974" y="12551"/>
                  <a:pt x="12898" y="12551"/>
                </a:cubicBezTo>
                <a:cubicBezTo>
                  <a:pt x="12973" y="12558"/>
                  <a:pt x="13082" y="12558"/>
                  <a:pt x="13146" y="12601"/>
                </a:cubicBezTo>
                <a:cubicBezTo>
                  <a:pt x="13231" y="12659"/>
                  <a:pt x="13286" y="12729"/>
                  <a:pt x="13295" y="12824"/>
                </a:cubicBezTo>
                <a:cubicBezTo>
                  <a:pt x="13303" y="12913"/>
                  <a:pt x="13254" y="12956"/>
                  <a:pt x="13171" y="12973"/>
                </a:cubicBezTo>
                <a:cubicBezTo>
                  <a:pt x="13085" y="12990"/>
                  <a:pt x="12993" y="12961"/>
                  <a:pt x="12923" y="12948"/>
                </a:cubicBezTo>
                <a:cubicBezTo>
                  <a:pt x="12907" y="12948"/>
                  <a:pt x="12890" y="12948"/>
                  <a:pt x="12874" y="12948"/>
                </a:cubicBezTo>
              </a:path>
              <a:path w="6276" h="3523">
                <a:moveTo>
                  <a:pt x="12452" y="12874"/>
                </a:moveTo>
                <a:cubicBezTo>
                  <a:pt x="12614" y="12880"/>
                  <a:pt x="12764" y="12911"/>
                  <a:pt x="12923" y="12923"/>
                </a:cubicBezTo>
                <a:cubicBezTo>
                  <a:pt x="13065" y="12933"/>
                  <a:pt x="13201" y="12948"/>
                  <a:pt x="13345" y="12948"/>
                </a:cubicBezTo>
                <a:cubicBezTo>
                  <a:pt x="13395" y="12948"/>
                  <a:pt x="13411" y="12948"/>
                  <a:pt x="13444" y="12948"/>
                </a:cubicBezTo>
              </a:path>
              <a:path w="6276" h="3523">
                <a:moveTo>
                  <a:pt x="12923" y="13171"/>
                </a:moveTo>
                <a:cubicBezTo>
                  <a:pt x="12982" y="13171"/>
                  <a:pt x="13071" y="13130"/>
                  <a:pt x="13122" y="13146"/>
                </a:cubicBezTo>
                <a:cubicBezTo>
                  <a:pt x="13164" y="13159"/>
                  <a:pt x="13253" y="13192"/>
                  <a:pt x="13271" y="13246"/>
                </a:cubicBezTo>
                <a:cubicBezTo>
                  <a:pt x="13300" y="13333"/>
                  <a:pt x="13211" y="13325"/>
                  <a:pt x="13171" y="13345"/>
                </a:cubicBezTo>
                <a:cubicBezTo>
                  <a:pt x="13125" y="13368"/>
                  <a:pt x="13119" y="13351"/>
                  <a:pt x="13072" y="13370"/>
                </a:cubicBezTo>
                <a:cubicBezTo>
                  <a:pt x="13147" y="13379"/>
                  <a:pt x="13239" y="13409"/>
                  <a:pt x="13295" y="13469"/>
                </a:cubicBezTo>
                <a:cubicBezTo>
                  <a:pt x="13346" y="13523"/>
                  <a:pt x="13382" y="13629"/>
                  <a:pt x="13345" y="13692"/>
                </a:cubicBezTo>
                <a:cubicBezTo>
                  <a:pt x="13290" y="13785"/>
                  <a:pt x="13203" y="13844"/>
                  <a:pt x="13097" y="13866"/>
                </a:cubicBezTo>
                <a:cubicBezTo>
                  <a:pt x="12995" y="13888"/>
                  <a:pt x="12944" y="13814"/>
                  <a:pt x="12898" y="13742"/>
                </a:cubicBezTo>
                <a:cubicBezTo>
                  <a:pt x="12847" y="13664"/>
                  <a:pt x="12829" y="13634"/>
                  <a:pt x="12824" y="13568"/>
                </a:cubicBezTo>
              </a:path>
              <a:path w="6276" h="3523">
                <a:moveTo>
                  <a:pt x="12502" y="11782"/>
                </a:moveTo>
                <a:cubicBezTo>
                  <a:pt x="12405" y="11982"/>
                  <a:pt x="12374" y="12094"/>
                  <a:pt x="12328" y="12303"/>
                </a:cubicBezTo>
                <a:cubicBezTo>
                  <a:pt x="12289" y="12480"/>
                  <a:pt x="12300" y="12647"/>
                  <a:pt x="12328" y="12824"/>
                </a:cubicBezTo>
                <a:cubicBezTo>
                  <a:pt x="12363" y="13046"/>
                  <a:pt x="12411" y="13200"/>
                  <a:pt x="12526" y="13395"/>
                </a:cubicBezTo>
                <a:cubicBezTo>
                  <a:pt x="12597" y="13516"/>
                  <a:pt x="12728" y="13768"/>
                  <a:pt x="12874" y="13816"/>
                </a:cubicBezTo>
                <a:cubicBezTo>
                  <a:pt x="12940" y="13824"/>
                  <a:pt x="13006" y="13833"/>
                  <a:pt x="13072" y="13841"/>
                </a:cubicBezTo>
              </a:path>
              <a:path w="6276" h="3523">
                <a:moveTo>
                  <a:pt x="13543" y="11782"/>
                </a:moveTo>
                <a:cubicBezTo>
                  <a:pt x="13650" y="11908"/>
                  <a:pt x="13707" y="12047"/>
                  <a:pt x="13767" y="12204"/>
                </a:cubicBezTo>
                <a:cubicBezTo>
                  <a:pt x="13844" y="12405"/>
                  <a:pt x="13903" y="12618"/>
                  <a:pt x="13965" y="12824"/>
                </a:cubicBezTo>
                <a:cubicBezTo>
                  <a:pt x="14032" y="13047"/>
                  <a:pt x="14036" y="13286"/>
                  <a:pt x="14039" y="13519"/>
                </a:cubicBezTo>
                <a:cubicBezTo>
                  <a:pt x="14041" y="13699"/>
                  <a:pt x="14054" y="13867"/>
                  <a:pt x="13940" y="14015"/>
                </a:cubicBezTo>
                <a:cubicBezTo>
                  <a:pt x="13898" y="14069"/>
                  <a:pt x="13870" y="14076"/>
                  <a:pt x="13816" y="14039"/>
                </a:cubicBezTo>
                <a:cubicBezTo>
                  <a:pt x="13808" y="14023"/>
                  <a:pt x="13799" y="14006"/>
                  <a:pt x="13791" y="13990"/>
                </a:cubicBezTo>
              </a:path>
              <a:path w="6276" h="3523">
                <a:moveTo>
                  <a:pt x="13866" y="11559"/>
                </a:moveTo>
                <a:cubicBezTo>
                  <a:pt x="13892" y="11490"/>
                  <a:pt x="13906" y="11430"/>
                  <a:pt x="13940" y="11361"/>
                </a:cubicBezTo>
                <a:cubicBezTo>
                  <a:pt x="13973" y="11295"/>
                  <a:pt x="14008" y="11263"/>
                  <a:pt x="14089" y="11286"/>
                </a:cubicBezTo>
                <a:cubicBezTo>
                  <a:pt x="14165" y="11307"/>
                  <a:pt x="14184" y="11393"/>
                  <a:pt x="14188" y="11460"/>
                </a:cubicBezTo>
                <a:cubicBezTo>
                  <a:pt x="14192" y="11534"/>
                  <a:pt x="14164" y="11605"/>
                  <a:pt x="14114" y="11658"/>
                </a:cubicBezTo>
                <a:cubicBezTo>
                  <a:pt x="14082" y="11692"/>
                  <a:pt x="14048" y="11724"/>
                  <a:pt x="14015" y="11757"/>
                </a:cubicBezTo>
                <a:cubicBezTo>
                  <a:pt x="13879" y="11714"/>
                  <a:pt x="14169" y="11730"/>
                  <a:pt x="14188" y="11733"/>
                </a:cubicBezTo>
                <a:cubicBezTo>
                  <a:pt x="14305" y="11752"/>
                  <a:pt x="14411" y="11798"/>
                  <a:pt x="14511" y="11857"/>
                </a:cubicBezTo>
              </a:path>
              <a:path w="6276" h="3523">
                <a:moveTo>
                  <a:pt x="14387" y="12849"/>
                </a:moveTo>
                <a:cubicBezTo>
                  <a:pt x="14514" y="12888"/>
                  <a:pt x="14675" y="12930"/>
                  <a:pt x="14808" y="12923"/>
                </a:cubicBezTo>
                <a:cubicBezTo>
                  <a:pt x="14890" y="12896"/>
                  <a:pt x="14923" y="12885"/>
                  <a:pt x="14982" y="12874"/>
                </a:cubicBezTo>
              </a:path>
              <a:path w="6276" h="3523">
                <a:moveTo>
                  <a:pt x="15280" y="11956"/>
                </a:moveTo>
                <a:cubicBezTo>
                  <a:pt x="15280" y="12155"/>
                  <a:pt x="15267" y="12356"/>
                  <a:pt x="15304" y="12551"/>
                </a:cubicBezTo>
                <a:cubicBezTo>
                  <a:pt x="15330" y="12690"/>
                  <a:pt x="15366" y="12835"/>
                  <a:pt x="15379" y="12973"/>
                </a:cubicBezTo>
                <a:cubicBezTo>
                  <a:pt x="15389" y="13082"/>
                  <a:pt x="15346" y="13140"/>
                  <a:pt x="15453" y="13171"/>
                </a:cubicBezTo>
              </a:path>
              <a:path w="6276" h="3523">
                <a:moveTo>
                  <a:pt x="15850" y="12675"/>
                </a:moveTo>
                <a:cubicBezTo>
                  <a:pt x="15969" y="12641"/>
                  <a:pt x="16010" y="12626"/>
                  <a:pt x="16123" y="12626"/>
                </a:cubicBezTo>
              </a:path>
              <a:path w="6276" h="3523">
                <a:moveTo>
                  <a:pt x="15900" y="12948"/>
                </a:moveTo>
                <a:cubicBezTo>
                  <a:pt x="16047" y="12948"/>
                  <a:pt x="16136" y="12950"/>
                  <a:pt x="16272" y="12923"/>
                </a:cubicBezTo>
              </a:path>
              <a:path w="6276" h="3523">
                <a:moveTo>
                  <a:pt x="16718" y="12378"/>
                </a:moveTo>
                <a:cubicBezTo>
                  <a:pt x="16631" y="12432"/>
                  <a:pt x="16555" y="12477"/>
                  <a:pt x="16520" y="12576"/>
                </a:cubicBezTo>
                <a:cubicBezTo>
                  <a:pt x="16466" y="12728"/>
                  <a:pt x="16522" y="12789"/>
                  <a:pt x="16570" y="12923"/>
                </a:cubicBezTo>
                <a:cubicBezTo>
                  <a:pt x="16614" y="13046"/>
                  <a:pt x="16684" y="13183"/>
                  <a:pt x="16842" y="13171"/>
                </a:cubicBezTo>
                <a:cubicBezTo>
                  <a:pt x="16976" y="13161"/>
                  <a:pt x="17065" y="13072"/>
                  <a:pt x="17140" y="12973"/>
                </a:cubicBezTo>
                <a:cubicBezTo>
                  <a:pt x="17232" y="12851"/>
                  <a:pt x="17239" y="12719"/>
                  <a:pt x="17214" y="12576"/>
                </a:cubicBezTo>
                <a:cubicBezTo>
                  <a:pt x="17191" y="12443"/>
                  <a:pt x="17112" y="12276"/>
                  <a:pt x="17016" y="12179"/>
                </a:cubicBezTo>
                <a:cubicBezTo>
                  <a:pt x="16941" y="12104"/>
                  <a:pt x="16812" y="12070"/>
                  <a:pt x="16718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Ink 10"/>
          <p:cNvSpPr/>
          <p:nvPr/>
        </p:nvSpPr>
        <p:spPr>
          <a:xfrm>
            <a:off x="4125960" y="5126040"/>
            <a:ext cx="1884240" cy="839880"/>
          </a:xfrm>
          <a:custGeom>
            <a:avLst/>
            <a:gdLst/>
            <a:ahLst/>
            <a:rect l="l" t="t" r="r" b="b"/>
            <a:pathLst>
              <a:path w="5235" h="2333">
                <a:moveTo>
                  <a:pt x="11460" y="14312"/>
                </a:moveTo>
                <a:cubicBezTo>
                  <a:pt x="11513" y="14286"/>
                  <a:pt x="11584" y="14248"/>
                  <a:pt x="11633" y="14238"/>
                </a:cubicBezTo>
                <a:cubicBezTo>
                  <a:pt x="11717" y="14221"/>
                  <a:pt x="11772" y="14256"/>
                  <a:pt x="11832" y="14312"/>
                </a:cubicBezTo>
                <a:cubicBezTo>
                  <a:pt x="11905" y="14381"/>
                  <a:pt x="11921" y="14421"/>
                  <a:pt x="11881" y="14511"/>
                </a:cubicBezTo>
                <a:cubicBezTo>
                  <a:pt x="11834" y="14618"/>
                  <a:pt x="11791" y="14631"/>
                  <a:pt x="11683" y="14635"/>
                </a:cubicBezTo>
                <a:cubicBezTo>
                  <a:pt x="11658" y="14635"/>
                  <a:pt x="11634" y="14635"/>
                  <a:pt x="11609" y="14635"/>
                </a:cubicBezTo>
                <a:cubicBezTo>
                  <a:pt x="11681" y="14684"/>
                  <a:pt x="11760" y="14708"/>
                  <a:pt x="11832" y="14759"/>
                </a:cubicBezTo>
                <a:cubicBezTo>
                  <a:pt x="11964" y="14852"/>
                  <a:pt x="12036" y="14970"/>
                  <a:pt x="12080" y="15131"/>
                </a:cubicBezTo>
                <a:cubicBezTo>
                  <a:pt x="12109" y="15237"/>
                  <a:pt x="12075" y="15295"/>
                  <a:pt x="12005" y="15354"/>
                </a:cubicBezTo>
                <a:cubicBezTo>
                  <a:pt x="11949" y="15401"/>
                  <a:pt x="11916" y="15424"/>
                  <a:pt x="11832" y="15404"/>
                </a:cubicBezTo>
                <a:cubicBezTo>
                  <a:pt x="11704" y="15373"/>
                  <a:pt x="11676" y="15342"/>
                  <a:pt x="11633" y="15230"/>
                </a:cubicBezTo>
              </a:path>
              <a:path w="5235" h="2333">
                <a:moveTo>
                  <a:pt x="12303" y="15032"/>
                </a:moveTo>
                <a:cubicBezTo>
                  <a:pt x="12227" y="15050"/>
                  <a:pt x="12243" y="15086"/>
                  <a:pt x="12303" y="15106"/>
                </a:cubicBezTo>
              </a:path>
              <a:path w="5235" h="2333">
                <a:moveTo>
                  <a:pt x="12700" y="14436"/>
                </a:moveTo>
                <a:cubicBezTo>
                  <a:pt x="12791" y="14436"/>
                  <a:pt x="12861" y="14434"/>
                  <a:pt x="12948" y="14461"/>
                </a:cubicBezTo>
                <a:cubicBezTo>
                  <a:pt x="13025" y="14485"/>
                  <a:pt x="13112" y="14507"/>
                  <a:pt x="13072" y="14610"/>
                </a:cubicBezTo>
                <a:cubicBezTo>
                  <a:pt x="13046" y="14676"/>
                  <a:pt x="12902" y="14704"/>
                  <a:pt x="12849" y="14709"/>
                </a:cubicBezTo>
                <a:cubicBezTo>
                  <a:pt x="12931" y="14718"/>
                  <a:pt x="13037" y="14745"/>
                  <a:pt x="13097" y="14808"/>
                </a:cubicBezTo>
                <a:cubicBezTo>
                  <a:pt x="13169" y="14884"/>
                  <a:pt x="13207" y="15020"/>
                  <a:pt x="13146" y="15106"/>
                </a:cubicBezTo>
                <a:cubicBezTo>
                  <a:pt x="13090" y="15184"/>
                  <a:pt x="12999" y="15157"/>
                  <a:pt x="12923" y="15131"/>
                </a:cubicBezTo>
                <a:cubicBezTo>
                  <a:pt x="12850" y="15106"/>
                  <a:pt x="12882" y="15077"/>
                  <a:pt x="12824" y="15106"/>
                </a:cubicBezTo>
              </a:path>
              <a:path w="5235" h="2333">
                <a:moveTo>
                  <a:pt x="13494" y="15379"/>
                </a:moveTo>
                <a:cubicBezTo>
                  <a:pt x="13438" y="15423"/>
                  <a:pt x="13367" y="15465"/>
                  <a:pt x="13295" y="15478"/>
                </a:cubicBezTo>
                <a:cubicBezTo>
                  <a:pt x="13162" y="15502"/>
                  <a:pt x="12963" y="15528"/>
                  <a:pt x="12824" y="15503"/>
                </a:cubicBezTo>
                <a:cubicBezTo>
                  <a:pt x="12723" y="15485"/>
                  <a:pt x="12630" y="15458"/>
                  <a:pt x="12526" y="15453"/>
                </a:cubicBezTo>
                <a:cubicBezTo>
                  <a:pt x="12466" y="15450"/>
                  <a:pt x="12413" y="15474"/>
                  <a:pt x="12402" y="15453"/>
                </a:cubicBezTo>
              </a:path>
              <a:path w="5235" h="2333">
                <a:moveTo>
                  <a:pt x="13122" y="15801"/>
                </a:moveTo>
                <a:cubicBezTo>
                  <a:pt x="13122" y="15693"/>
                  <a:pt x="13122" y="15677"/>
                  <a:pt x="13047" y="15602"/>
                </a:cubicBezTo>
                <a:cubicBezTo>
                  <a:pt x="13003" y="15558"/>
                  <a:pt x="12914" y="15497"/>
                  <a:pt x="12849" y="15503"/>
                </a:cubicBezTo>
                <a:cubicBezTo>
                  <a:pt x="12757" y="15511"/>
                  <a:pt x="12685" y="15567"/>
                  <a:pt x="12675" y="15652"/>
                </a:cubicBezTo>
                <a:cubicBezTo>
                  <a:pt x="12668" y="15716"/>
                  <a:pt x="12714" y="15776"/>
                  <a:pt x="12750" y="15825"/>
                </a:cubicBezTo>
                <a:cubicBezTo>
                  <a:pt x="12778" y="15863"/>
                  <a:pt x="12877" y="15917"/>
                  <a:pt x="12923" y="15925"/>
                </a:cubicBezTo>
                <a:cubicBezTo>
                  <a:pt x="13008" y="15940"/>
                  <a:pt x="13066" y="15907"/>
                  <a:pt x="13122" y="15850"/>
                </a:cubicBezTo>
                <a:cubicBezTo>
                  <a:pt x="13130" y="15842"/>
                  <a:pt x="13138" y="15833"/>
                  <a:pt x="13146" y="15825"/>
                </a:cubicBezTo>
                <a:cubicBezTo>
                  <a:pt x="13119" y="15909"/>
                  <a:pt x="13122" y="15983"/>
                  <a:pt x="13122" y="16073"/>
                </a:cubicBezTo>
                <a:cubicBezTo>
                  <a:pt x="13122" y="16178"/>
                  <a:pt x="13135" y="16270"/>
                  <a:pt x="13146" y="16371"/>
                </a:cubicBezTo>
                <a:cubicBezTo>
                  <a:pt x="13153" y="16440"/>
                  <a:pt x="13154" y="16515"/>
                  <a:pt x="13122" y="16570"/>
                </a:cubicBezTo>
              </a:path>
              <a:path w="5235" h="2333">
                <a:moveTo>
                  <a:pt x="13940" y="15553"/>
                </a:moveTo>
                <a:cubicBezTo>
                  <a:pt x="14061" y="15553"/>
                  <a:pt x="14176" y="15565"/>
                  <a:pt x="14288" y="15528"/>
                </a:cubicBezTo>
              </a:path>
              <a:path w="5235" h="2333">
                <a:moveTo>
                  <a:pt x="14759" y="14560"/>
                </a:moveTo>
                <a:cubicBezTo>
                  <a:pt x="14751" y="14712"/>
                  <a:pt x="14734" y="14854"/>
                  <a:pt x="14734" y="15007"/>
                </a:cubicBezTo>
                <a:cubicBezTo>
                  <a:pt x="14734" y="15159"/>
                  <a:pt x="14756" y="15303"/>
                  <a:pt x="14759" y="15453"/>
                </a:cubicBezTo>
                <a:cubicBezTo>
                  <a:pt x="14759" y="15586"/>
                  <a:pt x="14759" y="15602"/>
                  <a:pt x="14759" y="15677"/>
                </a:cubicBezTo>
              </a:path>
              <a:path w="5235" h="2333">
                <a:moveTo>
                  <a:pt x="15056" y="15304"/>
                </a:moveTo>
                <a:cubicBezTo>
                  <a:pt x="15172" y="15304"/>
                  <a:pt x="15288" y="15304"/>
                  <a:pt x="15404" y="15304"/>
                </a:cubicBezTo>
              </a:path>
              <a:path w="5235" h="2333">
                <a:moveTo>
                  <a:pt x="15205" y="15453"/>
                </a:moveTo>
                <a:cubicBezTo>
                  <a:pt x="15409" y="15576"/>
                  <a:pt x="15339" y="15553"/>
                  <a:pt x="15577" y="15553"/>
                </a:cubicBezTo>
              </a:path>
              <a:path w="5235" h="2333">
                <a:moveTo>
                  <a:pt x="16173" y="14932"/>
                </a:moveTo>
                <a:cubicBezTo>
                  <a:pt x="16129" y="15009"/>
                  <a:pt x="16081" y="15070"/>
                  <a:pt x="16049" y="15156"/>
                </a:cubicBezTo>
                <a:cubicBezTo>
                  <a:pt x="16005" y="15275"/>
                  <a:pt x="16047" y="15404"/>
                  <a:pt x="16123" y="15503"/>
                </a:cubicBezTo>
                <a:cubicBezTo>
                  <a:pt x="16166" y="15559"/>
                  <a:pt x="16270" y="15656"/>
                  <a:pt x="16346" y="15652"/>
                </a:cubicBezTo>
                <a:cubicBezTo>
                  <a:pt x="16498" y="15644"/>
                  <a:pt x="16569" y="15541"/>
                  <a:pt x="16644" y="15429"/>
                </a:cubicBezTo>
                <a:cubicBezTo>
                  <a:pt x="16748" y="15274"/>
                  <a:pt x="16696" y="15129"/>
                  <a:pt x="16619" y="14982"/>
                </a:cubicBezTo>
                <a:cubicBezTo>
                  <a:pt x="16576" y="14901"/>
                  <a:pt x="16465" y="14823"/>
                  <a:pt x="16371" y="14808"/>
                </a:cubicBezTo>
                <a:cubicBezTo>
                  <a:pt x="16338" y="14808"/>
                  <a:pt x="16305" y="14808"/>
                  <a:pt x="16272" y="148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5.  2co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x+3cosx+1=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4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43" name="Ink 4"/>
          <p:cNvSpPr/>
          <p:nvPr/>
        </p:nvSpPr>
        <p:spPr>
          <a:xfrm>
            <a:off x="1963800" y="2035080"/>
            <a:ext cx="2903400" cy="696960"/>
          </a:xfrm>
          <a:custGeom>
            <a:avLst/>
            <a:gdLst/>
            <a:ahLst/>
            <a:rect l="l" t="t" r="r" b="b"/>
            <a:pathLst>
              <a:path w="8063" h="1936">
                <a:moveTo>
                  <a:pt x="5631" y="6152"/>
                </a:moveTo>
                <a:cubicBezTo>
                  <a:pt x="5609" y="6159"/>
                  <a:pt x="5560" y="6115"/>
                  <a:pt x="5581" y="6052"/>
                </a:cubicBezTo>
                <a:cubicBezTo>
                  <a:pt x="5596" y="6007"/>
                  <a:pt x="5622" y="5948"/>
                  <a:pt x="5655" y="5904"/>
                </a:cubicBezTo>
                <a:cubicBezTo>
                  <a:pt x="5697" y="5848"/>
                  <a:pt x="5754" y="5839"/>
                  <a:pt x="5804" y="5879"/>
                </a:cubicBezTo>
                <a:cubicBezTo>
                  <a:pt x="5896" y="5953"/>
                  <a:pt x="5902" y="6023"/>
                  <a:pt x="5928" y="6127"/>
                </a:cubicBezTo>
                <a:cubicBezTo>
                  <a:pt x="5948" y="6205"/>
                  <a:pt x="5957" y="6368"/>
                  <a:pt x="5928" y="6449"/>
                </a:cubicBezTo>
                <a:cubicBezTo>
                  <a:pt x="5895" y="6543"/>
                  <a:pt x="5820" y="6646"/>
                  <a:pt x="5755" y="6722"/>
                </a:cubicBezTo>
                <a:cubicBezTo>
                  <a:pt x="5701" y="6785"/>
                  <a:pt x="5636" y="6817"/>
                  <a:pt x="5556" y="6821"/>
                </a:cubicBezTo>
                <a:cubicBezTo>
                  <a:pt x="5482" y="6825"/>
                  <a:pt x="5461" y="6788"/>
                  <a:pt x="5457" y="6722"/>
                </a:cubicBezTo>
                <a:cubicBezTo>
                  <a:pt x="5453" y="6653"/>
                  <a:pt x="5491" y="6597"/>
                  <a:pt x="5556" y="6573"/>
                </a:cubicBezTo>
                <a:cubicBezTo>
                  <a:pt x="5667" y="6533"/>
                  <a:pt x="5707" y="6549"/>
                  <a:pt x="5804" y="6598"/>
                </a:cubicBezTo>
                <a:cubicBezTo>
                  <a:pt x="5876" y="6634"/>
                  <a:pt x="5933" y="6660"/>
                  <a:pt x="5953" y="6747"/>
                </a:cubicBezTo>
                <a:cubicBezTo>
                  <a:pt x="5956" y="6762"/>
                  <a:pt x="5953" y="6930"/>
                  <a:pt x="5953" y="6796"/>
                </a:cubicBezTo>
              </a:path>
              <a:path w="8063" h="1936">
                <a:moveTo>
                  <a:pt x="6276" y="6598"/>
                </a:moveTo>
                <a:cubicBezTo>
                  <a:pt x="6276" y="6590"/>
                  <a:pt x="6276" y="6581"/>
                  <a:pt x="6276" y="6573"/>
                </a:cubicBezTo>
              </a:path>
              <a:path w="8063" h="1936">
                <a:moveTo>
                  <a:pt x="6995" y="5779"/>
                </a:moveTo>
                <a:cubicBezTo>
                  <a:pt x="6954" y="5861"/>
                  <a:pt x="6925" y="5941"/>
                  <a:pt x="6896" y="6028"/>
                </a:cubicBezTo>
                <a:cubicBezTo>
                  <a:pt x="6858" y="6142"/>
                  <a:pt x="6826" y="6259"/>
                  <a:pt x="6796" y="6375"/>
                </a:cubicBezTo>
                <a:cubicBezTo>
                  <a:pt x="6763" y="6506"/>
                  <a:pt x="6737" y="6661"/>
                  <a:pt x="6722" y="6796"/>
                </a:cubicBezTo>
                <a:cubicBezTo>
                  <a:pt x="6706" y="6947"/>
                  <a:pt x="6731" y="7097"/>
                  <a:pt x="6747" y="7243"/>
                </a:cubicBezTo>
                <a:cubicBezTo>
                  <a:pt x="6758" y="7342"/>
                  <a:pt x="6759" y="7323"/>
                  <a:pt x="6846" y="7367"/>
                </a:cubicBezTo>
              </a:path>
              <a:path w="8063" h="1936">
                <a:moveTo>
                  <a:pt x="7020" y="6474"/>
                </a:moveTo>
                <a:cubicBezTo>
                  <a:pt x="7136" y="6474"/>
                  <a:pt x="7251" y="6474"/>
                  <a:pt x="7367" y="6474"/>
                </a:cubicBezTo>
              </a:path>
              <a:path w="8063" h="1936">
                <a:moveTo>
                  <a:pt x="7838" y="5829"/>
                </a:moveTo>
                <a:cubicBezTo>
                  <a:pt x="7861" y="5965"/>
                  <a:pt x="7863" y="6088"/>
                  <a:pt x="7863" y="6226"/>
                </a:cubicBezTo>
                <a:cubicBezTo>
                  <a:pt x="7863" y="6315"/>
                  <a:pt x="7879" y="6393"/>
                  <a:pt x="7888" y="6474"/>
                </a:cubicBezTo>
                <a:cubicBezTo>
                  <a:pt x="7888" y="6507"/>
                  <a:pt x="7888" y="6540"/>
                  <a:pt x="7888" y="6573"/>
                </a:cubicBezTo>
              </a:path>
              <a:path w="8063" h="1936">
                <a:moveTo>
                  <a:pt x="7640" y="6672"/>
                </a:moveTo>
                <a:cubicBezTo>
                  <a:pt x="7759" y="6643"/>
                  <a:pt x="7890" y="6629"/>
                  <a:pt x="8012" y="6623"/>
                </a:cubicBezTo>
                <a:cubicBezTo>
                  <a:pt x="8062" y="6623"/>
                  <a:pt x="8078" y="6623"/>
                  <a:pt x="8111" y="6623"/>
                </a:cubicBezTo>
              </a:path>
              <a:path w="8063" h="1936">
                <a:moveTo>
                  <a:pt x="7838" y="6896"/>
                </a:moveTo>
                <a:cubicBezTo>
                  <a:pt x="7830" y="6904"/>
                  <a:pt x="7821" y="6913"/>
                  <a:pt x="7813" y="6921"/>
                </a:cubicBezTo>
                <a:cubicBezTo>
                  <a:pt x="7819" y="6881"/>
                  <a:pt x="7837" y="6790"/>
                  <a:pt x="7888" y="6772"/>
                </a:cubicBezTo>
                <a:cubicBezTo>
                  <a:pt x="7951" y="6750"/>
                  <a:pt x="8024" y="6775"/>
                  <a:pt x="8037" y="6846"/>
                </a:cubicBezTo>
                <a:cubicBezTo>
                  <a:pt x="8053" y="6933"/>
                  <a:pt x="8037" y="7037"/>
                  <a:pt x="8012" y="7119"/>
                </a:cubicBezTo>
                <a:cubicBezTo>
                  <a:pt x="7976" y="7239"/>
                  <a:pt x="7910" y="7261"/>
                  <a:pt x="7838" y="7342"/>
                </a:cubicBezTo>
                <a:cubicBezTo>
                  <a:pt x="7769" y="7419"/>
                  <a:pt x="7766" y="7434"/>
                  <a:pt x="7689" y="7417"/>
                </a:cubicBezTo>
                <a:cubicBezTo>
                  <a:pt x="7681" y="7417"/>
                  <a:pt x="7673" y="7417"/>
                  <a:pt x="7665" y="7417"/>
                </a:cubicBezTo>
                <a:cubicBezTo>
                  <a:pt x="7665" y="7341"/>
                  <a:pt x="7661" y="7321"/>
                  <a:pt x="7714" y="7268"/>
                </a:cubicBezTo>
                <a:cubicBezTo>
                  <a:pt x="7774" y="7208"/>
                  <a:pt x="7815" y="7210"/>
                  <a:pt x="7888" y="7243"/>
                </a:cubicBezTo>
                <a:cubicBezTo>
                  <a:pt x="7946" y="7269"/>
                  <a:pt x="8013" y="7326"/>
                  <a:pt x="8062" y="7367"/>
                </a:cubicBezTo>
                <a:cubicBezTo>
                  <a:pt x="8153" y="7443"/>
                  <a:pt x="8136" y="7450"/>
                  <a:pt x="8260" y="7417"/>
                </a:cubicBezTo>
              </a:path>
              <a:path w="8063" h="1936">
                <a:moveTo>
                  <a:pt x="8310" y="5829"/>
                </a:moveTo>
                <a:cubicBezTo>
                  <a:pt x="8408" y="5930"/>
                  <a:pt x="8445" y="6065"/>
                  <a:pt x="8483" y="6201"/>
                </a:cubicBezTo>
                <a:cubicBezTo>
                  <a:pt x="8531" y="6373"/>
                  <a:pt x="8556" y="6521"/>
                  <a:pt x="8582" y="6697"/>
                </a:cubicBezTo>
                <a:cubicBezTo>
                  <a:pt x="8608" y="6873"/>
                  <a:pt x="8595" y="7017"/>
                  <a:pt x="8582" y="7193"/>
                </a:cubicBezTo>
                <a:cubicBezTo>
                  <a:pt x="8572" y="7327"/>
                  <a:pt x="8558" y="7446"/>
                  <a:pt x="8483" y="7565"/>
                </a:cubicBezTo>
                <a:cubicBezTo>
                  <a:pt x="8475" y="7573"/>
                  <a:pt x="8466" y="7582"/>
                  <a:pt x="8458" y="7590"/>
                </a:cubicBezTo>
              </a:path>
              <a:path w="8063" h="1936">
                <a:moveTo>
                  <a:pt x="8682" y="5730"/>
                </a:moveTo>
                <a:cubicBezTo>
                  <a:pt x="8763" y="5666"/>
                  <a:pt x="8827" y="5624"/>
                  <a:pt x="8930" y="5680"/>
                </a:cubicBezTo>
                <a:cubicBezTo>
                  <a:pt x="9023" y="5731"/>
                  <a:pt x="9058" y="5810"/>
                  <a:pt x="9004" y="5904"/>
                </a:cubicBezTo>
                <a:cubicBezTo>
                  <a:pt x="8949" y="6001"/>
                  <a:pt x="8913" y="5995"/>
                  <a:pt x="8830" y="6052"/>
                </a:cubicBezTo>
                <a:cubicBezTo>
                  <a:pt x="8804" y="6070"/>
                  <a:pt x="8779" y="6104"/>
                  <a:pt x="8756" y="6127"/>
                </a:cubicBezTo>
                <a:cubicBezTo>
                  <a:pt x="8846" y="6127"/>
                  <a:pt x="8919" y="6107"/>
                  <a:pt x="9004" y="6102"/>
                </a:cubicBezTo>
                <a:cubicBezTo>
                  <a:pt x="9053" y="6099"/>
                  <a:pt x="9104" y="6102"/>
                  <a:pt x="9153" y="6102"/>
                </a:cubicBezTo>
              </a:path>
              <a:path w="8063" h="1936">
                <a:moveTo>
                  <a:pt x="9451" y="6325"/>
                </a:moveTo>
                <a:cubicBezTo>
                  <a:pt x="9435" y="6488"/>
                  <a:pt x="9406" y="6618"/>
                  <a:pt x="9451" y="6772"/>
                </a:cubicBezTo>
                <a:cubicBezTo>
                  <a:pt x="9477" y="6861"/>
                  <a:pt x="9526" y="6943"/>
                  <a:pt x="9500" y="7020"/>
                </a:cubicBezTo>
              </a:path>
              <a:path w="8063" h="1936">
                <a:moveTo>
                  <a:pt x="9203" y="6722"/>
                </a:moveTo>
                <a:cubicBezTo>
                  <a:pt x="9324" y="6722"/>
                  <a:pt x="9431" y="6743"/>
                  <a:pt x="9550" y="6747"/>
                </a:cubicBezTo>
                <a:cubicBezTo>
                  <a:pt x="9575" y="6747"/>
                  <a:pt x="9599" y="6747"/>
                  <a:pt x="9624" y="6747"/>
                </a:cubicBezTo>
              </a:path>
              <a:path w="8063" h="1936">
                <a:moveTo>
                  <a:pt x="10046" y="6276"/>
                </a:moveTo>
                <a:cubicBezTo>
                  <a:pt x="10116" y="6206"/>
                  <a:pt x="10122" y="6201"/>
                  <a:pt x="10220" y="6201"/>
                </a:cubicBezTo>
                <a:cubicBezTo>
                  <a:pt x="10406" y="6201"/>
                  <a:pt x="10351" y="6300"/>
                  <a:pt x="10269" y="6424"/>
                </a:cubicBezTo>
                <a:cubicBezTo>
                  <a:pt x="10229" y="6484"/>
                  <a:pt x="10027" y="6570"/>
                  <a:pt x="10096" y="6548"/>
                </a:cubicBezTo>
                <a:cubicBezTo>
                  <a:pt x="10138" y="6535"/>
                  <a:pt x="10261" y="6495"/>
                  <a:pt x="10294" y="6499"/>
                </a:cubicBezTo>
                <a:cubicBezTo>
                  <a:pt x="10332" y="6504"/>
                  <a:pt x="10449" y="6562"/>
                  <a:pt x="10468" y="6598"/>
                </a:cubicBezTo>
                <a:cubicBezTo>
                  <a:pt x="10495" y="6650"/>
                  <a:pt x="10508" y="6762"/>
                  <a:pt x="10492" y="6821"/>
                </a:cubicBezTo>
                <a:cubicBezTo>
                  <a:pt x="10478" y="6873"/>
                  <a:pt x="10422" y="6933"/>
                  <a:pt x="10368" y="6945"/>
                </a:cubicBezTo>
                <a:cubicBezTo>
                  <a:pt x="10279" y="6965"/>
                  <a:pt x="10161" y="6887"/>
                  <a:pt x="10096" y="6846"/>
                </a:cubicBezTo>
              </a:path>
              <a:path w="8063" h="1936">
                <a:moveTo>
                  <a:pt x="10889" y="5655"/>
                </a:moveTo>
                <a:cubicBezTo>
                  <a:pt x="10854" y="5796"/>
                  <a:pt x="10828" y="5938"/>
                  <a:pt x="10790" y="6077"/>
                </a:cubicBezTo>
                <a:cubicBezTo>
                  <a:pt x="10748" y="6230"/>
                  <a:pt x="10719" y="6398"/>
                  <a:pt x="10666" y="6548"/>
                </a:cubicBezTo>
                <a:cubicBezTo>
                  <a:pt x="10615" y="6692"/>
                  <a:pt x="10517" y="6845"/>
                  <a:pt x="10492" y="6995"/>
                </a:cubicBezTo>
                <a:cubicBezTo>
                  <a:pt x="10475" y="7098"/>
                  <a:pt x="10475" y="7324"/>
                  <a:pt x="10542" y="7417"/>
                </a:cubicBezTo>
                <a:cubicBezTo>
                  <a:pt x="10679" y="7606"/>
                  <a:pt x="10818" y="7585"/>
                  <a:pt x="11013" y="7541"/>
                </a:cubicBezTo>
              </a:path>
              <a:path w="8063" h="1936">
                <a:moveTo>
                  <a:pt x="11063" y="6350"/>
                </a:moveTo>
                <a:cubicBezTo>
                  <a:pt x="11187" y="6350"/>
                  <a:pt x="11311" y="6350"/>
                  <a:pt x="11435" y="6350"/>
                </a:cubicBezTo>
              </a:path>
              <a:path w="8063" h="1936">
                <a:moveTo>
                  <a:pt x="11881" y="5829"/>
                </a:moveTo>
                <a:cubicBezTo>
                  <a:pt x="11862" y="5973"/>
                  <a:pt x="11857" y="6106"/>
                  <a:pt x="11857" y="6251"/>
                </a:cubicBezTo>
                <a:cubicBezTo>
                  <a:pt x="11857" y="6365"/>
                  <a:pt x="11909" y="6419"/>
                  <a:pt x="11931" y="6524"/>
                </a:cubicBezTo>
                <a:cubicBezTo>
                  <a:pt x="11931" y="6540"/>
                  <a:pt x="11931" y="6557"/>
                  <a:pt x="11931" y="6573"/>
                </a:cubicBezTo>
              </a:path>
              <a:path w="8063" h="1936">
                <a:moveTo>
                  <a:pt x="11609" y="6623"/>
                </a:moveTo>
                <a:cubicBezTo>
                  <a:pt x="11696" y="6596"/>
                  <a:pt x="11788" y="6576"/>
                  <a:pt x="11881" y="6573"/>
                </a:cubicBezTo>
                <a:cubicBezTo>
                  <a:pt x="11977" y="6570"/>
                  <a:pt x="12058" y="6554"/>
                  <a:pt x="12154" y="6548"/>
                </a:cubicBezTo>
              </a:path>
              <a:path w="8063" h="1936">
                <a:moveTo>
                  <a:pt x="11857" y="6896"/>
                </a:moveTo>
                <a:cubicBezTo>
                  <a:pt x="11912" y="6851"/>
                  <a:pt x="11959" y="6824"/>
                  <a:pt x="12030" y="6821"/>
                </a:cubicBezTo>
                <a:cubicBezTo>
                  <a:pt x="12092" y="6821"/>
                  <a:pt x="12107" y="6811"/>
                  <a:pt x="12129" y="6846"/>
                </a:cubicBezTo>
                <a:cubicBezTo>
                  <a:pt x="12117" y="6949"/>
                  <a:pt x="12067" y="6965"/>
                  <a:pt x="12005" y="7045"/>
                </a:cubicBezTo>
                <a:cubicBezTo>
                  <a:pt x="11937" y="7132"/>
                  <a:pt x="11849" y="7204"/>
                  <a:pt x="11757" y="7268"/>
                </a:cubicBezTo>
                <a:cubicBezTo>
                  <a:pt x="11677" y="7323"/>
                  <a:pt x="11596" y="7343"/>
                  <a:pt x="11708" y="7441"/>
                </a:cubicBezTo>
                <a:cubicBezTo>
                  <a:pt x="11783" y="7507"/>
                  <a:pt x="11923" y="7461"/>
                  <a:pt x="12005" y="7441"/>
                </a:cubicBezTo>
                <a:cubicBezTo>
                  <a:pt x="12097" y="7419"/>
                  <a:pt x="12123" y="7414"/>
                  <a:pt x="12179" y="7392"/>
                </a:cubicBezTo>
              </a:path>
              <a:path w="8063" h="1936">
                <a:moveTo>
                  <a:pt x="12378" y="5655"/>
                </a:moveTo>
                <a:cubicBezTo>
                  <a:pt x="12524" y="5993"/>
                  <a:pt x="12668" y="6298"/>
                  <a:pt x="12675" y="6672"/>
                </a:cubicBezTo>
                <a:cubicBezTo>
                  <a:pt x="12679" y="6860"/>
                  <a:pt x="12632" y="6997"/>
                  <a:pt x="12576" y="7169"/>
                </a:cubicBezTo>
                <a:cubicBezTo>
                  <a:pt x="12535" y="7296"/>
                  <a:pt x="12473" y="7381"/>
                  <a:pt x="12402" y="7491"/>
                </a:cubicBezTo>
                <a:cubicBezTo>
                  <a:pt x="12373" y="7536"/>
                  <a:pt x="12331" y="7625"/>
                  <a:pt x="12353" y="7516"/>
                </a:cubicBezTo>
              </a:path>
              <a:path w="8063" h="1936">
                <a:moveTo>
                  <a:pt x="13122" y="6276"/>
                </a:moveTo>
                <a:cubicBezTo>
                  <a:pt x="13128" y="6428"/>
                  <a:pt x="13131" y="6575"/>
                  <a:pt x="13171" y="6722"/>
                </a:cubicBezTo>
                <a:cubicBezTo>
                  <a:pt x="13191" y="6798"/>
                  <a:pt x="13231" y="6871"/>
                  <a:pt x="13246" y="6945"/>
                </a:cubicBezTo>
              </a:path>
              <a:path w="8063" h="1936">
                <a:moveTo>
                  <a:pt x="13022" y="6623"/>
                </a:moveTo>
                <a:cubicBezTo>
                  <a:pt x="13188" y="6623"/>
                  <a:pt x="13353" y="6623"/>
                  <a:pt x="13519" y="66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Ink 5"/>
          <p:cNvSpPr/>
          <p:nvPr/>
        </p:nvSpPr>
        <p:spPr>
          <a:xfrm>
            <a:off x="5045040" y="2108160"/>
            <a:ext cx="714240" cy="401760"/>
          </a:xfrm>
          <a:custGeom>
            <a:avLst/>
            <a:gdLst/>
            <a:ahLst/>
            <a:rect l="l" t="t" r="r" b="b"/>
            <a:pathLst>
              <a:path w="1985" h="1117">
                <a:moveTo>
                  <a:pt x="14015" y="5928"/>
                </a:moveTo>
                <a:cubicBezTo>
                  <a:pt x="14015" y="6106"/>
                  <a:pt x="14026" y="6274"/>
                  <a:pt x="14039" y="6449"/>
                </a:cubicBezTo>
                <a:cubicBezTo>
                  <a:pt x="14048" y="6572"/>
                  <a:pt x="14097" y="6675"/>
                  <a:pt x="14114" y="6796"/>
                </a:cubicBezTo>
                <a:cubicBezTo>
                  <a:pt x="14114" y="6883"/>
                  <a:pt x="14119" y="6918"/>
                  <a:pt x="14163" y="6970"/>
                </a:cubicBezTo>
              </a:path>
              <a:path w="1985" h="1117">
                <a:moveTo>
                  <a:pt x="14560" y="6573"/>
                </a:moveTo>
                <a:cubicBezTo>
                  <a:pt x="14650" y="6539"/>
                  <a:pt x="14734" y="6527"/>
                  <a:pt x="14833" y="6524"/>
                </a:cubicBezTo>
                <a:cubicBezTo>
                  <a:pt x="14916" y="6524"/>
                  <a:pt x="14949" y="6524"/>
                  <a:pt x="15007" y="6524"/>
                </a:cubicBezTo>
              </a:path>
              <a:path w="1985" h="1117">
                <a:moveTo>
                  <a:pt x="14635" y="6846"/>
                </a:moveTo>
                <a:cubicBezTo>
                  <a:pt x="14811" y="6838"/>
                  <a:pt x="14952" y="6829"/>
                  <a:pt x="15106" y="6747"/>
                </a:cubicBezTo>
              </a:path>
              <a:path w="1985" h="1117">
                <a:moveTo>
                  <a:pt x="15478" y="6127"/>
                </a:moveTo>
                <a:cubicBezTo>
                  <a:pt x="15429" y="6262"/>
                  <a:pt x="15371" y="6386"/>
                  <a:pt x="15329" y="6524"/>
                </a:cubicBezTo>
                <a:cubicBezTo>
                  <a:pt x="15306" y="6599"/>
                  <a:pt x="15312" y="6710"/>
                  <a:pt x="15379" y="6772"/>
                </a:cubicBezTo>
                <a:cubicBezTo>
                  <a:pt x="15438" y="6826"/>
                  <a:pt x="15488" y="6891"/>
                  <a:pt x="15577" y="6896"/>
                </a:cubicBezTo>
                <a:cubicBezTo>
                  <a:pt x="15724" y="6905"/>
                  <a:pt x="15793" y="6864"/>
                  <a:pt x="15900" y="6772"/>
                </a:cubicBezTo>
                <a:cubicBezTo>
                  <a:pt x="15981" y="6702"/>
                  <a:pt x="16012" y="6551"/>
                  <a:pt x="15999" y="6449"/>
                </a:cubicBezTo>
                <a:cubicBezTo>
                  <a:pt x="15979" y="6294"/>
                  <a:pt x="15910" y="6178"/>
                  <a:pt x="15825" y="6052"/>
                </a:cubicBezTo>
                <a:cubicBezTo>
                  <a:pt x="15765" y="5962"/>
                  <a:pt x="15691" y="5877"/>
                  <a:pt x="15577" y="5854"/>
                </a:cubicBezTo>
                <a:cubicBezTo>
                  <a:pt x="15490" y="5837"/>
                  <a:pt x="15419" y="5885"/>
                  <a:pt x="15379" y="5953"/>
                </a:cubicBezTo>
                <a:cubicBezTo>
                  <a:pt x="15371" y="5970"/>
                  <a:pt x="15362" y="5986"/>
                  <a:pt x="15354" y="60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Ink 6"/>
          <p:cNvSpPr/>
          <p:nvPr/>
        </p:nvSpPr>
        <p:spPr>
          <a:xfrm>
            <a:off x="2367000" y="2820960"/>
            <a:ext cx="312840" cy="581040"/>
          </a:xfrm>
          <a:custGeom>
            <a:avLst/>
            <a:gdLst/>
            <a:ahLst/>
            <a:rect l="l" t="t" r="r" b="b"/>
            <a:pathLst>
              <a:path w="869" h="1614">
                <a:moveTo>
                  <a:pt x="6672" y="7987"/>
                </a:moveTo>
                <a:cubicBezTo>
                  <a:pt x="6663" y="7996"/>
                  <a:pt x="6582" y="8078"/>
                  <a:pt x="6648" y="8012"/>
                </a:cubicBezTo>
                <a:cubicBezTo>
                  <a:pt x="6673" y="7966"/>
                  <a:pt x="6704" y="7894"/>
                  <a:pt x="6747" y="7863"/>
                </a:cubicBezTo>
                <a:cubicBezTo>
                  <a:pt x="6803" y="7822"/>
                  <a:pt x="6963" y="7844"/>
                  <a:pt x="6995" y="7913"/>
                </a:cubicBezTo>
                <a:cubicBezTo>
                  <a:pt x="7070" y="8074"/>
                  <a:pt x="7059" y="8210"/>
                  <a:pt x="6995" y="8359"/>
                </a:cubicBezTo>
                <a:cubicBezTo>
                  <a:pt x="6975" y="8406"/>
                  <a:pt x="6922" y="8469"/>
                  <a:pt x="6871" y="8483"/>
                </a:cubicBezTo>
                <a:cubicBezTo>
                  <a:pt x="6809" y="8499"/>
                  <a:pt x="6733" y="8446"/>
                  <a:pt x="6722" y="8384"/>
                </a:cubicBezTo>
                <a:cubicBezTo>
                  <a:pt x="6722" y="8316"/>
                  <a:pt x="6719" y="8297"/>
                  <a:pt x="6747" y="8260"/>
                </a:cubicBezTo>
                <a:cubicBezTo>
                  <a:pt x="6840" y="8273"/>
                  <a:pt x="6907" y="8343"/>
                  <a:pt x="6995" y="8384"/>
                </a:cubicBezTo>
                <a:cubicBezTo>
                  <a:pt x="7068" y="8418"/>
                  <a:pt x="7189" y="8470"/>
                  <a:pt x="7268" y="8483"/>
                </a:cubicBezTo>
                <a:cubicBezTo>
                  <a:pt x="7334" y="8483"/>
                  <a:pt x="7351" y="8483"/>
                  <a:pt x="7392" y="8483"/>
                </a:cubicBezTo>
              </a:path>
              <a:path w="869" h="1614">
                <a:moveTo>
                  <a:pt x="6573" y="8582"/>
                </a:moveTo>
                <a:cubicBezTo>
                  <a:pt x="6784" y="8567"/>
                  <a:pt x="6983" y="8558"/>
                  <a:pt x="7193" y="8558"/>
                </a:cubicBezTo>
                <a:cubicBezTo>
                  <a:pt x="7251" y="8558"/>
                  <a:pt x="7309" y="8558"/>
                  <a:pt x="7367" y="8558"/>
                </a:cubicBezTo>
              </a:path>
              <a:path w="869" h="1614">
                <a:moveTo>
                  <a:pt x="6995" y="8706"/>
                </a:moveTo>
                <a:cubicBezTo>
                  <a:pt x="6946" y="8756"/>
                  <a:pt x="6896" y="8806"/>
                  <a:pt x="6846" y="8855"/>
                </a:cubicBezTo>
                <a:cubicBezTo>
                  <a:pt x="6898" y="8907"/>
                  <a:pt x="6944" y="8940"/>
                  <a:pt x="7020" y="8954"/>
                </a:cubicBezTo>
                <a:cubicBezTo>
                  <a:pt x="7105" y="8970"/>
                  <a:pt x="7205" y="9017"/>
                  <a:pt x="7293" y="9004"/>
                </a:cubicBezTo>
                <a:cubicBezTo>
                  <a:pt x="7318" y="8996"/>
                  <a:pt x="7342" y="8987"/>
                  <a:pt x="7367" y="8979"/>
                </a:cubicBezTo>
              </a:path>
              <a:path w="869" h="1614">
                <a:moveTo>
                  <a:pt x="7441" y="8582"/>
                </a:moveTo>
                <a:cubicBezTo>
                  <a:pt x="7382" y="8797"/>
                  <a:pt x="7317" y="8983"/>
                  <a:pt x="7317" y="9203"/>
                </a:cubicBezTo>
                <a:cubicBezTo>
                  <a:pt x="7317" y="9272"/>
                  <a:pt x="7314" y="9365"/>
                  <a:pt x="7342" y="9426"/>
                </a:cubicBezTo>
                <a:cubicBezTo>
                  <a:pt x="7365" y="9449"/>
                  <a:pt x="7369" y="9457"/>
                  <a:pt x="7392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Ink 7"/>
          <p:cNvSpPr/>
          <p:nvPr/>
        </p:nvSpPr>
        <p:spPr>
          <a:xfrm>
            <a:off x="2928960" y="2867040"/>
            <a:ext cx="1509840" cy="633240"/>
          </a:xfrm>
          <a:custGeom>
            <a:avLst/>
            <a:gdLst/>
            <a:ahLst/>
            <a:rect l="l" t="t" r="r" b="b"/>
            <a:pathLst>
              <a:path w="4193" h="1762">
                <a:moveTo>
                  <a:pt x="8384" y="8434"/>
                </a:moveTo>
                <a:cubicBezTo>
                  <a:pt x="8348" y="8584"/>
                  <a:pt x="8273" y="8770"/>
                  <a:pt x="8310" y="8930"/>
                </a:cubicBezTo>
                <a:cubicBezTo>
                  <a:pt x="8324" y="8992"/>
                  <a:pt x="8350" y="8991"/>
                  <a:pt x="8359" y="9054"/>
                </a:cubicBezTo>
              </a:path>
              <a:path w="4193" h="1762">
                <a:moveTo>
                  <a:pt x="8136" y="8731"/>
                </a:moveTo>
                <a:cubicBezTo>
                  <a:pt x="8235" y="8731"/>
                  <a:pt x="8338" y="8739"/>
                  <a:pt x="8434" y="8756"/>
                </a:cubicBezTo>
                <a:cubicBezTo>
                  <a:pt x="8530" y="8773"/>
                  <a:pt x="8609" y="8781"/>
                  <a:pt x="8706" y="8781"/>
                </a:cubicBezTo>
              </a:path>
              <a:path w="4193" h="1762">
                <a:moveTo>
                  <a:pt x="9004" y="8434"/>
                </a:moveTo>
                <a:cubicBezTo>
                  <a:pt x="9120" y="8434"/>
                  <a:pt x="9235" y="8434"/>
                  <a:pt x="9351" y="8434"/>
                </a:cubicBezTo>
              </a:path>
              <a:path w="4193" h="1762">
                <a:moveTo>
                  <a:pt x="9624" y="8062"/>
                </a:moveTo>
                <a:cubicBezTo>
                  <a:pt x="9712" y="7999"/>
                  <a:pt x="9823" y="7917"/>
                  <a:pt x="9947" y="7962"/>
                </a:cubicBezTo>
                <a:cubicBezTo>
                  <a:pt x="9979" y="7996"/>
                  <a:pt x="9996" y="8013"/>
                  <a:pt x="10021" y="8037"/>
                </a:cubicBezTo>
                <a:cubicBezTo>
                  <a:pt x="9976" y="8109"/>
                  <a:pt x="9928" y="8175"/>
                  <a:pt x="9847" y="8210"/>
                </a:cubicBezTo>
                <a:cubicBezTo>
                  <a:pt x="9786" y="8236"/>
                  <a:pt x="9737" y="8252"/>
                  <a:pt x="9674" y="8260"/>
                </a:cubicBezTo>
                <a:cubicBezTo>
                  <a:pt x="9746" y="8229"/>
                  <a:pt x="9844" y="8215"/>
                  <a:pt x="9922" y="8260"/>
                </a:cubicBezTo>
                <a:cubicBezTo>
                  <a:pt x="9989" y="8298"/>
                  <a:pt x="10017" y="8363"/>
                  <a:pt x="10021" y="8434"/>
                </a:cubicBezTo>
                <a:cubicBezTo>
                  <a:pt x="10026" y="8528"/>
                  <a:pt x="9979" y="8504"/>
                  <a:pt x="9922" y="8533"/>
                </a:cubicBezTo>
                <a:cubicBezTo>
                  <a:pt x="9856" y="8566"/>
                  <a:pt x="9826" y="8576"/>
                  <a:pt x="9748" y="8582"/>
                </a:cubicBezTo>
              </a:path>
              <a:path w="4193" h="1762">
                <a:moveTo>
                  <a:pt x="9351" y="8781"/>
                </a:moveTo>
                <a:cubicBezTo>
                  <a:pt x="9485" y="8750"/>
                  <a:pt x="9655" y="8739"/>
                  <a:pt x="9798" y="8756"/>
                </a:cubicBezTo>
                <a:cubicBezTo>
                  <a:pt x="9942" y="8773"/>
                  <a:pt x="10074" y="8781"/>
                  <a:pt x="10220" y="8781"/>
                </a:cubicBezTo>
                <a:cubicBezTo>
                  <a:pt x="10278" y="8781"/>
                  <a:pt x="10335" y="8781"/>
                  <a:pt x="10393" y="8781"/>
                </a:cubicBezTo>
              </a:path>
              <a:path w="4193" h="1762">
                <a:moveTo>
                  <a:pt x="9823" y="9054"/>
                </a:moveTo>
                <a:cubicBezTo>
                  <a:pt x="9893" y="9045"/>
                  <a:pt x="9954" y="9015"/>
                  <a:pt x="10021" y="9004"/>
                </a:cubicBezTo>
                <a:cubicBezTo>
                  <a:pt x="10124" y="8987"/>
                  <a:pt x="10140" y="9006"/>
                  <a:pt x="10145" y="9103"/>
                </a:cubicBezTo>
                <a:cubicBezTo>
                  <a:pt x="10151" y="9223"/>
                  <a:pt x="9986" y="9333"/>
                  <a:pt x="9897" y="9401"/>
                </a:cubicBezTo>
                <a:cubicBezTo>
                  <a:pt x="9846" y="9440"/>
                  <a:pt x="9718" y="9507"/>
                  <a:pt x="9699" y="9575"/>
                </a:cubicBezTo>
                <a:cubicBezTo>
                  <a:pt x="9666" y="9693"/>
                  <a:pt x="9779" y="9684"/>
                  <a:pt x="9847" y="9699"/>
                </a:cubicBezTo>
                <a:cubicBezTo>
                  <a:pt x="9995" y="9732"/>
                  <a:pt x="10098" y="9711"/>
                  <a:pt x="10244" y="9674"/>
                </a:cubicBezTo>
              </a:path>
              <a:path w="4193" h="1762">
                <a:moveTo>
                  <a:pt x="11237" y="8607"/>
                </a:moveTo>
                <a:cubicBezTo>
                  <a:pt x="11237" y="8739"/>
                  <a:pt x="11230" y="8876"/>
                  <a:pt x="11261" y="9004"/>
                </a:cubicBezTo>
                <a:cubicBezTo>
                  <a:pt x="11276" y="9065"/>
                  <a:pt x="11286" y="9092"/>
                  <a:pt x="11286" y="9153"/>
                </a:cubicBezTo>
              </a:path>
              <a:path w="4193" h="1762">
                <a:moveTo>
                  <a:pt x="11038" y="8806"/>
                </a:moveTo>
                <a:cubicBezTo>
                  <a:pt x="11188" y="8814"/>
                  <a:pt x="11334" y="8864"/>
                  <a:pt x="11485" y="8855"/>
                </a:cubicBezTo>
                <a:cubicBezTo>
                  <a:pt x="11568" y="8847"/>
                  <a:pt x="11650" y="8838"/>
                  <a:pt x="11733" y="8830"/>
                </a:cubicBezTo>
              </a:path>
              <a:path w="4193" h="1762">
                <a:moveTo>
                  <a:pt x="12229" y="8161"/>
                </a:moveTo>
                <a:cubicBezTo>
                  <a:pt x="12229" y="8416"/>
                  <a:pt x="12236" y="8654"/>
                  <a:pt x="12278" y="8905"/>
                </a:cubicBezTo>
                <a:cubicBezTo>
                  <a:pt x="12302" y="9046"/>
                  <a:pt x="12308" y="9088"/>
                  <a:pt x="1232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Ink 8"/>
          <p:cNvSpPr/>
          <p:nvPr/>
        </p:nvSpPr>
        <p:spPr>
          <a:xfrm>
            <a:off x="4705200" y="2990880"/>
            <a:ext cx="598680" cy="322200"/>
          </a:xfrm>
          <a:custGeom>
            <a:avLst/>
            <a:gdLst/>
            <a:ahLst/>
            <a:rect l="l" t="t" r="r" b="b"/>
            <a:pathLst>
              <a:path w="1663" h="894">
                <a:moveTo>
                  <a:pt x="13072" y="8806"/>
                </a:moveTo>
                <a:cubicBezTo>
                  <a:pt x="13195" y="8795"/>
                  <a:pt x="13253" y="8794"/>
                  <a:pt x="13370" y="8806"/>
                </a:cubicBezTo>
              </a:path>
              <a:path w="1663" h="894">
                <a:moveTo>
                  <a:pt x="13097" y="9079"/>
                </a:moveTo>
                <a:cubicBezTo>
                  <a:pt x="13249" y="9100"/>
                  <a:pt x="13296" y="9103"/>
                  <a:pt x="13444" y="9079"/>
                </a:cubicBezTo>
              </a:path>
              <a:path w="1663" h="894">
                <a:moveTo>
                  <a:pt x="14064" y="8483"/>
                </a:moveTo>
                <a:cubicBezTo>
                  <a:pt x="14037" y="8607"/>
                  <a:pt x="13950" y="8692"/>
                  <a:pt x="13891" y="8806"/>
                </a:cubicBezTo>
                <a:cubicBezTo>
                  <a:pt x="13883" y="8831"/>
                  <a:pt x="13874" y="8855"/>
                  <a:pt x="13866" y="8880"/>
                </a:cubicBezTo>
              </a:path>
              <a:path w="1663" h="894">
                <a:moveTo>
                  <a:pt x="13891" y="9029"/>
                </a:moveTo>
                <a:cubicBezTo>
                  <a:pt x="13991" y="9129"/>
                  <a:pt x="14060" y="9213"/>
                  <a:pt x="14213" y="9203"/>
                </a:cubicBezTo>
                <a:cubicBezTo>
                  <a:pt x="14428" y="9189"/>
                  <a:pt x="14613" y="9047"/>
                  <a:pt x="14684" y="8855"/>
                </a:cubicBezTo>
                <a:cubicBezTo>
                  <a:pt x="14729" y="8733"/>
                  <a:pt x="14740" y="8660"/>
                  <a:pt x="14709" y="8533"/>
                </a:cubicBezTo>
                <a:cubicBezTo>
                  <a:pt x="14675" y="8394"/>
                  <a:pt x="14640" y="8332"/>
                  <a:pt x="14486" y="8310"/>
                </a:cubicBezTo>
                <a:cubicBezTo>
                  <a:pt x="14377" y="8295"/>
                  <a:pt x="14268" y="8335"/>
                  <a:pt x="14163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Ink 9"/>
          <p:cNvSpPr/>
          <p:nvPr/>
        </p:nvSpPr>
        <p:spPr>
          <a:xfrm>
            <a:off x="4268880" y="3500280"/>
            <a:ext cx="83952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12105" y="9971"/>
                </a:moveTo>
                <a:cubicBezTo>
                  <a:pt x="12056" y="10088"/>
                  <a:pt x="11977" y="10190"/>
                  <a:pt x="11956" y="10319"/>
                </a:cubicBezTo>
                <a:cubicBezTo>
                  <a:pt x="11940" y="10420"/>
                  <a:pt x="11932" y="10538"/>
                  <a:pt x="12005" y="10616"/>
                </a:cubicBezTo>
                <a:cubicBezTo>
                  <a:pt x="12043" y="10657"/>
                  <a:pt x="12143" y="10700"/>
                  <a:pt x="12204" y="10666"/>
                </a:cubicBezTo>
                <a:cubicBezTo>
                  <a:pt x="12294" y="10616"/>
                  <a:pt x="12369" y="10487"/>
                  <a:pt x="12402" y="10393"/>
                </a:cubicBezTo>
                <a:cubicBezTo>
                  <a:pt x="12437" y="10294"/>
                  <a:pt x="12446" y="10137"/>
                  <a:pt x="12378" y="10046"/>
                </a:cubicBezTo>
                <a:cubicBezTo>
                  <a:pt x="12275" y="9909"/>
                  <a:pt x="12181" y="9907"/>
                  <a:pt x="12030" y="9947"/>
                </a:cubicBezTo>
                <a:cubicBezTo>
                  <a:pt x="11942" y="9970"/>
                  <a:pt x="11807" y="10041"/>
                  <a:pt x="11906" y="10120"/>
                </a:cubicBezTo>
                <a:cubicBezTo>
                  <a:pt x="11961" y="10148"/>
                  <a:pt x="11984" y="10156"/>
                  <a:pt x="12030" y="10145"/>
                </a:cubicBezTo>
              </a:path>
              <a:path w="2332" h="1043">
                <a:moveTo>
                  <a:pt x="12526" y="10071"/>
                </a:moveTo>
                <a:cubicBezTo>
                  <a:pt x="12698" y="10106"/>
                  <a:pt x="12771" y="10091"/>
                  <a:pt x="12948" y="10046"/>
                </a:cubicBezTo>
              </a:path>
              <a:path w="2332" h="1043">
                <a:moveTo>
                  <a:pt x="12700" y="10468"/>
                </a:moveTo>
                <a:cubicBezTo>
                  <a:pt x="12827" y="10468"/>
                  <a:pt x="12976" y="10490"/>
                  <a:pt x="13097" y="10443"/>
                </a:cubicBezTo>
                <a:cubicBezTo>
                  <a:pt x="13122" y="10426"/>
                  <a:pt x="13146" y="10410"/>
                  <a:pt x="13171" y="10393"/>
                </a:cubicBezTo>
              </a:path>
              <a:path w="2332" h="1043">
                <a:moveTo>
                  <a:pt x="13568" y="9996"/>
                </a:moveTo>
                <a:cubicBezTo>
                  <a:pt x="13506" y="9965"/>
                  <a:pt x="13485" y="10057"/>
                  <a:pt x="13444" y="10120"/>
                </a:cubicBezTo>
                <a:cubicBezTo>
                  <a:pt x="13342" y="10277"/>
                  <a:pt x="13336" y="10381"/>
                  <a:pt x="13419" y="10542"/>
                </a:cubicBezTo>
                <a:cubicBezTo>
                  <a:pt x="13470" y="10641"/>
                  <a:pt x="13555" y="10736"/>
                  <a:pt x="13667" y="10765"/>
                </a:cubicBezTo>
                <a:cubicBezTo>
                  <a:pt x="13781" y="10794"/>
                  <a:pt x="13888" y="10750"/>
                  <a:pt x="13965" y="10666"/>
                </a:cubicBezTo>
                <a:cubicBezTo>
                  <a:pt x="14093" y="10528"/>
                  <a:pt x="14166" y="10355"/>
                  <a:pt x="14188" y="10170"/>
                </a:cubicBezTo>
                <a:cubicBezTo>
                  <a:pt x="14208" y="10002"/>
                  <a:pt x="14077" y="9876"/>
                  <a:pt x="13965" y="9773"/>
                </a:cubicBezTo>
                <a:cubicBezTo>
                  <a:pt x="13856" y="9673"/>
                  <a:pt x="13673" y="9727"/>
                  <a:pt x="13543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Ink 10"/>
          <p:cNvSpPr/>
          <p:nvPr/>
        </p:nvSpPr>
        <p:spPr>
          <a:xfrm>
            <a:off x="1847880" y="3911760"/>
            <a:ext cx="1090440" cy="517320"/>
          </a:xfrm>
          <a:custGeom>
            <a:avLst/>
            <a:gdLst/>
            <a:ahLst/>
            <a:rect l="l" t="t" r="r" b="b"/>
            <a:pathLst>
              <a:path w="3027" h="1440">
                <a:moveTo>
                  <a:pt x="5333" y="11038"/>
                </a:moveTo>
                <a:cubicBezTo>
                  <a:pt x="5395" y="11000"/>
                  <a:pt x="5443" y="11018"/>
                  <a:pt x="5507" y="11063"/>
                </a:cubicBezTo>
                <a:cubicBezTo>
                  <a:pt x="5582" y="11116"/>
                  <a:pt x="5604" y="11203"/>
                  <a:pt x="5606" y="11286"/>
                </a:cubicBezTo>
                <a:cubicBezTo>
                  <a:pt x="5610" y="11417"/>
                  <a:pt x="5586" y="11587"/>
                  <a:pt x="5531" y="11708"/>
                </a:cubicBezTo>
                <a:cubicBezTo>
                  <a:pt x="5486" y="11808"/>
                  <a:pt x="5388" y="11868"/>
                  <a:pt x="5308" y="11931"/>
                </a:cubicBezTo>
                <a:cubicBezTo>
                  <a:pt x="5259" y="11970"/>
                  <a:pt x="5200" y="11963"/>
                  <a:pt x="5159" y="11906"/>
                </a:cubicBezTo>
                <a:cubicBezTo>
                  <a:pt x="5118" y="11849"/>
                  <a:pt x="5139" y="11767"/>
                  <a:pt x="5159" y="11708"/>
                </a:cubicBezTo>
                <a:cubicBezTo>
                  <a:pt x="5180" y="11646"/>
                  <a:pt x="5230" y="11619"/>
                  <a:pt x="5283" y="11609"/>
                </a:cubicBezTo>
                <a:cubicBezTo>
                  <a:pt x="5351" y="11596"/>
                  <a:pt x="5424" y="11654"/>
                  <a:pt x="5482" y="11683"/>
                </a:cubicBezTo>
                <a:cubicBezTo>
                  <a:pt x="5584" y="11735"/>
                  <a:pt x="5555" y="11812"/>
                  <a:pt x="5581" y="11906"/>
                </a:cubicBezTo>
                <a:cubicBezTo>
                  <a:pt x="5601" y="11947"/>
                  <a:pt x="5599" y="11963"/>
                  <a:pt x="5631" y="11956"/>
                </a:cubicBezTo>
              </a:path>
              <a:path w="3027" h="1440">
                <a:moveTo>
                  <a:pt x="6251" y="10988"/>
                </a:moveTo>
                <a:cubicBezTo>
                  <a:pt x="6198" y="11074"/>
                  <a:pt x="6133" y="11137"/>
                  <a:pt x="6102" y="11237"/>
                </a:cubicBezTo>
                <a:cubicBezTo>
                  <a:pt x="6056" y="11383"/>
                  <a:pt x="6011" y="11555"/>
                  <a:pt x="6028" y="11708"/>
                </a:cubicBezTo>
                <a:cubicBezTo>
                  <a:pt x="6042" y="11832"/>
                  <a:pt x="6067" y="11921"/>
                  <a:pt x="6127" y="12030"/>
                </a:cubicBezTo>
                <a:cubicBezTo>
                  <a:pt x="6155" y="12081"/>
                  <a:pt x="6185" y="12113"/>
                  <a:pt x="6226" y="12154"/>
                </a:cubicBezTo>
              </a:path>
              <a:path w="3027" h="1440">
                <a:moveTo>
                  <a:pt x="6400" y="11435"/>
                </a:moveTo>
                <a:cubicBezTo>
                  <a:pt x="6554" y="11457"/>
                  <a:pt x="6598" y="11460"/>
                  <a:pt x="6747" y="11435"/>
                </a:cubicBezTo>
              </a:path>
              <a:path w="3027" h="1440">
                <a:moveTo>
                  <a:pt x="6921" y="11137"/>
                </a:moveTo>
                <a:cubicBezTo>
                  <a:pt x="6921" y="11371"/>
                  <a:pt x="6926" y="11604"/>
                  <a:pt x="6896" y="11832"/>
                </a:cubicBezTo>
                <a:cubicBezTo>
                  <a:pt x="6888" y="11896"/>
                  <a:pt x="6896" y="11965"/>
                  <a:pt x="6896" y="12030"/>
                </a:cubicBezTo>
              </a:path>
              <a:path w="3027" h="1440">
                <a:moveTo>
                  <a:pt x="7119" y="10914"/>
                </a:moveTo>
                <a:cubicBezTo>
                  <a:pt x="7235" y="11072"/>
                  <a:pt x="7297" y="11202"/>
                  <a:pt x="7367" y="11385"/>
                </a:cubicBezTo>
                <a:cubicBezTo>
                  <a:pt x="7434" y="11559"/>
                  <a:pt x="7441" y="11696"/>
                  <a:pt x="7441" y="11881"/>
                </a:cubicBezTo>
                <a:cubicBezTo>
                  <a:pt x="7441" y="12017"/>
                  <a:pt x="7449" y="12129"/>
                  <a:pt x="7392" y="12254"/>
                </a:cubicBezTo>
                <a:cubicBezTo>
                  <a:pt x="7372" y="12294"/>
                  <a:pt x="7363" y="12320"/>
                  <a:pt x="7367" y="12278"/>
                </a:cubicBezTo>
              </a:path>
              <a:path w="3027" h="1440">
                <a:moveTo>
                  <a:pt x="7565" y="10988"/>
                </a:moveTo>
                <a:cubicBezTo>
                  <a:pt x="7644" y="10889"/>
                  <a:pt x="7691" y="10818"/>
                  <a:pt x="7838" y="10864"/>
                </a:cubicBezTo>
                <a:cubicBezTo>
                  <a:pt x="7928" y="10892"/>
                  <a:pt x="7916" y="10975"/>
                  <a:pt x="7888" y="11038"/>
                </a:cubicBezTo>
                <a:cubicBezTo>
                  <a:pt x="7860" y="11102"/>
                  <a:pt x="7789" y="11158"/>
                  <a:pt x="7739" y="11212"/>
                </a:cubicBezTo>
                <a:cubicBezTo>
                  <a:pt x="7692" y="11263"/>
                  <a:pt x="7666" y="11305"/>
                  <a:pt x="7739" y="11361"/>
                </a:cubicBezTo>
                <a:cubicBezTo>
                  <a:pt x="7819" y="11422"/>
                  <a:pt x="7917" y="11432"/>
                  <a:pt x="8012" y="11435"/>
                </a:cubicBezTo>
                <a:cubicBezTo>
                  <a:pt x="8086" y="11435"/>
                  <a:pt x="8111" y="11435"/>
                  <a:pt x="8161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Ink 11"/>
          <p:cNvSpPr/>
          <p:nvPr/>
        </p:nvSpPr>
        <p:spPr>
          <a:xfrm>
            <a:off x="3125880" y="3983040"/>
            <a:ext cx="1062000" cy="527040"/>
          </a:xfrm>
          <a:custGeom>
            <a:avLst/>
            <a:gdLst/>
            <a:ahLst/>
            <a:rect l="l" t="t" r="r" b="b"/>
            <a:pathLst>
              <a:path w="2952" h="1464">
                <a:moveTo>
                  <a:pt x="8781" y="11410"/>
                </a:moveTo>
                <a:cubicBezTo>
                  <a:pt x="8826" y="11500"/>
                  <a:pt x="8790" y="11561"/>
                  <a:pt x="8781" y="11658"/>
                </a:cubicBezTo>
                <a:cubicBezTo>
                  <a:pt x="8770" y="11773"/>
                  <a:pt x="8748" y="12003"/>
                  <a:pt x="8806" y="12105"/>
                </a:cubicBezTo>
                <a:cubicBezTo>
                  <a:pt x="8814" y="12113"/>
                  <a:pt x="8822" y="12121"/>
                  <a:pt x="8830" y="12129"/>
                </a:cubicBezTo>
              </a:path>
              <a:path w="2952" h="1464">
                <a:moveTo>
                  <a:pt x="8682" y="11757"/>
                </a:moveTo>
                <a:cubicBezTo>
                  <a:pt x="8806" y="11764"/>
                  <a:pt x="8910" y="11796"/>
                  <a:pt x="9029" y="11807"/>
                </a:cubicBezTo>
              </a:path>
              <a:path w="2952" h="1464">
                <a:moveTo>
                  <a:pt x="9426" y="11336"/>
                </a:moveTo>
                <a:cubicBezTo>
                  <a:pt x="9569" y="11284"/>
                  <a:pt x="9633" y="11294"/>
                  <a:pt x="9723" y="11460"/>
                </a:cubicBezTo>
                <a:cubicBezTo>
                  <a:pt x="9723" y="11476"/>
                  <a:pt x="9723" y="11493"/>
                  <a:pt x="9723" y="11509"/>
                </a:cubicBezTo>
                <a:cubicBezTo>
                  <a:pt x="9655" y="11588"/>
                  <a:pt x="9562" y="11638"/>
                  <a:pt x="9451" y="11658"/>
                </a:cubicBezTo>
                <a:cubicBezTo>
                  <a:pt x="9434" y="11658"/>
                  <a:pt x="9418" y="11658"/>
                  <a:pt x="9401" y="11658"/>
                </a:cubicBezTo>
                <a:cubicBezTo>
                  <a:pt x="9497" y="11658"/>
                  <a:pt x="9561" y="11666"/>
                  <a:pt x="9649" y="11708"/>
                </a:cubicBezTo>
                <a:cubicBezTo>
                  <a:pt x="9733" y="11748"/>
                  <a:pt x="9780" y="11842"/>
                  <a:pt x="9798" y="11931"/>
                </a:cubicBezTo>
                <a:cubicBezTo>
                  <a:pt x="9825" y="12061"/>
                  <a:pt x="9864" y="12160"/>
                  <a:pt x="9748" y="12229"/>
                </a:cubicBezTo>
                <a:cubicBezTo>
                  <a:pt x="9661" y="12281"/>
                  <a:pt x="9598" y="12309"/>
                  <a:pt x="9500" y="12278"/>
                </a:cubicBezTo>
                <a:cubicBezTo>
                  <a:pt x="9436" y="12258"/>
                  <a:pt x="9309" y="12222"/>
                  <a:pt x="9277" y="12154"/>
                </a:cubicBezTo>
                <a:cubicBezTo>
                  <a:pt x="9277" y="12096"/>
                  <a:pt x="9277" y="12071"/>
                  <a:pt x="9277" y="12030"/>
                </a:cubicBezTo>
              </a:path>
              <a:path w="2952" h="1464">
                <a:moveTo>
                  <a:pt x="10195" y="11237"/>
                </a:moveTo>
                <a:cubicBezTo>
                  <a:pt x="10160" y="11384"/>
                  <a:pt x="10108" y="11509"/>
                  <a:pt x="10071" y="11658"/>
                </a:cubicBezTo>
                <a:cubicBezTo>
                  <a:pt x="10037" y="11793"/>
                  <a:pt x="10028" y="11844"/>
                  <a:pt x="10046" y="11981"/>
                </a:cubicBezTo>
                <a:cubicBezTo>
                  <a:pt x="10053" y="12035"/>
                  <a:pt x="10082" y="12184"/>
                  <a:pt x="10145" y="12204"/>
                </a:cubicBezTo>
                <a:cubicBezTo>
                  <a:pt x="10178" y="12204"/>
                  <a:pt x="10211" y="12204"/>
                  <a:pt x="10244" y="12204"/>
                </a:cubicBezTo>
              </a:path>
              <a:path w="2952" h="1464">
                <a:moveTo>
                  <a:pt x="10344" y="11782"/>
                </a:moveTo>
                <a:cubicBezTo>
                  <a:pt x="10468" y="11782"/>
                  <a:pt x="10592" y="11782"/>
                  <a:pt x="10716" y="11782"/>
                </a:cubicBezTo>
              </a:path>
              <a:path w="2952" h="1464">
                <a:moveTo>
                  <a:pt x="11038" y="11460"/>
                </a:moveTo>
                <a:cubicBezTo>
                  <a:pt x="11038" y="11589"/>
                  <a:pt x="11017" y="11706"/>
                  <a:pt x="11013" y="11832"/>
                </a:cubicBezTo>
                <a:cubicBezTo>
                  <a:pt x="11010" y="11946"/>
                  <a:pt x="11028" y="12045"/>
                  <a:pt x="11038" y="12154"/>
                </a:cubicBezTo>
                <a:cubicBezTo>
                  <a:pt x="11043" y="12212"/>
                  <a:pt x="11038" y="12336"/>
                  <a:pt x="11038" y="12278"/>
                </a:cubicBezTo>
              </a:path>
              <a:path w="2952" h="1464">
                <a:moveTo>
                  <a:pt x="11187" y="11063"/>
                </a:moveTo>
                <a:cubicBezTo>
                  <a:pt x="11388" y="11210"/>
                  <a:pt x="11505" y="11333"/>
                  <a:pt x="11584" y="11584"/>
                </a:cubicBezTo>
                <a:cubicBezTo>
                  <a:pt x="11640" y="11760"/>
                  <a:pt x="11655" y="11975"/>
                  <a:pt x="11609" y="12154"/>
                </a:cubicBezTo>
                <a:cubicBezTo>
                  <a:pt x="11582" y="12259"/>
                  <a:pt x="11541" y="12318"/>
                  <a:pt x="11485" y="12402"/>
                </a:cubicBezTo>
                <a:cubicBezTo>
                  <a:pt x="11449" y="12457"/>
                  <a:pt x="11430" y="12503"/>
                  <a:pt x="11361" y="12526"/>
                </a:cubicBezTo>
                <a:cubicBezTo>
                  <a:pt x="11353" y="12526"/>
                  <a:pt x="11344" y="12526"/>
                  <a:pt x="11336" y="12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Ink 12"/>
          <p:cNvSpPr/>
          <p:nvPr/>
        </p:nvSpPr>
        <p:spPr>
          <a:xfrm>
            <a:off x="4375080" y="414324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2353" y="11509"/>
                </a:moveTo>
                <a:cubicBezTo>
                  <a:pt x="12375" y="11645"/>
                  <a:pt x="12378" y="11768"/>
                  <a:pt x="12378" y="11906"/>
                </a:cubicBezTo>
                <a:cubicBezTo>
                  <a:pt x="12378" y="11984"/>
                  <a:pt x="12396" y="12052"/>
                  <a:pt x="12402" y="12129"/>
                </a:cubicBezTo>
              </a:path>
              <a:path w="423" h="621">
                <a:moveTo>
                  <a:pt x="12154" y="11757"/>
                </a:moveTo>
                <a:cubicBezTo>
                  <a:pt x="12295" y="11768"/>
                  <a:pt x="12434" y="11789"/>
                  <a:pt x="1257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Ink 13"/>
          <p:cNvSpPr/>
          <p:nvPr/>
        </p:nvSpPr>
        <p:spPr>
          <a:xfrm>
            <a:off x="4687920" y="4089240"/>
            <a:ext cx="36360" cy="295560"/>
          </a:xfrm>
          <a:custGeom>
            <a:avLst/>
            <a:gdLst/>
            <a:ahLst/>
            <a:rect l="l" t="t" r="r" b="b"/>
            <a:pathLst>
              <a:path w="101" h="819">
                <a:moveTo>
                  <a:pt x="13047" y="11361"/>
                </a:moveTo>
                <a:cubicBezTo>
                  <a:pt x="13024" y="11484"/>
                  <a:pt x="13002" y="11630"/>
                  <a:pt x="13022" y="11757"/>
                </a:cubicBezTo>
                <a:cubicBezTo>
                  <a:pt x="13032" y="11820"/>
                  <a:pt x="13064" y="12069"/>
                  <a:pt x="13097" y="12154"/>
                </a:cubicBezTo>
                <a:cubicBezTo>
                  <a:pt x="13105" y="12162"/>
                  <a:pt x="13114" y="12171"/>
                  <a:pt x="13122" y="121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Ink 14"/>
          <p:cNvSpPr/>
          <p:nvPr/>
        </p:nvSpPr>
        <p:spPr>
          <a:xfrm>
            <a:off x="4894200" y="4187880"/>
            <a:ext cx="15084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3593" y="11633"/>
                </a:moveTo>
                <a:cubicBezTo>
                  <a:pt x="13719" y="11650"/>
                  <a:pt x="13841" y="11669"/>
                  <a:pt x="13965" y="11683"/>
                </a:cubicBezTo>
              </a:path>
              <a:path w="423" h="249">
                <a:moveTo>
                  <a:pt x="13692" y="11782"/>
                </a:moveTo>
                <a:cubicBezTo>
                  <a:pt x="13816" y="11841"/>
                  <a:pt x="13883" y="11878"/>
                  <a:pt x="14015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Ink 15"/>
          <p:cNvSpPr/>
          <p:nvPr/>
        </p:nvSpPr>
        <p:spPr>
          <a:xfrm>
            <a:off x="5197320" y="4071960"/>
            <a:ext cx="258840" cy="295200"/>
          </a:xfrm>
          <a:custGeom>
            <a:avLst/>
            <a:gdLst/>
            <a:ahLst/>
            <a:rect l="l" t="t" r="r" b="b"/>
            <a:pathLst>
              <a:path w="721" h="819">
                <a:moveTo>
                  <a:pt x="14585" y="11509"/>
                </a:moveTo>
                <a:cubicBezTo>
                  <a:pt x="14561" y="11596"/>
                  <a:pt x="14441" y="11667"/>
                  <a:pt x="14436" y="11782"/>
                </a:cubicBezTo>
                <a:cubicBezTo>
                  <a:pt x="14432" y="11876"/>
                  <a:pt x="14528" y="11953"/>
                  <a:pt x="14585" y="12005"/>
                </a:cubicBezTo>
                <a:cubicBezTo>
                  <a:pt x="14666" y="12078"/>
                  <a:pt x="14740" y="12146"/>
                  <a:pt x="14858" y="12129"/>
                </a:cubicBezTo>
                <a:cubicBezTo>
                  <a:pt x="14959" y="12114"/>
                  <a:pt x="15097" y="12036"/>
                  <a:pt x="15131" y="11931"/>
                </a:cubicBezTo>
                <a:cubicBezTo>
                  <a:pt x="15182" y="11771"/>
                  <a:pt x="15159" y="11628"/>
                  <a:pt x="15081" y="11485"/>
                </a:cubicBezTo>
                <a:cubicBezTo>
                  <a:pt x="15027" y="11386"/>
                  <a:pt x="14881" y="11277"/>
                  <a:pt x="14759" y="11311"/>
                </a:cubicBezTo>
                <a:cubicBezTo>
                  <a:pt x="14690" y="11357"/>
                  <a:pt x="14670" y="11369"/>
                  <a:pt x="14635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Ink 16"/>
          <p:cNvSpPr/>
          <p:nvPr/>
        </p:nvSpPr>
        <p:spPr>
          <a:xfrm>
            <a:off x="2687760" y="4724280"/>
            <a:ext cx="1009440" cy="411120"/>
          </a:xfrm>
          <a:custGeom>
            <a:avLst/>
            <a:gdLst/>
            <a:ahLst/>
            <a:rect l="l" t="t" r="r" b="b"/>
            <a:pathLst>
              <a:path w="2804" h="1142">
                <a:moveTo>
                  <a:pt x="7541" y="13370"/>
                </a:moveTo>
                <a:cubicBezTo>
                  <a:pt x="7602" y="13307"/>
                  <a:pt x="7668" y="13202"/>
                  <a:pt x="7764" y="13221"/>
                </a:cubicBezTo>
                <a:cubicBezTo>
                  <a:pt x="7846" y="13238"/>
                  <a:pt x="7914" y="13326"/>
                  <a:pt x="7938" y="13395"/>
                </a:cubicBezTo>
                <a:cubicBezTo>
                  <a:pt x="7981" y="13518"/>
                  <a:pt x="8002" y="13691"/>
                  <a:pt x="7962" y="13816"/>
                </a:cubicBezTo>
                <a:cubicBezTo>
                  <a:pt x="7930" y="13917"/>
                  <a:pt x="7832" y="14038"/>
                  <a:pt x="7739" y="14089"/>
                </a:cubicBezTo>
                <a:cubicBezTo>
                  <a:pt x="7696" y="14113"/>
                  <a:pt x="7569" y="14168"/>
                  <a:pt x="7516" y="14139"/>
                </a:cubicBezTo>
                <a:cubicBezTo>
                  <a:pt x="7408" y="14078"/>
                  <a:pt x="7488" y="13977"/>
                  <a:pt x="7541" y="13915"/>
                </a:cubicBezTo>
                <a:cubicBezTo>
                  <a:pt x="7581" y="13868"/>
                  <a:pt x="7654" y="13849"/>
                  <a:pt x="7714" y="13866"/>
                </a:cubicBezTo>
                <a:cubicBezTo>
                  <a:pt x="7796" y="13889"/>
                  <a:pt x="7874" y="13964"/>
                  <a:pt x="7938" y="14015"/>
                </a:cubicBezTo>
                <a:cubicBezTo>
                  <a:pt x="7999" y="14064"/>
                  <a:pt x="8010" y="14154"/>
                  <a:pt x="8062" y="14213"/>
                </a:cubicBezTo>
                <a:cubicBezTo>
                  <a:pt x="8084" y="14236"/>
                  <a:pt x="8089" y="14244"/>
                  <a:pt x="8111" y="14238"/>
                </a:cubicBezTo>
              </a:path>
              <a:path w="2804" h="1142">
                <a:moveTo>
                  <a:pt x="8632" y="13370"/>
                </a:moveTo>
                <a:cubicBezTo>
                  <a:pt x="8632" y="13596"/>
                  <a:pt x="8634" y="13816"/>
                  <a:pt x="8657" y="14039"/>
                </a:cubicBezTo>
                <a:cubicBezTo>
                  <a:pt x="8657" y="14081"/>
                  <a:pt x="8657" y="14089"/>
                  <a:pt x="8657" y="14114"/>
                </a:cubicBezTo>
              </a:path>
              <a:path w="2804" h="1142">
                <a:moveTo>
                  <a:pt x="8458" y="13667"/>
                </a:moveTo>
                <a:cubicBezTo>
                  <a:pt x="8586" y="13667"/>
                  <a:pt x="8703" y="13688"/>
                  <a:pt x="8830" y="13692"/>
                </a:cubicBezTo>
                <a:cubicBezTo>
                  <a:pt x="8855" y="13692"/>
                  <a:pt x="8880" y="13692"/>
                  <a:pt x="8905" y="13692"/>
                </a:cubicBezTo>
              </a:path>
              <a:path w="2804" h="1142">
                <a:moveTo>
                  <a:pt x="9327" y="13295"/>
                </a:moveTo>
                <a:cubicBezTo>
                  <a:pt x="9406" y="13290"/>
                  <a:pt x="9473" y="13279"/>
                  <a:pt x="9550" y="13271"/>
                </a:cubicBezTo>
              </a:path>
              <a:path w="2804" h="1142">
                <a:moveTo>
                  <a:pt x="9872" y="13171"/>
                </a:moveTo>
                <a:cubicBezTo>
                  <a:pt x="9990" y="13118"/>
                  <a:pt x="9991" y="13131"/>
                  <a:pt x="10096" y="13196"/>
                </a:cubicBezTo>
                <a:cubicBezTo>
                  <a:pt x="10190" y="13254"/>
                  <a:pt x="10233" y="13283"/>
                  <a:pt x="10195" y="13395"/>
                </a:cubicBezTo>
                <a:cubicBezTo>
                  <a:pt x="10175" y="13455"/>
                  <a:pt x="10098" y="13488"/>
                  <a:pt x="10046" y="13519"/>
                </a:cubicBezTo>
                <a:cubicBezTo>
                  <a:pt x="9994" y="13550"/>
                  <a:pt x="9955" y="13543"/>
                  <a:pt x="9897" y="13543"/>
                </a:cubicBezTo>
                <a:cubicBezTo>
                  <a:pt x="9964" y="13568"/>
                  <a:pt x="10010" y="13581"/>
                  <a:pt x="10071" y="13618"/>
                </a:cubicBezTo>
                <a:cubicBezTo>
                  <a:pt x="10261" y="13734"/>
                  <a:pt x="10295" y="13885"/>
                  <a:pt x="10269" y="14089"/>
                </a:cubicBezTo>
                <a:cubicBezTo>
                  <a:pt x="10253" y="14209"/>
                  <a:pt x="10209" y="14208"/>
                  <a:pt x="10120" y="14238"/>
                </a:cubicBezTo>
                <a:cubicBezTo>
                  <a:pt x="10064" y="14257"/>
                  <a:pt x="9984" y="14256"/>
                  <a:pt x="9922" y="14213"/>
                </a:cubicBezTo>
                <a:cubicBezTo>
                  <a:pt x="9852" y="14165"/>
                  <a:pt x="9796" y="14055"/>
                  <a:pt x="9748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Ink 17"/>
          <p:cNvSpPr/>
          <p:nvPr/>
        </p:nvSpPr>
        <p:spPr>
          <a:xfrm>
            <a:off x="3929040" y="487512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1261" y="13543"/>
                </a:moveTo>
                <a:cubicBezTo>
                  <a:pt x="11231" y="13651"/>
                  <a:pt x="11198" y="13754"/>
                  <a:pt x="11187" y="13866"/>
                </a:cubicBezTo>
                <a:cubicBezTo>
                  <a:pt x="11177" y="13968"/>
                  <a:pt x="11178" y="14060"/>
                  <a:pt x="11162" y="14163"/>
                </a:cubicBezTo>
              </a:path>
              <a:path w="472" h="621">
                <a:moveTo>
                  <a:pt x="10914" y="13816"/>
                </a:moveTo>
                <a:cubicBezTo>
                  <a:pt x="11043" y="13827"/>
                  <a:pt x="11143" y="13879"/>
                  <a:pt x="11261" y="13915"/>
                </a:cubicBezTo>
                <a:cubicBezTo>
                  <a:pt x="11302" y="13923"/>
                  <a:pt x="11344" y="13932"/>
                  <a:pt x="11385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Ink 18"/>
          <p:cNvSpPr/>
          <p:nvPr/>
        </p:nvSpPr>
        <p:spPr>
          <a:xfrm>
            <a:off x="4330800" y="4776840"/>
            <a:ext cx="1322280" cy="420480"/>
          </a:xfrm>
          <a:custGeom>
            <a:avLst/>
            <a:gdLst/>
            <a:ahLst/>
            <a:rect l="l" t="t" r="r" b="b"/>
            <a:pathLst>
              <a:path w="3672" h="1166">
                <a:moveTo>
                  <a:pt x="12055" y="13395"/>
                </a:moveTo>
                <a:cubicBezTo>
                  <a:pt x="12046" y="13588"/>
                  <a:pt x="12022" y="13744"/>
                  <a:pt x="12055" y="13940"/>
                </a:cubicBezTo>
                <a:cubicBezTo>
                  <a:pt x="12076" y="14065"/>
                  <a:pt x="12105" y="14158"/>
                  <a:pt x="12105" y="14288"/>
                </a:cubicBezTo>
                <a:cubicBezTo>
                  <a:pt x="12105" y="14342"/>
                  <a:pt x="12123" y="14383"/>
                  <a:pt x="12129" y="14436"/>
                </a:cubicBezTo>
              </a:path>
              <a:path w="3672" h="1166">
                <a:moveTo>
                  <a:pt x="12551" y="13940"/>
                </a:moveTo>
                <a:cubicBezTo>
                  <a:pt x="12725" y="13921"/>
                  <a:pt x="12749" y="13912"/>
                  <a:pt x="12849" y="13915"/>
                </a:cubicBezTo>
              </a:path>
              <a:path w="3672" h="1166">
                <a:moveTo>
                  <a:pt x="12650" y="14089"/>
                </a:moveTo>
                <a:cubicBezTo>
                  <a:pt x="12808" y="14147"/>
                  <a:pt x="12884" y="14171"/>
                  <a:pt x="13047" y="14139"/>
                </a:cubicBezTo>
              </a:path>
              <a:path w="3672" h="1166">
                <a:moveTo>
                  <a:pt x="13667" y="13519"/>
                </a:moveTo>
                <a:cubicBezTo>
                  <a:pt x="13592" y="13613"/>
                  <a:pt x="13530" y="13692"/>
                  <a:pt x="13494" y="13816"/>
                </a:cubicBezTo>
                <a:cubicBezTo>
                  <a:pt x="13460" y="13933"/>
                  <a:pt x="13558" y="14092"/>
                  <a:pt x="13618" y="14188"/>
                </a:cubicBezTo>
                <a:cubicBezTo>
                  <a:pt x="13656" y="14248"/>
                  <a:pt x="13736" y="14348"/>
                  <a:pt x="13816" y="14337"/>
                </a:cubicBezTo>
                <a:cubicBezTo>
                  <a:pt x="13893" y="14327"/>
                  <a:pt x="14019" y="14248"/>
                  <a:pt x="14064" y="14188"/>
                </a:cubicBezTo>
                <a:cubicBezTo>
                  <a:pt x="14108" y="14129"/>
                  <a:pt x="14180" y="13993"/>
                  <a:pt x="14163" y="13915"/>
                </a:cubicBezTo>
                <a:cubicBezTo>
                  <a:pt x="14123" y="13732"/>
                  <a:pt x="14060" y="13695"/>
                  <a:pt x="13915" y="13593"/>
                </a:cubicBezTo>
                <a:cubicBezTo>
                  <a:pt x="13829" y="13535"/>
                  <a:pt x="13791" y="13513"/>
                  <a:pt x="13717" y="13494"/>
                </a:cubicBezTo>
              </a:path>
              <a:path w="3672" h="1166">
                <a:moveTo>
                  <a:pt x="14486" y="14039"/>
                </a:moveTo>
                <a:cubicBezTo>
                  <a:pt x="14544" y="14112"/>
                  <a:pt x="14568" y="14204"/>
                  <a:pt x="14610" y="14288"/>
                </a:cubicBezTo>
                <a:cubicBezTo>
                  <a:pt x="14618" y="14304"/>
                  <a:pt x="14627" y="14321"/>
                  <a:pt x="14635" y="14337"/>
                </a:cubicBezTo>
                <a:cubicBezTo>
                  <a:pt x="14697" y="14252"/>
                  <a:pt x="14785" y="14173"/>
                  <a:pt x="14858" y="14089"/>
                </a:cubicBezTo>
                <a:cubicBezTo>
                  <a:pt x="14962" y="13970"/>
                  <a:pt x="15076" y="13861"/>
                  <a:pt x="15180" y="13742"/>
                </a:cubicBezTo>
                <a:cubicBezTo>
                  <a:pt x="15253" y="13659"/>
                  <a:pt x="15359" y="13598"/>
                  <a:pt x="15429" y="13519"/>
                </a:cubicBezTo>
                <a:cubicBezTo>
                  <a:pt x="15478" y="13464"/>
                  <a:pt x="15537" y="13419"/>
                  <a:pt x="15602" y="13370"/>
                </a:cubicBezTo>
                <a:cubicBezTo>
                  <a:pt x="15684" y="13309"/>
                  <a:pt x="15662" y="13324"/>
                  <a:pt x="15701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3623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10253f"/>
                </a:solidFill>
                <a:latin typeface="Impact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10253f"/>
                </a:solidFill>
                <a:latin typeface="Impact"/>
              </a:rPr>
              <a:t>part two</a:t>
            </a:r>
            <a:endParaRPr b="0" lang="en-US" sz="8500" spc="-1" strike="noStrike">
              <a:solidFill>
                <a:srgbClr val="10253f"/>
              </a:solidFill>
              <a:latin typeface="Impact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43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Finding solutions </a:t>
            </a:r>
            <a:br>
              <a:rPr sz="5500"/>
            </a:b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to trigonometric </a:t>
            </a:r>
            <a:br>
              <a:rPr sz="5500"/>
            </a:b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equations</a:t>
            </a:r>
            <a:endParaRPr b="0" lang="en-US" sz="5500" spc="-1" strike="noStrike">
              <a:solidFill>
                <a:srgbClr val="10253f"/>
              </a:solidFill>
              <a:latin typeface="Impact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Video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61" name="Ink 3"/>
          <p:cNvSpPr/>
          <p:nvPr/>
        </p:nvSpPr>
        <p:spPr>
          <a:xfrm>
            <a:off x="6813720" y="5259240"/>
            <a:ext cx="17280" cy="190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8976" y="14660"/>
                </a:moveTo>
                <a:cubicBezTo>
                  <a:pt x="18951" y="14610"/>
                  <a:pt x="18943" y="14593"/>
                  <a:pt x="18926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0200" y="83772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s in Martha May’s light gun leave the gun at an angle of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horizontal and an initial velocity of 80 feet per second.  The lights hit a spot on the roof 100 feet away.  Find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the range r of a projectile is 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hint:  there will actually be 2 values of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since this is an application problem, only one makes sense!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2590920" y="3124080"/>
                <a:ext cx="3987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9-12-02T14:54:32Z</dcterms:modified>
  <cp:revision>20</cp:revision>
  <dc:subject/>
  <dc:title>Lesson 5.3 part two</dc:title>
</cp:coreProperties>
</file>